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12.tif" ContentType="image/tiff"/>
  <Override PartName="/ppt/media/image24.png" ContentType="image/png"/>
  <Override PartName="/ppt/media/image32.png" ContentType="image/png"/>
  <Override PartName="/ppt/media/image34.png" ContentType="image/png"/>
  <Override PartName="/ppt/media/image23.png" ContentType="image/png"/>
  <Override PartName="/ppt/media/image44.png" ContentType="image/png"/>
  <Override PartName="/ppt/media/image13.jpeg" ContentType="image/jpe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3.png" ContentType="image/png"/>
  <Override PartName="/ppt/media/image39.tif" ContentType="image/tiff"/>
  <Override PartName="/ppt/media/image42.png" ContentType="image/png"/>
  <Override PartName="/ppt/media/image45.png" ContentType="image/png"/>
  <Override PartName="/ppt/media/image10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9.png" ContentType="image/png"/>
  <Override PartName="/ppt/media/image40.tif" ContentType="image/tiff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849C-8E71-457B-8B2F-FA220B65D4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B730-0AF8-43CF-A6F7-06B6929EB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C40F-1DF3-4C2F-90CA-2F073C4470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ABF9-D516-46B4-859C-1784B0A00C1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06BD-DD1C-4740-A019-80E6331BA48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0D71-0A1D-43CE-84C0-6840EF7F64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C8C9-C447-435B-B23B-7972DAA8227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8D29-0CB9-4E9B-9206-50518FD7A9D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202B-F755-48A9-8A79-9E51AA342D2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E598-4A95-45A9-B8C2-490D6D96A1A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714F-1E38-43FC-AEA6-C03E263827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563E-4212-44D2-ADF8-8975E42501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E58B-79E2-454D-BF6A-B3D380F40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"/>
          <p:cNvSpPr/>
          <p:nvPr/>
        </p:nvSpPr>
        <p:spPr>
          <a:xfrm>
            <a:off x="0" y="271440"/>
            <a:ext cx="50054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b3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5" descr="Icon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Graphical user interface, text&#10;&#10;Description automatically generated"/>
          <p:cNvPicPr/>
          <p:nvPr/>
        </p:nvPicPr>
        <p:blipFill>
          <a:blip r:embed="rId4"/>
          <a:stretch/>
        </p:blipFill>
        <p:spPr>
          <a:xfrm>
            <a:off x="8370720" y="617544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1"/>
          </p:nvPr>
        </p:nvSpPr>
        <p:spPr>
          <a:xfrm>
            <a:off x="480600" y="6335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C62-EC73-4BAA-8359-AB3ECFFD2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A picture containing person, crowd&#10;&#10;Description automatically generated"/>
          <p:cNvPicPr/>
          <p:nvPr/>
        </p:nvPicPr>
        <p:blipFill>
          <a:blip r:embed="rId3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n aerial view of a city&#10;&#10;Description automatically generated with low confidence"/>
          <p:cNvPicPr/>
          <p:nvPr/>
        </p:nvPicPr>
        <p:blipFill>
          <a:blip r:embed="rId3"/>
          <a:stretch/>
        </p:blipFill>
        <p:spPr>
          <a:xfrm flipH="1">
            <a:off x="-360" y="0"/>
            <a:ext cx="982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 group of people raising their hands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35488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5"/>
          <p:cNvSpPr/>
          <p:nvPr/>
        </p:nvSpPr>
        <p:spPr>
          <a:xfrm rot="16200000">
            <a:off x="8209800" y="6116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SLIDES 00</a:t>
            </a:r>
            <a:fld id="{5CDC8C4E-FE0F-46F4-BE23-4603D04F3B01}" type="slidenum">
              <a:rPr b="0" lang="id-ID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280360" y="615456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ti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t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t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VK-xbdddhA&amp;list=RDQm1eAOzMy8k&amp;index=7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09160" y="3195360"/>
            <a:ext cx="518148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6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terview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09160" y="1981080"/>
            <a:ext cx="3954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graduate Overview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s this a Behavioral Interview Questio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59840" y="1082160"/>
            <a:ext cx="688356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 a situation where you wish you had acted differently with someone at work. What did you do? What happene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l me about yourself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ive me some examples of when your ideas were strongly opposed in a discussion. How did you reac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are your strengths and weakness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l me about the biggest sale you ever made and how you did 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you were a building, what kind would you b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6"/>
          <p:cNvGrpSpPr/>
          <p:nvPr/>
        </p:nvGrpSpPr>
        <p:grpSpPr>
          <a:xfrm>
            <a:off x="7061040" y="4464000"/>
            <a:ext cx="2611440" cy="488880"/>
            <a:chOff x="7061040" y="4464000"/>
            <a:chExt cx="2611440" cy="488880"/>
          </a:xfrm>
        </p:grpSpPr>
        <p:grpSp>
          <p:nvGrpSpPr>
            <p:cNvPr id="698" name="Group 6"/>
            <p:cNvGrpSpPr/>
            <p:nvPr/>
          </p:nvGrpSpPr>
          <p:grpSpPr>
            <a:xfrm>
              <a:off x="7061040" y="4487760"/>
              <a:ext cx="464400" cy="465120"/>
              <a:chOff x="7061040" y="4487760"/>
              <a:chExt cx="464400" cy="465120"/>
            </a:xfrm>
          </p:grpSpPr>
          <p:sp>
            <p:nvSpPr>
              <p:cNvPr id="699" name="Rounded Rectangle 82"/>
              <p:cNvSpPr/>
              <p:nvPr/>
            </p:nvSpPr>
            <p:spPr>
              <a:xfrm>
                <a:off x="7061040" y="4487760"/>
                <a:ext cx="464400" cy="465120"/>
              </a:xfrm>
              <a:custGeom>
                <a:avLst/>
                <a:gdLst>
                  <a:gd name="textAreaLeft" fmla="*/ 26280 w 464400"/>
                  <a:gd name="textAreaRight" fmla="*/ 438120 w 464400"/>
                  <a:gd name="textAreaTop" fmla="*/ 26280 h 465120"/>
                  <a:gd name="textAreaBottom" fmla="*/ 438840 h 465120"/>
                </a:gdLst>
                <a:ahLst/>
                <a:rect l="textAreaLeft" t="textAreaTop" r="textAreaRight" b="textAreaBottom"/>
                <a:pathLst>
                  <a:path w="21600" h="21633">
                    <a:moveTo>
                      <a:pt x="4185" y="0"/>
                    </a:moveTo>
                    <a:arcTo wR="4185" hR="4185" stAng="16200000" swAng="-5400000"/>
                    <a:lnTo>
                      <a:pt x="0" y="17448"/>
                    </a:lnTo>
                    <a:arcTo wR="4185" hR="4185" stAng="10800000" swAng="-5400000"/>
                    <a:lnTo>
                      <a:pt x="17415" y="21633"/>
                    </a:lnTo>
                    <a:arcTo wR="4185" hR="4185" stAng="5400000" swAng="-5400000"/>
                    <a:lnTo>
                      <a:pt x="21600" y="4185"/>
                    </a:lnTo>
                    <a:arcTo wR="4185" hR="418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adb9ca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Rounded Rectangle 83"/>
              <p:cNvGrpSpPr/>
              <p:nvPr/>
            </p:nvGrpSpPr>
            <p:grpSpPr>
              <a:xfrm>
                <a:off x="7086240" y="4520880"/>
                <a:ext cx="405720" cy="406440"/>
                <a:chOff x="7086240" y="4520880"/>
                <a:chExt cx="405720" cy="406440"/>
              </a:xfrm>
            </p:grpSpPr>
            <p:pic>
              <p:nvPicPr>
                <p:cNvPr id="701" name="Rounded Rectangle 8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86240" y="4520880"/>
                  <a:ext cx="4057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2" name=""/>
                <p:cNvSpPr/>
                <p:nvPr/>
              </p:nvSpPr>
              <p:spPr>
                <a:xfrm>
                  <a:off x="7117560" y="4544280"/>
                  <a:ext cx="35028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03" name="TextBox 120"/>
            <p:cNvSpPr/>
            <p:nvPr/>
          </p:nvSpPr>
          <p:spPr>
            <a:xfrm flipH="1">
              <a:off x="7526160" y="452088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4" name="Group 104"/>
            <p:cNvGrpSpPr/>
            <p:nvPr/>
          </p:nvGrpSpPr>
          <p:grpSpPr>
            <a:xfrm>
              <a:off x="8137440" y="4464000"/>
              <a:ext cx="464400" cy="465120"/>
              <a:chOff x="8137440" y="4464000"/>
              <a:chExt cx="464400" cy="465120"/>
            </a:xfrm>
          </p:grpSpPr>
          <p:grpSp>
            <p:nvGrpSpPr>
              <p:cNvPr id="705" name="Group 39"/>
              <p:cNvGrpSpPr/>
              <p:nvPr/>
            </p:nvGrpSpPr>
            <p:grpSpPr>
              <a:xfrm>
                <a:off x="8137440" y="4464000"/>
                <a:ext cx="464400" cy="465120"/>
                <a:chOff x="8137440" y="4464000"/>
                <a:chExt cx="464400" cy="465120"/>
              </a:xfrm>
            </p:grpSpPr>
            <p:sp>
              <p:nvSpPr>
                <p:cNvPr id="706" name="Rounded Rectangle 107"/>
                <p:cNvSpPr/>
                <p:nvPr/>
              </p:nvSpPr>
              <p:spPr>
                <a:xfrm>
                  <a:off x="8137440" y="4464000"/>
                  <a:ext cx="464400" cy="465120"/>
                </a:xfrm>
                <a:custGeom>
                  <a:avLst/>
                  <a:gdLst>
                    <a:gd name="textAreaLeft" fmla="*/ 26280 w 464400"/>
                    <a:gd name="textAreaRight" fmla="*/ 438120 w 464400"/>
                    <a:gd name="textAreaTop" fmla="*/ 26280 h 465120"/>
                    <a:gd name="textAreaBottom" fmla="*/ 438840 h 465120"/>
                  </a:gdLst>
                  <a:ahLst/>
                  <a:rect l="textAreaLeft" t="textAreaTop" r="textAreaRight" b="textAreaBottom"/>
                  <a:pathLst>
                    <a:path w="21600" h="21633">
                      <a:moveTo>
                        <a:pt x="4185" y="0"/>
                      </a:moveTo>
                      <a:arcTo wR="4185" hR="4185" stAng="16200000" swAng="-5400000"/>
                      <a:lnTo>
                        <a:pt x="0" y="17448"/>
                      </a:lnTo>
                      <a:arcTo wR="4185" hR="4185" stAng="10800000" swAng="-5400000"/>
                      <a:lnTo>
                        <a:pt x="17415" y="21633"/>
                      </a:lnTo>
                      <a:arcTo wR="4185" hR="4185" stAng="5400000" swAng="-5400000"/>
                      <a:lnTo>
                        <a:pt x="21600" y="4185"/>
                      </a:lnTo>
                      <a:arcTo wR="4185" hR="418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4b183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07" name="Rounded Rectangle 108"/>
                <p:cNvGrpSpPr/>
                <p:nvPr/>
              </p:nvGrpSpPr>
              <p:grpSpPr>
                <a:xfrm>
                  <a:off x="8165880" y="4495680"/>
                  <a:ext cx="405720" cy="406440"/>
                  <a:chOff x="8165880" y="4495680"/>
                  <a:chExt cx="405720" cy="406440"/>
                </a:xfrm>
              </p:grpSpPr>
              <p:pic>
                <p:nvPicPr>
                  <p:cNvPr id="708" name="Rounded Rectangle 10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5880" y="4495680"/>
                    <a:ext cx="4057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9" name=""/>
                  <p:cNvSpPr/>
                  <p:nvPr/>
                </p:nvSpPr>
                <p:spPr>
                  <a:xfrm>
                    <a:off x="8194320" y="4520880"/>
                    <a:ext cx="350280" cy="3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10" name="Freeform 106"/>
              <p:cNvGrpSpPr/>
              <p:nvPr/>
            </p:nvGrpSpPr>
            <p:grpSpPr>
              <a:xfrm>
                <a:off x="8241840" y="4584600"/>
                <a:ext cx="254160" cy="216000"/>
                <a:chOff x="8241840" y="4584600"/>
                <a:chExt cx="254160" cy="216000"/>
              </a:xfrm>
            </p:grpSpPr>
            <p:pic>
              <p:nvPicPr>
                <p:cNvPr id="711" name="Freeform 10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241840" y="4584600"/>
                  <a:ext cx="25416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2" name=""/>
                <p:cNvSpPr/>
                <p:nvPr/>
              </p:nvSpPr>
              <p:spPr>
                <a:xfrm>
                  <a:off x="8255520" y="4598640"/>
                  <a:ext cx="239400" cy="19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13" name="TextBox 124"/>
            <p:cNvSpPr/>
            <p:nvPr/>
          </p:nvSpPr>
          <p:spPr>
            <a:xfrm flipH="1">
              <a:off x="8586720" y="4562280"/>
              <a:ext cx="10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Group 4"/>
          <p:cNvGrpSpPr/>
          <p:nvPr/>
        </p:nvGrpSpPr>
        <p:grpSpPr>
          <a:xfrm>
            <a:off x="7061040" y="1217520"/>
            <a:ext cx="2611440" cy="487440"/>
            <a:chOff x="7061040" y="1217520"/>
            <a:chExt cx="2611440" cy="487440"/>
          </a:xfrm>
        </p:grpSpPr>
        <p:grpSp>
          <p:nvGrpSpPr>
            <p:cNvPr id="715" name="Group 110"/>
            <p:cNvGrpSpPr/>
            <p:nvPr/>
          </p:nvGrpSpPr>
          <p:grpSpPr>
            <a:xfrm>
              <a:off x="7061040" y="1240920"/>
              <a:ext cx="464400" cy="464040"/>
              <a:chOff x="7061040" y="1240920"/>
              <a:chExt cx="464400" cy="464040"/>
            </a:xfrm>
          </p:grpSpPr>
          <p:grpSp>
            <p:nvGrpSpPr>
              <p:cNvPr id="716" name="Group 6"/>
              <p:cNvGrpSpPr/>
              <p:nvPr/>
            </p:nvGrpSpPr>
            <p:grpSpPr>
              <a:xfrm>
                <a:off x="7061040" y="1240920"/>
                <a:ext cx="464400" cy="464040"/>
                <a:chOff x="7061040" y="1240920"/>
                <a:chExt cx="464400" cy="464040"/>
              </a:xfrm>
            </p:grpSpPr>
            <p:sp>
              <p:nvSpPr>
                <p:cNvPr id="717" name="Rounded Rectangle 116"/>
                <p:cNvSpPr/>
                <p:nvPr/>
              </p:nvSpPr>
              <p:spPr>
                <a:xfrm>
                  <a:off x="7061040" y="1240920"/>
                  <a:ext cx="46440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adb9ca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18" name="Rounded Rectangle 131"/>
                <p:cNvGrpSpPr/>
                <p:nvPr/>
              </p:nvGrpSpPr>
              <p:grpSpPr>
                <a:xfrm>
                  <a:off x="7086240" y="1269360"/>
                  <a:ext cx="405720" cy="406800"/>
                  <a:chOff x="7086240" y="1269360"/>
                  <a:chExt cx="405720" cy="406800"/>
                </a:xfrm>
              </p:grpSpPr>
              <p:pic>
                <p:nvPicPr>
                  <p:cNvPr id="719" name="Rounded Rectangle 1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240" y="1269360"/>
                    <a:ext cx="40572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0" name=""/>
                  <p:cNvSpPr/>
                  <p:nvPr/>
                </p:nvSpPr>
                <p:spPr>
                  <a:xfrm>
                    <a:off x="7117560" y="1297440"/>
                    <a:ext cx="350280" cy="35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21" name="Freeform 115"/>
              <p:cNvGrpSpPr/>
              <p:nvPr/>
            </p:nvGrpSpPr>
            <p:grpSpPr>
              <a:xfrm>
                <a:off x="7175160" y="1371240"/>
                <a:ext cx="241200" cy="203400"/>
                <a:chOff x="7175160" y="1371240"/>
                <a:chExt cx="241200" cy="203400"/>
              </a:xfrm>
            </p:grpSpPr>
            <p:pic>
              <p:nvPicPr>
                <p:cNvPr id="722" name="Freeform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75160" y="1371240"/>
                  <a:ext cx="23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3" name=""/>
                <p:cNvSpPr/>
                <p:nvPr/>
              </p:nvSpPr>
              <p:spPr>
                <a:xfrm>
                  <a:off x="7179120" y="1375200"/>
                  <a:ext cx="23724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24" name="TextBox 132"/>
            <p:cNvSpPr/>
            <p:nvPr/>
          </p:nvSpPr>
          <p:spPr>
            <a:xfrm flipH="1">
              <a:off x="7526160" y="127296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5" name="Group 39"/>
            <p:cNvGrpSpPr/>
            <p:nvPr/>
          </p:nvGrpSpPr>
          <p:grpSpPr>
            <a:xfrm>
              <a:off x="8137440" y="1217520"/>
              <a:ext cx="464400" cy="464040"/>
              <a:chOff x="8137440" y="1217520"/>
              <a:chExt cx="464400" cy="464040"/>
            </a:xfrm>
          </p:grpSpPr>
          <p:sp>
            <p:nvSpPr>
              <p:cNvPr id="726" name="Rounded Rectangle 136"/>
              <p:cNvSpPr/>
              <p:nvPr/>
            </p:nvSpPr>
            <p:spPr>
              <a:xfrm>
                <a:off x="8137440" y="1217520"/>
                <a:ext cx="464400" cy="464040"/>
              </a:xfrm>
              <a:prstGeom prst="roundRect">
                <a:avLst>
                  <a:gd name="adj" fmla="val 19375"/>
                </a:avLst>
              </a:prstGeom>
              <a:gradFill rotWithShape="0">
                <a:gsLst>
                  <a:gs pos="0">
                    <a:srgbClr val="f4b183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27" name="Rounded Rectangle 137"/>
              <p:cNvGrpSpPr/>
              <p:nvPr/>
            </p:nvGrpSpPr>
            <p:grpSpPr>
              <a:xfrm>
                <a:off x="8165880" y="1244520"/>
                <a:ext cx="405720" cy="406800"/>
                <a:chOff x="8165880" y="1244520"/>
                <a:chExt cx="405720" cy="406800"/>
              </a:xfrm>
            </p:grpSpPr>
            <p:pic>
              <p:nvPicPr>
                <p:cNvPr id="728" name="Rounded Rectangle 13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165880" y="1244520"/>
                  <a:ext cx="40572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9" name=""/>
                <p:cNvSpPr/>
                <p:nvPr/>
              </p:nvSpPr>
              <p:spPr>
                <a:xfrm>
                  <a:off x="8194320" y="1274400"/>
                  <a:ext cx="3502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30" name="TextBox 138"/>
            <p:cNvSpPr/>
            <p:nvPr/>
          </p:nvSpPr>
          <p:spPr>
            <a:xfrm flipH="1">
              <a:off x="8586720" y="1315800"/>
              <a:ext cx="10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Group 7"/>
          <p:cNvGrpSpPr/>
          <p:nvPr/>
        </p:nvGrpSpPr>
        <p:grpSpPr>
          <a:xfrm>
            <a:off x="7061040" y="2421000"/>
            <a:ext cx="2611440" cy="487440"/>
            <a:chOff x="7061040" y="2421000"/>
            <a:chExt cx="2611440" cy="487440"/>
          </a:xfrm>
        </p:grpSpPr>
        <p:grpSp>
          <p:nvGrpSpPr>
            <p:cNvPr id="732" name="Group 6"/>
            <p:cNvGrpSpPr/>
            <p:nvPr/>
          </p:nvGrpSpPr>
          <p:grpSpPr>
            <a:xfrm>
              <a:off x="7061040" y="2444400"/>
              <a:ext cx="464400" cy="464040"/>
              <a:chOff x="7061040" y="2444400"/>
              <a:chExt cx="464400" cy="464040"/>
            </a:xfrm>
          </p:grpSpPr>
          <p:sp>
            <p:nvSpPr>
              <p:cNvPr id="733" name="Rounded Rectangle 142"/>
              <p:cNvSpPr/>
              <p:nvPr/>
            </p:nvSpPr>
            <p:spPr>
              <a:xfrm>
                <a:off x="7061040" y="2444400"/>
                <a:ext cx="464400" cy="464040"/>
              </a:xfrm>
              <a:prstGeom prst="roundRect">
                <a:avLst>
                  <a:gd name="adj" fmla="val 19375"/>
                </a:avLst>
              </a:prstGeom>
              <a:gradFill rotWithShape="0">
                <a:gsLst>
                  <a:gs pos="0">
                    <a:srgbClr val="adb9ca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34" name="Rounded Rectangle 143"/>
              <p:cNvGrpSpPr/>
              <p:nvPr/>
            </p:nvGrpSpPr>
            <p:grpSpPr>
              <a:xfrm>
                <a:off x="7086240" y="2476080"/>
                <a:ext cx="405720" cy="406800"/>
                <a:chOff x="7086240" y="2476080"/>
                <a:chExt cx="405720" cy="406800"/>
              </a:xfrm>
            </p:grpSpPr>
            <p:pic>
              <p:nvPicPr>
                <p:cNvPr id="735" name="Rounded Rectangle 14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6240" y="2476080"/>
                  <a:ext cx="40572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6" name=""/>
                <p:cNvSpPr/>
                <p:nvPr/>
              </p:nvSpPr>
              <p:spPr>
                <a:xfrm>
                  <a:off x="7117560" y="2500920"/>
                  <a:ext cx="3502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37" name="TextBox 144"/>
            <p:cNvSpPr/>
            <p:nvPr/>
          </p:nvSpPr>
          <p:spPr>
            <a:xfrm flipH="1">
              <a:off x="7526160" y="247644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8" name="Group 145"/>
            <p:cNvGrpSpPr/>
            <p:nvPr/>
          </p:nvGrpSpPr>
          <p:grpSpPr>
            <a:xfrm>
              <a:off x="8137440" y="2421000"/>
              <a:ext cx="464400" cy="464040"/>
              <a:chOff x="8137440" y="2421000"/>
              <a:chExt cx="464400" cy="464040"/>
            </a:xfrm>
          </p:grpSpPr>
          <p:grpSp>
            <p:nvGrpSpPr>
              <p:cNvPr id="739" name="Group 39"/>
              <p:cNvGrpSpPr/>
              <p:nvPr/>
            </p:nvGrpSpPr>
            <p:grpSpPr>
              <a:xfrm>
                <a:off x="8137440" y="2421000"/>
                <a:ext cx="464400" cy="464040"/>
                <a:chOff x="8137440" y="2421000"/>
                <a:chExt cx="464400" cy="464040"/>
              </a:xfrm>
            </p:grpSpPr>
            <p:sp>
              <p:nvSpPr>
                <p:cNvPr id="740" name="Rounded Rectangle 148"/>
                <p:cNvSpPr/>
                <p:nvPr/>
              </p:nvSpPr>
              <p:spPr>
                <a:xfrm>
                  <a:off x="8137440" y="2421000"/>
                  <a:ext cx="46440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f4b183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41" name="Rounded Rectangle 149"/>
                <p:cNvGrpSpPr/>
                <p:nvPr/>
              </p:nvGrpSpPr>
              <p:grpSpPr>
                <a:xfrm>
                  <a:off x="8165880" y="2450880"/>
                  <a:ext cx="405720" cy="406800"/>
                  <a:chOff x="8165880" y="2450880"/>
                  <a:chExt cx="405720" cy="406800"/>
                </a:xfrm>
              </p:grpSpPr>
              <p:pic>
                <p:nvPicPr>
                  <p:cNvPr id="742" name="Rounded Rectangle 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65880" y="2450880"/>
                    <a:ext cx="40572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194320" y="2477520"/>
                    <a:ext cx="350280" cy="35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44" name="Freeform 147"/>
              <p:cNvGrpSpPr/>
              <p:nvPr/>
            </p:nvGrpSpPr>
            <p:grpSpPr>
              <a:xfrm>
                <a:off x="8241840" y="2552760"/>
                <a:ext cx="254160" cy="203400"/>
                <a:chOff x="8241840" y="2552760"/>
                <a:chExt cx="254160" cy="203400"/>
              </a:xfrm>
            </p:grpSpPr>
            <p:pic>
              <p:nvPicPr>
                <p:cNvPr id="745" name="Freeform 14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241840" y="2552760"/>
                  <a:ext cx="254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6" name=""/>
                <p:cNvSpPr/>
                <p:nvPr/>
              </p:nvSpPr>
              <p:spPr>
                <a:xfrm>
                  <a:off x="8255520" y="2554920"/>
                  <a:ext cx="23940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47" name="TextBox 150"/>
            <p:cNvSpPr/>
            <p:nvPr/>
          </p:nvSpPr>
          <p:spPr>
            <a:xfrm flipH="1">
              <a:off x="8586720" y="2519280"/>
              <a:ext cx="10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8" name="Group 5"/>
          <p:cNvGrpSpPr/>
          <p:nvPr/>
        </p:nvGrpSpPr>
        <p:grpSpPr>
          <a:xfrm>
            <a:off x="7061040" y="6272280"/>
            <a:ext cx="2611440" cy="487440"/>
            <a:chOff x="7061040" y="6272280"/>
            <a:chExt cx="2611440" cy="487440"/>
          </a:xfrm>
        </p:grpSpPr>
        <p:grpSp>
          <p:nvGrpSpPr>
            <p:cNvPr id="749" name="Group 6"/>
            <p:cNvGrpSpPr/>
            <p:nvPr/>
          </p:nvGrpSpPr>
          <p:grpSpPr>
            <a:xfrm>
              <a:off x="7061040" y="6295680"/>
              <a:ext cx="464400" cy="464040"/>
              <a:chOff x="7061040" y="6295680"/>
              <a:chExt cx="464400" cy="464040"/>
            </a:xfrm>
          </p:grpSpPr>
          <p:sp>
            <p:nvSpPr>
              <p:cNvPr id="750" name="Rounded Rectangle 152"/>
              <p:cNvSpPr/>
              <p:nvPr/>
            </p:nvSpPr>
            <p:spPr>
              <a:xfrm>
                <a:off x="7061040" y="6295680"/>
                <a:ext cx="464400" cy="464040"/>
              </a:xfrm>
              <a:prstGeom prst="roundRect">
                <a:avLst>
                  <a:gd name="adj" fmla="val 19375"/>
                </a:avLst>
              </a:prstGeom>
              <a:gradFill rotWithShape="0">
                <a:gsLst>
                  <a:gs pos="0">
                    <a:srgbClr val="adb9ca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1" name="Rounded Rectangle 153"/>
              <p:cNvGrpSpPr/>
              <p:nvPr/>
            </p:nvGrpSpPr>
            <p:grpSpPr>
              <a:xfrm>
                <a:off x="7086240" y="6324120"/>
                <a:ext cx="405720" cy="406800"/>
                <a:chOff x="7086240" y="6324120"/>
                <a:chExt cx="405720" cy="406800"/>
              </a:xfrm>
            </p:grpSpPr>
            <p:pic>
              <p:nvPicPr>
                <p:cNvPr id="752" name="Rounded Rectangle 15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086240" y="6324120"/>
                  <a:ext cx="40572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3" name=""/>
                <p:cNvSpPr/>
                <p:nvPr/>
              </p:nvSpPr>
              <p:spPr>
                <a:xfrm>
                  <a:off x="7117560" y="6352200"/>
                  <a:ext cx="3502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54" name="TextBox 154"/>
            <p:cNvSpPr/>
            <p:nvPr/>
          </p:nvSpPr>
          <p:spPr>
            <a:xfrm flipH="1">
              <a:off x="7526160" y="632772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5" name="Group 155"/>
            <p:cNvGrpSpPr/>
            <p:nvPr/>
          </p:nvGrpSpPr>
          <p:grpSpPr>
            <a:xfrm>
              <a:off x="8137440" y="6272280"/>
              <a:ext cx="464400" cy="464040"/>
              <a:chOff x="8137440" y="6272280"/>
              <a:chExt cx="464400" cy="464040"/>
            </a:xfrm>
          </p:grpSpPr>
          <p:grpSp>
            <p:nvGrpSpPr>
              <p:cNvPr id="756" name="Group 39"/>
              <p:cNvGrpSpPr/>
              <p:nvPr/>
            </p:nvGrpSpPr>
            <p:grpSpPr>
              <a:xfrm>
                <a:off x="8137440" y="6272280"/>
                <a:ext cx="464400" cy="464040"/>
                <a:chOff x="8137440" y="6272280"/>
                <a:chExt cx="464400" cy="464040"/>
              </a:xfrm>
            </p:grpSpPr>
            <p:sp>
              <p:nvSpPr>
                <p:cNvPr id="757" name="Rounded Rectangle 158"/>
                <p:cNvSpPr/>
                <p:nvPr/>
              </p:nvSpPr>
              <p:spPr>
                <a:xfrm>
                  <a:off x="8137440" y="6272280"/>
                  <a:ext cx="46440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f4b183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58" name="Rounded Rectangle 159"/>
                <p:cNvGrpSpPr/>
                <p:nvPr/>
              </p:nvGrpSpPr>
              <p:grpSpPr>
                <a:xfrm>
                  <a:off x="8165880" y="6299280"/>
                  <a:ext cx="405720" cy="406800"/>
                  <a:chOff x="8165880" y="6299280"/>
                  <a:chExt cx="405720" cy="406800"/>
                </a:xfrm>
              </p:grpSpPr>
              <p:pic>
                <p:nvPicPr>
                  <p:cNvPr id="759" name="Rounded Rectangle 15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65880" y="6299280"/>
                    <a:ext cx="40572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60" name=""/>
                  <p:cNvSpPr/>
                  <p:nvPr/>
                </p:nvSpPr>
                <p:spPr>
                  <a:xfrm>
                    <a:off x="8194320" y="6329160"/>
                    <a:ext cx="350280" cy="35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61" name="Freeform 157"/>
              <p:cNvGrpSpPr/>
              <p:nvPr/>
            </p:nvGrpSpPr>
            <p:grpSpPr>
              <a:xfrm>
                <a:off x="8241840" y="6400800"/>
                <a:ext cx="254160" cy="203400"/>
                <a:chOff x="8241840" y="6400800"/>
                <a:chExt cx="254160" cy="203400"/>
              </a:xfrm>
            </p:grpSpPr>
            <p:pic>
              <p:nvPicPr>
                <p:cNvPr id="762" name="Freeform 15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41840" y="6400800"/>
                  <a:ext cx="254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3" name=""/>
                <p:cNvSpPr/>
                <p:nvPr/>
              </p:nvSpPr>
              <p:spPr>
                <a:xfrm>
                  <a:off x="8255520" y="6406200"/>
                  <a:ext cx="23940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64" name="TextBox 160"/>
            <p:cNvSpPr/>
            <p:nvPr/>
          </p:nvSpPr>
          <p:spPr>
            <a:xfrm flipH="1">
              <a:off x="8586720" y="6370560"/>
              <a:ext cx="10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161"/>
          <p:cNvGrpSpPr/>
          <p:nvPr/>
        </p:nvGrpSpPr>
        <p:grpSpPr>
          <a:xfrm>
            <a:off x="7061040" y="3379680"/>
            <a:ext cx="2611440" cy="487440"/>
            <a:chOff x="7061040" y="3379680"/>
            <a:chExt cx="2611440" cy="487440"/>
          </a:xfrm>
        </p:grpSpPr>
        <p:grpSp>
          <p:nvGrpSpPr>
            <p:cNvPr id="766" name="Group 162"/>
            <p:cNvGrpSpPr/>
            <p:nvPr/>
          </p:nvGrpSpPr>
          <p:grpSpPr>
            <a:xfrm>
              <a:off x="7061040" y="3403080"/>
              <a:ext cx="464400" cy="464040"/>
              <a:chOff x="7061040" y="3403080"/>
              <a:chExt cx="464400" cy="464040"/>
            </a:xfrm>
          </p:grpSpPr>
          <p:grpSp>
            <p:nvGrpSpPr>
              <p:cNvPr id="767" name="Group 6"/>
              <p:cNvGrpSpPr/>
              <p:nvPr/>
            </p:nvGrpSpPr>
            <p:grpSpPr>
              <a:xfrm>
                <a:off x="7061040" y="3403080"/>
                <a:ext cx="464400" cy="464040"/>
                <a:chOff x="7061040" y="3403080"/>
                <a:chExt cx="464400" cy="464040"/>
              </a:xfrm>
            </p:grpSpPr>
            <p:sp>
              <p:nvSpPr>
                <p:cNvPr id="768" name="Rounded Rectangle 170"/>
                <p:cNvSpPr/>
                <p:nvPr/>
              </p:nvSpPr>
              <p:spPr>
                <a:xfrm>
                  <a:off x="7061040" y="3403080"/>
                  <a:ext cx="46440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adb9ca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9" name="Rounded Rectangle 171"/>
                <p:cNvGrpSpPr/>
                <p:nvPr/>
              </p:nvGrpSpPr>
              <p:grpSpPr>
                <a:xfrm>
                  <a:off x="7086240" y="3428280"/>
                  <a:ext cx="405720" cy="406800"/>
                  <a:chOff x="7086240" y="3428280"/>
                  <a:chExt cx="405720" cy="406800"/>
                </a:xfrm>
              </p:grpSpPr>
              <p:pic>
                <p:nvPicPr>
                  <p:cNvPr id="770" name="Rounded Rectangle 17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240" y="3428280"/>
                    <a:ext cx="40572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1" name=""/>
                  <p:cNvSpPr/>
                  <p:nvPr/>
                </p:nvSpPr>
                <p:spPr>
                  <a:xfrm>
                    <a:off x="7117560" y="3459600"/>
                    <a:ext cx="350280" cy="35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72" name="Freeform 169"/>
              <p:cNvGrpSpPr/>
              <p:nvPr/>
            </p:nvGrpSpPr>
            <p:grpSpPr>
              <a:xfrm>
                <a:off x="7175160" y="3530160"/>
                <a:ext cx="241200" cy="203400"/>
                <a:chOff x="7175160" y="3530160"/>
                <a:chExt cx="241200" cy="203400"/>
              </a:xfrm>
            </p:grpSpPr>
            <p:pic>
              <p:nvPicPr>
                <p:cNvPr id="773" name="Freeform 16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175160" y="3530160"/>
                  <a:ext cx="23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4" name=""/>
                <p:cNvSpPr/>
                <p:nvPr/>
              </p:nvSpPr>
              <p:spPr>
                <a:xfrm>
                  <a:off x="7179120" y="3537000"/>
                  <a:ext cx="23724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75" name="TextBox 163"/>
            <p:cNvSpPr/>
            <p:nvPr/>
          </p:nvSpPr>
          <p:spPr>
            <a:xfrm flipH="1">
              <a:off x="7526160" y="343512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Group 39"/>
            <p:cNvGrpSpPr/>
            <p:nvPr/>
          </p:nvGrpSpPr>
          <p:grpSpPr>
            <a:xfrm>
              <a:off x="8137440" y="3379680"/>
              <a:ext cx="464400" cy="464040"/>
              <a:chOff x="8137440" y="3379680"/>
              <a:chExt cx="464400" cy="464040"/>
            </a:xfrm>
          </p:grpSpPr>
          <p:sp>
            <p:nvSpPr>
              <p:cNvPr id="777" name="Rounded Rectangle 166"/>
              <p:cNvSpPr/>
              <p:nvPr/>
            </p:nvSpPr>
            <p:spPr>
              <a:xfrm>
                <a:off x="8137440" y="3379680"/>
                <a:ext cx="464400" cy="464040"/>
              </a:xfrm>
              <a:prstGeom prst="roundRect">
                <a:avLst>
                  <a:gd name="adj" fmla="val 19375"/>
                </a:avLst>
              </a:prstGeom>
              <a:gradFill rotWithShape="0">
                <a:gsLst>
                  <a:gs pos="0">
                    <a:srgbClr val="f4b183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78" name="Rounded Rectangle 167"/>
              <p:cNvGrpSpPr/>
              <p:nvPr/>
            </p:nvGrpSpPr>
            <p:grpSpPr>
              <a:xfrm>
                <a:off x="8165880" y="3403440"/>
                <a:ext cx="405720" cy="406800"/>
                <a:chOff x="8165880" y="3403440"/>
                <a:chExt cx="405720" cy="406800"/>
              </a:xfrm>
            </p:grpSpPr>
            <p:pic>
              <p:nvPicPr>
                <p:cNvPr id="779" name="Rounded Rectangle 16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165880" y="3403440"/>
                  <a:ext cx="40572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0" name=""/>
                <p:cNvSpPr/>
                <p:nvPr/>
              </p:nvSpPr>
              <p:spPr>
                <a:xfrm>
                  <a:off x="8194320" y="3436200"/>
                  <a:ext cx="3502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81" name="TextBox 165"/>
            <p:cNvSpPr/>
            <p:nvPr/>
          </p:nvSpPr>
          <p:spPr>
            <a:xfrm flipH="1">
              <a:off x="8586720" y="3477960"/>
              <a:ext cx="10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Group 172"/>
          <p:cNvGrpSpPr/>
          <p:nvPr/>
        </p:nvGrpSpPr>
        <p:grpSpPr>
          <a:xfrm>
            <a:off x="7061040" y="5348160"/>
            <a:ext cx="2611440" cy="487440"/>
            <a:chOff x="7061040" y="5348160"/>
            <a:chExt cx="2611440" cy="487440"/>
          </a:xfrm>
        </p:grpSpPr>
        <p:grpSp>
          <p:nvGrpSpPr>
            <p:cNvPr id="783" name="Group 173"/>
            <p:cNvGrpSpPr/>
            <p:nvPr/>
          </p:nvGrpSpPr>
          <p:grpSpPr>
            <a:xfrm>
              <a:off x="7061040" y="5371560"/>
              <a:ext cx="464400" cy="464040"/>
              <a:chOff x="7061040" y="5371560"/>
              <a:chExt cx="464400" cy="464040"/>
            </a:xfrm>
          </p:grpSpPr>
          <p:grpSp>
            <p:nvGrpSpPr>
              <p:cNvPr id="784" name="Group 6"/>
              <p:cNvGrpSpPr/>
              <p:nvPr/>
            </p:nvGrpSpPr>
            <p:grpSpPr>
              <a:xfrm>
                <a:off x="7061040" y="5371560"/>
                <a:ext cx="464400" cy="464040"/>
                <a:chOff x="7061040" y="5371560"/>
                <a:chExt cx="464400" cy="464040"/>
              </a:xfrm>
            </p:grpSpPr>
            <p:sp>
              <p:nvSpPr>
                <p:cNvPr id="785" name="Rounded Rectangle 181"/>
                <p:cNvSpPr/>
                <p:nvPr/>
              </p:nvSpPr>
              <p:spPr>
                <a:xfrm>
                  <a:off x="7061040" y="5371560"/>
                  <a:ext cx="46440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adb9ca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86" name="Rounded Rectangle 182"/>
                <p:cNvGrpSpPr/>
                <p:nvPr/>
              </p:nvGrpSpPr>
              <p:grpSpPr>
                <a:xfrm>
                  <a:off x="7086240" y="5396760"/>
                  <a:ext cx="405720" cy="406800"/>
                  <a:chOff x="7086240" y="5396760"/>
                  <a:chExt cx="405720" cy="406800"/>
                </a:xfrm>
              </p:grpSpPr>
              <p:pic>
                <p:nvPicPr>
                  <p:cNvPr id="787" name="Rounded Rectangle 18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6240" y="5396760"/>
                    <a:ext cx="40572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8" name=""/>
                  <p:cNvSpPr/>
                  <p:nvPr/>
                </p:nvSpPr>
                <p:spPr>
                  <a:xfrm>
                    <a:off x="7117560" y="5428080"/>
                    <a:ext cx="350280" cy="35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89" name="Freeform 180"/>
              <p:cNvGrpSpPr/>
              <p:nvPr/>
            </p:nvGrpSpPr>
            <p:grpSpPr>
              <a:xfrm>
                <a:off x="7175160" y="5498640"/>
                <a:ext cx="241200" cy="203400"/>
                <a:chOff x="7175160" y="5498640"/>
                <a:chExt cx="241200" cy="203400"/>
              </a:xfrm>
            </p:grpSpPr>
            <p:pic>
              <p:nvPicPr>
                <p:cNvPr id="790" name="Freeform 180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175160" y="5498640"/>
                  <a:ext cx="23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7179120" y="5505480"/>
                  <a:ext cx="23724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92" name="TextBox 174"/>
            <p:cNvSpPr/>
            <p:nvPr/>
          </p:nvSpPr>
          <p:spPr>
            <a:xfrm flipH="1">
              <a:off x="7526160" y="540360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3" name="Group 39"/>
            <p:cNvGrpSpPr/>
            <p:nvPr/>
          </p:nvGrpSpPr>
          <p:grpSpPr>
            <a:xfrm>
              <a:off x="8137440" y="5348160"/>
              <a:ext cx="464400" cy="464040"/>
              <a:chOff x="8137440" y="5348160"/>
              <a:chExt cx="464400" cy="464040"/>
            </a:xfrm>
          </p:grpSpPr>
          <p:sp>
            <p:nvSpPr>
              <p:cNvPr id="794" name="Rounded Rectangle 177"/>
              <p:cNvSpPr/>
              <p:nvPr/>
            </p:nvSpPr>
            <p:spPr>
              <a:xfrm>
                <a:off x="8137440" y="5348160"/>
                <a:ext cx="464400" cy="464040"/>
              </a:xfrm>
              <a:prstGeom prst="roundRect">
                <a:avLst>
                  <a:gd name="adj" fmla="val 19375"/>
                </a:avLst>
              </a:prstGeom>
              <a:gradFill rotWithShape="0">
                <a:gsLst>
                  <a:gs pos="0">
                    <a:srgbClr val="f4b183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95" name="Rounded Rectangle 178"/>
              <p:cNvGrpSpPr/>
              <p:nvPr/>
            </p:nvGrpSpPr>
            <p:grpSpPr>
              <a:xfrm>
                <a:off x="8165880" y="5371920"/>
                <a:ext cx="405720" cy="419760"/>
                <a:chOff x="8165880" y="5371920"/>
                <a:chExt cx="405720" cy="419760"/>
              </a:xfrm>
            </p:grpSpPr>
            <p:pic>
              <p:nvPicPr>
                <p:cNvPr id="796" name="Rounded Rectangle 17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65880" y="5371920"/>
                  <a:ext cx="405720" cy="41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7" name=""/>
                <p:cNvSpPr/>
                <p:nvPr/>
              </p:nvSpPr>
              <p:spPr>
                <a:xfrm>
                  <a:off x="8194320" y="5404680"/>
                  <a:ext cx="3502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98" name="TextBox 176"/>
            <p:cNvSpPr/>
            <p:nvPr/>
          </p:nvSpPr>
          <p:spPr>
            <a:xfrm flipH="1">
              <a:off x="8586720" y="5446440"/>
              <a:ext cx="10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Group 183"/>
          <p:cNvGrpSpPr/>
          <p:nvPr/>
        </p:nvGrpSpPr>
        <p:grpSpPr>
          <a:xfrm>
            <a:off x="533520" y="2362320"/>
            <a:ext cx="7543800" cy="3105720"/>
            <a:chOff x="533520" y="2362320"/>
            <a:chExt cx="7543800" cy="3105720"/>
          </a:xfrm>
        </p:grpSpPr>
        <p:sp>
          <p:nvSpPr>
            <p:cNvPr id="800" name="5-Point Star 184"/>
            <p:cNvSpPr/>
            <p:nvPr/>
          </p:nvSpPr>
          <p:spPr>
            <a:xfrm>
              <a:off x="1905120" y="2362320"/>
              <a:ext cx="4724280" cy="2666880"/>
            </a:xfrm>
            <a:custGeom>
              <a:avLst/>
              <a:gdLst/>
              <a:ahLst/>
              <a:rect l="l" t="t" r="r" b="b"/>
              <a:pathLst>
                <a:path w="4724400" h="2667111">
                  <a:moveTo>
                    <a:pt x="5" y="1018743"/>
                  </a:moveTo>
                  <a:lnTo>
                    <a:pt x="1804570" y="1018750"/>
                  </a:lnTo>
                  <a:lnTo>
                    <a:pt x="2362200" y="0"/>
                  </a:lnTo>
                  <a:lnTo>
                    <a:pt x="2919830" y="1018750"/>
                  </a:lnTo>
                  <a:lnTo>
                    <a:pt x="4724395" y="1018743"/>
                  </a:lnTo>
                  <a:lnTo>
                    <a:pt x="3264464" y="1648358"/>
                  </a:lnTo>
                  <a:lnTo>
                    <a:pt x="3822117" y="2667104"/>
                  </a:lnTo>
                  <a:lnTo>
                    <a:pt x="2362200" y="2037477"/>
                  </a:lnTo>
                  <a:lnTo>
                    <a:pt x="902283" y="2667104"/>
                  </a:lnTo>
                  <a:lnTo>
                    <a:pt x="1459936" y="1648358"/>
                  </a:lnTo>
                  <a:lnTo>
                    <a:pt x="5" y="1018743"/>
                  </a:lnTo>
                  <a:close/>
                </a:path>
              </a:pathLst>
            </a:custGeom>
            <a:solidFill>
              <a:srgbClr val="ffe699"/>
            </a:solidFill>
            <a:ln w="12600">
              <a:solidFill>
                <a:srgbClr val="ffd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TextBox 185"/>
            <p:cNvSpPr/>
            <p:nvPr/>
          </p:nvSpPr>
          <p:spPr>
            <a:xfrm>
              <a:off x="6934320" y="3059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itu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TextBox 186"/>
            <p:cNvSpPr/>
            <p:nvPr/>
          </p:nvSpPr>
          <p:spPr>
            <a:xfrm>
              <a:off x="533520" y="32443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TextBox 187"/>
            <p:cNvSpPr/>
            <p:nvPr/>
          </p:nvSpPr>
          <p:spPr>
            <a:xfrm>
              <a:off x="3695760" y="3429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TextBox 188"/>
            <p:cNvSpPr/>
            <p:nvPr/>
          </p:nvSpPr>
          <p:spPr>
            <a:xfrm>
              <a:off x="1676520" y="5099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TextBox 189"/>
            <p:cNvSpPr/>
            <p:nvPr/>
          </p:nvSpPr>
          <p:spPr>
            <a:xfrm>
              <a:off x="5547240" y="5099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as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re-Employment Tes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520" y="1898640"/>
            <a:ext cx="38862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abilit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sty/integrit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sampl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Content Placeholder 2" descr=""/>
          <p:cNvPicPr/>
          <p:nvPr/>
        </p:nvPicPr>
        <p:blipFill>
          <a:blip r:embed="rId1"/>
          <a:stretch/>
        </p:blipFill>
        <p:spPr>
          <a:xfrm>
            <a:off x="4629240" y="240192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Perfect Intervie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Content Placeholder 2" descr=""/>
          <p:cNvPicPr/>
          <p:nvPr/>
        </p:nvPicPr>
        <p:blipFill>
          <a:blip r:embed="rId1"/>
          <a:stretch/>
        </p:blipFill>
        <p:spPr>
          <a:xfrm>
            <a:off x="914400" y="1162080"/>
            <a:ext cx="7315200" cy="48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35"/>
          <p:cNvGrpSpPr/>
          <p:nvPr/>
        </p:nvGrpSpPr>
        <p:grpSpPr>
          <a:xfrm>
            <a:off x="598320" y="1771560"/>
            <a:ext cx="7947360" cy="4000680"/>
            <a:chOff x="598320" y="1771560"/>
            <a:chExt cx="7947360" cy="4000680"/>
          </a:xfrm>
        </p:grpSpPr>
        <p:sp>
          <p:nvSpPr>
            <p:cNvPr id="812" name="Freeform 6"/>
            <p:cNvSpPr/>
            <p:nvPr/>
          </p:nvSpPr>
          <p:spPr>
            <a:xfrm>
              <a:off x="2116080" y="1777680"/>
              <a:ext cx="968400" cy="109224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296" y="0"/>
                  </a:moveTo>
                  <a:lnTo>
                    <a:pt x="331" y="2"/>
                  </a:lnTo>
                  <a:lnTo>
                    <a:pt x="367" y="9"/>
                  </a:lnTo>
                  <a:lnTo>
                    <a:pt x="405" y="23"/>
                  </a:lnTo>
                  <a:lnTo>
                    <a:pt x="444" y="41"/>
                  </a:lnTo>
                  <a:lnTo>
                    <a:pt x="482" y="64"/>
                  </a:lnTo>
                  <a:lnTo>
                    <a:pt x="521" y="91"/>
                  </a:lnTo>
                  <a:lnTo>
                    <a:pt x="560" y="120"/>
                  </a:lnTo>
                  <a:lnTo>
                    <a:pt x="598" y="152"/>
                  </a:lnTo>
                  <a:lnTo>
                    <a:pt x="635" y="186"/>
                  </a:lnTo>
                  <a:lnTo>
                    <a:pt x="670" y="221"/>
                  </a:lnTo>
                  <a:lnTo>
                    <a:pt x="704" y="257"/>
                  </a:lnTo>
                  <a:lnTo>
                    <a:pt x="736" y="293"/>
                  </a:lnTo>
                  <a:lnTo>
                    <a:pt x="764" y="327"/>
                  </a:lnTo>
                  <a:lnTo>
                    <a:pt x="791" y="361"/>
                  </a:lnTo>
                  <a:lnTo>
                    <a:pt x="813" y="392"/>
                  </a:lnTo>
                  <a:lnTo>
                    <a:pt x="640" y="917"/>
                  </a:lnTo>
                  <a:lnTo>
                    <a:pt x="0" y="464"/>
                  </a:lnTo>
                  <a:lnTo>
                    <a:pt x="1" y="460"/>
                  </a:lnTo>
                  <a:lnTo>
                    <a:pt x="4" y="450"/>
                  </a:lnTo>
                  <a:lnTo>
                    <a:pt x="8" y="434"/>
                  </a:lnTo>
                  <a:lnTo>
                    <a:pt x="14" y="411"/>
                  </a:lnTo>
                  <a:lnTo>
                    <a:pt x="21" y="386"/>
                  </a:lnTo>
                  <a:lnTo>
                    <a:pt x="30" y="356"/>
                  </a:lnTo>
                  <a:lnTo>
                    <a:pt x="41" y="323"/>
                  </a:lnTo>
                  <a:lnTo>
                    <a:pt x="54" y="289"/>
                  </a:lnTo>
                  <a:lnTo>
                    <a:pt x="68" y="253"/>
                  </a:lnTo>
                  <a:lnTo>
                    <a:pt x="84" y="216"/>
                  </a:lnTo>
                  <a:lnTo>
                    <a:pt x="102" y="181"/>
                  </a:lnTo>
                  <a:lnTo>
                    <a:pt x="120" y="146"/>
                  </a:lnTo>
                  <a:lnTo>
                    <a:pt x="140" y="113"/>
                  </a:lnTo>
                  <a:lnTo>
                    <a:pt x="162" y="83"/>
                  </a:lnTo>
                  <a:lnTo>
                    <a:pt x="185" y="57"/>
                  </a:lnTo>
                  <a:lnTo>
                    <a:pt x="209" y="34"/>
                  </a:lnTo>
                  <a:lnTo>
                    <a:pt x="236" y="17"/>
                  </a:lnTo>
                  <a:lnTo>
                    <a:pt x="263" y="5"/>
                  </a:lnTo>
                  <a:lnTo>
                    <a:pt x="296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3" name="Freeform 8"/>
            <p:cNvGrpSpPr/>
            <p:nvPr/>
          </p:nvGrpSpPr>
          <p:grpSpPr>
            <a:xfrm>
              <a:off x="6070680" y="1777680"/>
              <a:ext cx="977760" cy="1104840"/>
              <a:chOff x="6070680" y="1777680"/>
              <a:chExt cx="977760" cy="1104840"/>
            </a:xfrm>
          </p:grpSpPr>
          <p:pic>
            <p:nvPicPr>
              <p:cNvPr id="814" name="Freeform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070680" y="1778040"/>
                <a:ext cx="977760" cy="110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6071400" y="1777680"/>
                <a:ext cx="968400" cy="10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6" name="Freeform 10"/>
            <p:cNvSpPr/>
            <p:nvPr/>
          </p:nvSpPr>
          <p:spPr>
            <a:xfrm>
              <a:off x="2103120" y="4354560"/>
              <a:ext cx="968400" cy="109224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640" y="0"/>
                  </a:moveTo>
                  <a:lnTo>
                    <a:pt x="813" y="525"/>
                  </a:lnTo>
                  <a:lnTo>
                    <a:pt x="791" y="557"/>
                  </a:lnTo>
                  <a:lnTo>
                    <a:pt x="764" y="590"/>
                  </a:lnTo>
                  <a:lnTo>
                    <a:pt x="736" y="624"/>
                  </a:lnTo>
                  <a:lnTo>
                    <a:pt x="704" y="661"/>
                  </a:lnTo>
                  <a:lnTo>
                    <a:pt x="670" y="696"/>
                  </a:lnTo>
                  <a:lnTo>
                    <a:pt x="635" y="731"/>
                  </a:lnTo>
                  <a:lnTo>
                    <a:pt x="598" y="765"/>
                  </a:lnTo>
                  <a:lnTo>
                    <a:pt x="560" y="798"/>
                  </a:lnTo>
                  <a:lnTo>
                    <a:pt x="521" y="827"/>
                  </a:lnTo>
                  <a:lnTo>
                    <a:pt x="482" y="853"/>
                  </a:lnTo>
                  <a:lnTo>
                    <a:pt x="444" y="877"/>
                  </a:lnTo>
                  <a:lnTo>
                    <a:pt x="405" y="894"/>
                  </a:lnTo>
                  <a:lnTo>
                    <a:pt x="367" y="908"/>
                  </a:lnTo>
                  <a:lnTo>
                    <a:pt x="331" y="916"/>
                  </a:lnTo>
                  <a:lnTo>
                    <a:pt x="296" y="917"/>
                  </a:lnTo>
                  <a:lnTo>
                    <a:pt x="263" y="912"/>
                  </a:lnTo>
                  <a:lnTo>
                    <a:pt x="236" y="901"/>
                  </a:lnTo>
                  <a:lnTo>
                    <a:pt x="209" y="884"/>
                  </a:lnTo>
                  <a:lnTo>
                    <a:pt x="185" y="862"/>
                  </a:lnTo>
                  <a:lnTo>
                    <a:pt x="162" y="835"/>
                  </a:lnTo>
                  <a:lnTo>
                    <a:pt x="140" y="805"/>
                  </a:lnTo>
                  <a:lnTo>
                    <a:pt x="120" y="773"/>
                  </a:lnTo>
                  <a:lnTo>
                    <a:pt x="102" y="737"/>
                  </a:lnTo>
                  <a:lnTo>
                    <a:pt x="84" y="702"/>
                  </a:lnTo>
                  <a:lnTo>
                    <a:pt x="68" y="666"/>
                  </a:lnTo>
                  <a:lnTo>
                    <a:pt x="54" y="629"/>
                  </a:lnTo>
                  <a:lnTo>
                    <a:pt x="41" y="595"/>
                  </a:lnTo>
                  <a:lnTo>
                    <a:pt x="30" y="563"/>
                  </a:lnTo>
                  <a:lnTo>
                    <a:pt x="21" y="533"/>
                  </a:lnTo>
                  <a:lnTo>
                    <a:pt x="14" y="508"/>
                  </a:lnTo>
                  <a:lnTo>
                    <a:pt x="8" y="485"/>
                  </a:lnTo>
                  <a:lnTo>
                    <a:pt x="4" y="469"/>
                  </a:lnTo>
                  <a:lnTo>
                    <a:pt x="1" y="459"/>
                  </a:lnTo>
                  <a:lnTo>
                    <a:pt x="0" y="455"/>
                  </a:lnTo>
                  <a:lnTo>
                    <a:pt x="6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6059520" y="4354560"/>
              <a:ext cx="968400" cy="109224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173" y="0"/>
                  </a:moveTo>
                  <a:lnTo>
                    <a:pt x="813" y="455"/>
                  </a:lnTo>
                  <a:lnTo>
                    <a:pt x="812" y="459"/>
                  </a:lnTo>
                  <a:lnTo>
                    <a:pt x="809" y="469"/>
                  </a:lnTo>
                  <a:lnTo>
                    <a:pt x="806" y="485"/>
                  </a:lnTo>
                  <a:lnTo>
                    <a:pt x="799" y="508"/>
                  </a:lnTo>
                  <a:lnTo>
                    <a:pt x="792" y="533"/>
                  </a:lnTo>
                  <a:lnTo>
                    <a:pt x="783" y="563"/>
                  </a:lnTo>
                  <a:lnTo>
                    <a:pt x="772" y="595"/>
                  </a:lnTo>
                  <a:lnTo>
                    <a:pt x="759" y="629"/>
                  </a:lnTo>
                  <a:lnTo>
                    <a:pt x="745" y="666"/>
                  </a:lnTo>
                  <a:lnTo>
                    <a:pt x="729" y="702"/>
                  </a:lnTo>
                  <a:lnTo>
                    <a:pt x="712" y="737"/>
                  </a:lnTo>
                  <a:lnTo>
                    <a:pt x="693" y="773"/>
                  </a:lnTo>
                  <a:lnTo>
                    <a:pt x="673" y="805"/>
                  </a:lnTo>
                  <a:lnTo>
                    <a:pt x="651" y="835"/>
                  </a:lnTo>
                  <a:lnTo>
                    <a:pt x="628" y="862"/>
                  </a:lnTo>
                  <a:lnTo>
                    <a:pt x="604" y="884"/>
                  </a:lnTo>
                  <a:lnTo>
                    <a:pt x="578" y="901"/>
                  </a:lnTo>
                  <a:lnTo>
                    <a:pt x="550" y="912"/>
                  </a:lnTo>
                  <a:lnTo>
                    <a:pt x="517" y="917"/>
                  </a:lnTo>
                  <a:lnTo>
                    <a:pt x="482" y="916"/>
                  </a:lnTo>
                  <a:lnTo>
                    <a:pt x="446" y="908"/>
                  </a:lnTo>
                  <a:lnTo>
                    <a:pt x="408" y="894"/>
                  </a:lnTo>
                  <a:lnTo>
                    <a:pt x="370" y="877"/>
                  </a:lnTo>
                  <a:lnTo>
                    <a:pt x="331" y="853"/>
                  </a:lnTo>
                  <a:lnTo>
                    <a:pt x="292" y="827"/>
                  </a:lnTo>
                  <a:lnTo>
                    <a:pt x="253" y="798"/>
                  </a:lnTo>
                  <a:lnTo>
                    <a:pt x="215" y="765"/>
                  </a:lnTo>
                  <a:lnTo>
                    <a:pt x="178" y="731"/>
                  </a:lnTo>
                  <a:lnTo>
                    <a:pt x="143" y="696"/>
                  </a:lnTo>
                  <a:lnTo>
                    <a:pt x="109" y="661"/>
                  </a:lnTo>
                  <a:lnTo>
                    <a:pt x="78" y="624"/>
                  </a:lnTo>
                  <a:lnTo>
                    <a:pt x="49" y="590"/>
                  </a:lnTo>
                  <a:lnTo>
                    <a:pt x="22" y="557"/>
                  </a:lnTo>
                  <a:lnTo>
                    <a:pt x="0" y="525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Oval 17"/>
            <p:cNvSpPr/>
            <p:nvPr/>
          </p:nvSpPr>
          <p:spPr>
            <a:xfrm>
              <a:off x="740880" y="5013360"/>
              <a:ext cx="3488040" cy="27756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Oval 18"/>
            <p:cNvSpPr/>
            <p:nvPr/>
          </p:nvSpPr>
          <p:spPr>
            <a:xfrm>
              <a:off x="740880" y="1981080"/>
              <a:ext cx="3773520" cy="22212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Oval 19"/>
            <p:cNvSpPr/>
            <p:nvPr/>
          </p:nvSpPr>
          <p:spPr>
            <a:xfrm>
              <a:off x="4605480" y="1981080"/>
              <a:ext cx="3773520" cy="22212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Oval 20"/>
            <p:cNvSpPr/>
            <p:nvPr/>
          </p:nvSpPr>
          <p:spPr>
            <a:xfrm>
              <a:off x="4930920" y="5013360"/>
              <a:ext cx="3486240" cy="27756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15"/>
            <p:cNvSpPr/>
            <p:nvPr/>
          </p:nvSpPr>
          <p:spPr>
            <a:xfrm>
              <a:off x="598320" y="2112840"/>
              <a:ext cx="7947360" cy="30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3" name="Group 14"/>
            <p:cNvGrpSpPr/>
            <p:nvPr/>
          </p:nvGrpSpPr>
          <p:grpSpPr>
            <a:xfrm>
              <a:off x="2316960" y="1771560"/>
              <a:ext cx="4497840" cy="3693600"/>
              <a:chOff x="2316960" y="1771560"/>
              <a:chExt cx="4497840" cy="3693600"/>
            </a:xfrm>
          </p:grpSpPr>
          <p:grpSp>
            <p:nvGrpSpPr>
              <p:cNvPr id="824" name="Freeform 7"/>
              <p:cNvGrpSpPr/>
              <p:nvPr/>
            </p:nvGrpSpPr>
            <p:grpSpPr>
              <a:xfrm>
                <a:off x="2316960" y="1771560"/>
                <a:ext cx="2229840" cy="1356480"/>
                <a:chOff x="2316960" y="1771560"/>
                <a:chExt cx="2229840" cy="1356480"/>
              </a:xfrm>
            </p:grpSpPr>
            <p:pic>
              <p:nvPicPr>
                <p:cNvPr id="825" name="Freeform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16960" y="1771560"/>
                  <a:ext cx="2229840" cy="13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6" name=""/>
                <p:cNvSpPr/>
                <p:nvPr/>
              </p:nvSpPr>
              <p:spPr>
                <a:xfrm>
                  <a:off x="2322720" y="1777680"/>
                  <a:ext cx="2220840" cy="13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7" name="Freeform 9"/>
              <p:cNvGrpSpPr/>
              <p:nvPr/>
            </p:nvGrpSpPr>
            <p:grpSpPr>
              <a:xfrm>
                <a:off x="4584960" y="1771560"/>
                <a:ext cx="2229840" cy="1356480"/>
                <a:chOff x="4584960" y="1771560"/>
                <a:chExt cx="2229840" cy="1356480"/>
              </a:xfrm>
            </p:grpSpPr>
            <p:pic>
              <p:nvPicPr>
                <p:cNvPr id="82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84960" y="1771560"/>
                  <a:ext cx="2229840" cy="13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9" name=""/>
                <p:cNvSpPr/>
                <p:nvPr/>
              </p:nvSpPr>
              <p:spPr>
                <a:xfrm>
                  <a:off x="4588560" y="1777680"/>
                  <a:ext cx="2220840" cy="13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0" name="Freeform 11"/>
              <p:cNvSpPr/>
              <p:nvPr/>
            </p:nvSpPr>
            <p:spPr>
              <a:xfrm>
                <a:off x="2322720" y="4118040"/>
                <a:ext cx="2220840" cy="1347120"/>
              </a:xfrm>
              <a:custGeom>
                <a:avLst/>
                <a:gdLst/>
                <a:ahLst/>
                <a:rect l="l" t="t" r="r" b="b"/>
                <a:pathLst>
                  <a:path w="1869" h="1133">
                    <a:moveTo>
                      <a:pt x="1110" y="0"/>
                    </a:moveTo>
                    <a:lnTo>
                      <a:pt x="1798" y="0"/>
                    </a:lnTo>
                    <a:lnTo>
                      <a:pt x="1816" y="3"/>
                    </a:lnTo>
                    <a:lnTo>
                      <a:pt x="1831" y="8"/>
                    </a:lnTo>
                    <a:lnTo>
                      <a:pt x="1842" y="17"/>
                    </a:lnTo>
                    <a:lnTo>
                      <a:pt x="1851" y="27"/>
                    </a:lnTo>
                    <a:lnTo>
                      <a:pt x="1857" y="38"/>
                    </a:lnTo>
                    <a:lnTo>
                      <a:pt x="1862" y="49"/>
                    </a:lnTo>
                    <a:lnTo>
                      <a:pt x="1865" y="59"/>
                    </a:lnTo>
                    <a:lnTo>
                      <a:pt x="1866" y="68"/>
                    </a:lnTo>
                    <a:lnTo>
                      <a:pt x="1867" y="73"/>
                    </a:lnTo>
                    <a:lnTo>
                      <a:pt x="1867" y="216"/>
                    </a:lnTo>
                    <a:lnTo>
                      <a:pt x="1869" y="260"/>
                    </a:lnTo>
                    <a:lnTo>
                      <a:pt x="1869" y="706"/>
                    </a:lnTo>
                    <a:lnTo>
                      <a:pt x="1867" y="731"/>
                    </a:lnTo>
                    <a:lnTo>
                      <a:pt x="1867" y="749"/>
                    </a:lnTo>
                    <a:lnTo>
                      <a:pt x="1865" y="770"/>
                    </a:lnTo>
                    <a:lnTo>
                      <a:pt x="1860" y="786"/>
                    </a:lnTo>
                    <a:lnTo>
                      <a:pt x="1852" y="798"/>
                    </a:lnTo>
                    <a:lnTo>
                      <a:pt x="1842" y="805"/>
                    </a:lnTo>
                    <a:lnTo>
                      <a:pt x="1832" y="810"/>
                    </a:lnTo>
                    <a:lnTo>
                      <a:pt x="1822" y="813"/>
                    </a:lnTo>
                    <a:lnTo>
                      <a:pt x="1803" y="813"/>
                    </a:lnTo>
                    <a:lnTo>
                      <a:pt x="1796" y="810"/>
                    </a:lnTo>
                    <a:lnTo>
                      <a:pt x="1791" y="809"/>
                    </a:lnTo>
                    <a:lnTo>
                      <a:pt x="1790" y="809"/>
                    </a:lnTo>
                    <a:lnTo>
                      <a:pt x="1696" y="715"/>
                    </a:lnTo>
                    <a:lnTo>
                      <a:pt x="1677" y="734"/>
                    </a:lnTo>
                    <a:lnTo>
                      <a:pt x="1663" y="746"/>
                    </a:lnTo>
                    <a:lnTo>
                      <a:pt x="1647" y="763"/>
                    </a:lnTo>
                    <a:lnTo>
                      <a:pt x="1627" y="780"/>
                    </a:lnTo>
                    <a:lnTo>
                      <a:pt x="1607" y="802"/>
                    </a:lnTo>
                    <a:lnTo>
                      <a:pt x="1583" y="823"/>
                    </a:lnTo>
                    <a:lnTo>
                      <a:pt x="1559" y="847"/>
                    </a:lnTo>
                    <a:lnTo>
                      <a:pt x="1534" y="871"/>
                    </a:lnTo>
                    <a:lnTo>
                      <a:pt x="1509" y="896"/>
                    </a:lnTo>
                    <a:lnTo>
                      <a:pt x="1484" y="920"/>
                    </a:lnTo>
                    <a:lnTo>
                      <a:pt x="1435" y="969"/>
                    </a:lnTo>
                    <a:lnTo>
                      <a:pt x="1411" y="991"/>
                    </a:lnTo>
                    <a:lnTo>
                      <a:pt x="1391" y="1011"/>
                    </a:lnTo>
                    <a:lnTo>
                      <a:pt x="1372" y="1031"/>
                    </a:lnTo>
                    <a:lnTo>
                      <a:pt x="1342" y="1062"/>
                    </a:lnTo>
                    <a:lnTo>
                      <a:pt x="1319" y="1084"/>
                    </a:lnTo>
                    <a:lnTo>
                      <a:pt x="1298" y="1102"/>
                    </a:lnTo>
                    <a:lnTo>
                      <a:pt x="1280" y="1114"/>
                    </a:lnTo>
                    <a:lnTo>
                      <a:pt x="1263" y="1123"/>
                    </a:lnTo>
                    <a:lnTo>
                      <a:pt x="1251" y="1129"/>
                    </a:lnTo>
                    <a:lnTo>
                      <a:pt x="1241" y="1132"/>
                    </a:lnTo>
                    <a:lnTo>
                      <a:pt x="1233" y="1133"/>
                    </a:lnTo>
                    <a:lnTo>
                      <a:pt x="156" y="1133"/>
                    </a:lnTo>
                    <a:lnTo>
                      <a:pt x="128" y="1131"/>
                    </a:lnTo>
                    <a:lnTo>
                      <a:pt x="103" y="1123"/>
                    </a:lnTo>
                    <a:lnTo>
                      <a:pt x="80" y="1113"/>
                    </a:lnTo>
                    <a:lnTo>
                      <a:pt x="60" y="1102"/>
                    </a:lnTo>
                    <a:lnTo>
                      <a:pt x="42" y="1089"/>
                    </a:lnTo>
                    <a:lnTo>
                      <a:pt x="28" y="1077"/>
                    </a:lnTo>
                    <a:lnTo>
                      <a:pt x="15" y="1065"/>
                    </a:lnTo>
                    <a:lnTo>
                      <a:pt x="8" y="1055"/>
                    </a:lnTo>
                    <a:lnTo>
                      <a:pt x="1" y="1049"/>
                    </a:lnTo>
                    <a:lnTo>
                      <a:pt x="0" y="1046"/>
                    </a:lnTo>
                    <a:lnTo>
                      <a:pt x="29" y="1070"/>
                    </a:lnTo>
                    <a:lnTo>
                      <a:pt x="58" y="1088"/>
                    </a:lnTo>
                    <a:lnTo>
                      <a:pt x="87" y="1098"/>
                    </a:lnTo>
                    <a:lnTo>
                      <a:pt x="115" y="1102"/>
                    </a:lnTo>
                    <a:lnTo>
                      <a:pt x="142" y="1102"/>
                    </a:lnTo>
                    <a:lnTo>
                      <a:pt x="168" y="1098"/>
                    </a:lnTo>
                    <a:lnTo>
                      <a:pt x="191" y="1090"/>
                    </a:lnTo>
                    <a:lnTo>
                      <a:pt x="213" y="1082"/>
                    </a:lnTo>
                    <a:lnTo>
                      <a:pt x="232" y="1070"/>
                    </a:lnTo>
                    <a:lnTo>
                      <a:pt x="248" y="1060"/>
                    </a:lnTo>
                    <a:lnTo>
                      <a:pt x="262" y="1050"/>
                    </a:lnTo>
                    <a:lnTo>
                      <a:pt x="272" y="1043"/>
                    </a:lnTo>
                    <a:lnTo>
                      <a:pt x="278" y="1038"/>
                    </a:lnTo>
                    <a:lnTo>
                      <a:pt x="281" y="1035"/>
                    </a:lnTo>
                    <a:lnTo>
                      <a:pt x="1151" y="170"/>
                    </a:lnTo>
                    <a:lnTo>
                      <a:pt x="1060" y="83"/>
                    </a:lnTo>
                    <a:lnTo>
                      <a:pt x="1054" y="63"/>
                    </a:lnTo>
                    <a:lnTo>
                      <a:pt x="1053" y="48"/>
                    </a:lnTo>
                    <a:lnTo>
                      <a:pt x="1055" y="34"/>
                    </a:lnTo>
                    <a:lnTo>
                      <a:pt x="1062" y="24"/>
                    </a:lnTo>
                    <a:lnTo>
                      <a:pt x="1070" y="15"/>
                    </a:lnTo>
                    <a:lnTo>
                      <a:pt x="1079" y="10"/>
                    </a:lnTo>
                    <a:lnTo>
                      <a:pt x="1089" y="5"/>
                    </a:lnTo>
                    <a:lnTo>
                      <a:pt x="1098" y="3"/>
                    </a:lnTo>
                    <a:lnTo>
                      <a:pt x="1105" y="2"/>
                    </a:lnTo>
                    <a:lnTo>
                      <a:pt x="11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96"/>
                  </a:gs>
                  <a:gs pos="100000">
                    <a:srgbClr val="00b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13"/>
              <p:cNvSpPr/>
              <p:nvPr/>
            </p:nvSpPr>
            <p:spPr>
              <a:xfrm>
                <a:off x="4588920" y="4118040"/>
                <a:ext cx="2220840" cy="1347120"/>
              </a:xfrm>
              <a:custGeom>
                <a:avLst/>
                <a:gdLst/>
                <a:ahLst/>
                <a:rect l="l" t="t" r="r" b="b"/>
                <a:pathLst>
                  <a:path w="1869" h="1133">
                    <a:moveTo>
                      <a:pt x="71" y="0"/>
                    </a:moveTo>
                    <a:lnTo>
                      <a:pt x="759" y="0"/>
                    </a:lnTo>
                    <a:lnTo>
                      <a:pt x="764" y="2"/>
                    </a:lnTo>
                    <a:lnTo>
                      <a:pt x="771" y="3"/>
                    </a:lnTo>
                    <a:lnTo>
                      <a:pt x="780" y="5"/>
                    </a:lnTo>
                    <a:lnTo>
                      <a:pt x="790" y="10"/>
                    </a:lnTo>
                    <a:lnTo>
                      <a:pt x="799" y="15"/>
                    </a:lnTo>
                    <a:lnTo>
                      <a:pt x="808" y="24"/>
                    </a:lnTo>
                    <a:lnTo>
                      <a:pt x="814" y="34"/>
                    </a:lnTo>
                    <a:lnTo>
                      <a:pt x="816" y="48"/>
                    </a:lnTo>
                    <a:lnTo>
                      <a:pt x="815" y="63"/>
                    </a:lnTo>
                    <a:lnTo>
                      <a:pt x="809" y="83"/>
                    </a:lnTo>
                    <a:lnTo>
                      <a:pt x="720" y="170"/>
                    </a:lnTo>
                    <a:lnTo>
                      <a:pt x="1588" y="1035"/>
                    </a:lnTo>
                    <a:lnTo>
                      <a:pt x="1591" y="1038"/>
                    </a:lnTo>
                    <a:lnTo>
                      <a:pt x="1597" y="1043"/>
                    </a:lnTo>
                    <a:lnTo>
                      <a:pt x="1607" y="1050"/>
                    </a:lnTo>
                    <a:lnTo>
                      <a:pt x="1621" y="1060"/>
                    </a:lnTo>
                    <a:lnTo>
                      <a:pt x="1637" y="1070"/>
                    </a:lnTo>
                    <a:lnTo>
                      <a:pt x="1656" y="1082"/>
                    </a:lnTo>
                    <a:lnTo>
                      <a:pt x="1678" y="1090"/>
                    </a:lnTo>
                    <a:lnTo>
                      <a:pt x="1702" y="1098"/>
                    </a:lnTo>
                    <a:lnTo>
                      <a:pt x="1727" y="1102"/>
                    </a:lnTo>
                    <a:lnTo>
                      <a:pt x="1755" y="1102"/>
                    </a:lnTo>
                    <a:lnTo>
                      <a:pt x="1782" y="1098"/>
                    </a:lnTo>
                    <a:lnTo>
                      <a:pt x="1811" y="1088"/>
                    </a:lnTo>
                    <a:lnTo>
                      <a:pt x="1840" y="1070"/>
                    </a:lnTo>
                    <a:lnTo>
                      <a:pt x="1869" y="1046"/>
                    </a:lnTo>
                    <a:lnTo>
                      <a:pt x="1868" y="1049"/>
                    </a:lnTo>
                    <a:lnTo>
                      <a:pt x="1861" y="1055"/>
                    </a:lnTo>
                    <a:lnTo>
                      <a:pt x="1854" y="1065"/>
                    </a:lnTo>
                    <a:lnTo>
                      <a:pt x="1841" y="1077"/>
                    </a:lnTo>
                    <a:lnTo>
                      <a:pt x="1828" y="1089"/>
                    </a:lnTo>
                    <a:lnTo>
                      <a:pt x="1809" y="1102"/>
                    </a:lnTo>
                    <a:lnTo>
                      <a:pt x="1789" y="1113"/>
                    </a:lnTo>
                    <a:lnTo>
                      <a:pt x="1766" y="1123"/>
                    </a:lnTo>
                    <a:lnTo>
                      <a:pt x="1741" y="1131"/>
                    </a:lnTo>
                    <a:lnTo>
                      <a:pt x="1714" y="1133"/>
                    </a:lnTo>
                    <a:lnTo>
                      <a:pt x="636" y="1133"/>
                    </a:lnTo>
                    <a:lnTo>
                      <a:pt x="628" y="1132"/>
                    </a:lnTo>
                    <a:lnTo>
                      <a:pt x="618" y="1129"/>
                    </a:lnTo>
                    <a:lnTo>
                      <a:pt x="606" y="1123"/>
                    </a:lnTo>
                    <a:lnTo>
                      <a:pt x="589" y="1114"/>
                    </a:lnTo>
                    <a:lnTo>
                      <a:pt x="571" y="1102"/>
                    </a:lnTo>
                    <a:lnTo>
                      <a:pt x="551" y="1084"/>
                    </a:lnTo>
                    <a:lnTo>
                      <a:pt x="527" y="1062"/>
                    </a:lnTo>
                    <a:lnTo>
                      <a:pt x="497" y="1031"/>
                    </a:lnTo>
                    <a:lnTo>
                      <a:pt x="478" y="1011"/>
                    </a:lnTo>
                    <a:lnTo>
                      <a:pt x="458" y="991"/>
                    </a:lnTo>
                    <a:lnTo>
                      <a:pt x="434" y="969"/>
                    </a:lnTo>
                    <a:lnTo>
                      <a:pt x="385" y="920"/>
                    </a:lnTo>
                    <a:lnTo>
                      <a:pt x="360" y="896"/>
                    </a:lnTo>
                    <a:lnTo>
                      <a:pt x="335" y="871"/>
                    </a:lnTo>
                    <a:lnTo>
                      <a:pt x="310" y="847"/>
                    </a:lnTo>
                    <a:lnTo>
                      <a:pt x="286" y="823"/>
                    </a:lnTo>
                    <a:lnTo>
                      <a:pt x="262" y="802"/>
                    </a:lnTo>
                    <a:lnTo>
                      <a:pt x="242" y="780"/>
                    </a:lnTo>
                    <a:lnTo>
                      <a:pt x="222" y="763"/>
                    </a:lnTo>
                    <a:lnTo>
                      <a:pt x="206" y="746"/>
                    </a:lnTo>
                    <a:lnTo>
                      <a:pt x="192" y="734"/>
                    </a:lnTo>
                    <a:lnTo>
                      <a:pt x="173" y="715"/>
                    </a:lnTo>
                    <a:lnTo>
                      <a:pt x="79" y="809"/>
                    </a:lnTo>
                    <a:lnTo>
                      <a:pt x="78" y="809"/>
                    </a:lnTo>
                    <a:lnTo>
                      <a:pt x="73" y="810"/>
                    </a:lnTo>
                    <a:lnTo>
                      <a:pt x="66" y="813"/>
                    </a:lnTo>
                    <a:lnTo>
                      <a:pt x="47" y="813"/>
                    </a:lnTo>
                    <a:lnTo>
                      <a:pt x="37" y="810"/>
                    </a:lnTo>
                    <a:lnTo>
                      <a:pt x="27" y="805"/>
                    </a:lnTo>
                    <a:lnTo>
                      <a:pt x="17" y="798"/>
                    </a:lnTo>
                    <a:lnTo>
                      <a:pt x="9" y="786"/>
                    </a:lnTo>
                    <a:lnTo>
                      <a:pt x="4" y="770"/>
                    </a:lnTo>
                    <a:lnTo>
                      <a:pt x="2" y="749"/>
                    </a:lnTo>
                    <a:lnTo>
                      <a:pt x="2" y="731"/>
                    </a:lnTo>
                    <a:lnTo>
                      <a:pt x="0" y="706"/>
                    </a:lnTo>
                    <a:lnTo>
                      <a:pt x="0" y="260"/>
                    </a:lnTo>
                    <a:lnTo>
                      <a:pt x="2" y="216"/>
                    </a:lnTo>
                    <a:lnTo>
                      <a:pt x="2" y="73"/>
                    </a:lnTo>
                    <a:lnTo>
                      <a:pt x="3" y="68"/>
                    </a:lnTo>
                    <a:lnTo>
                      <a:pt x="4" y="59"/>
                    </a:lnTo>
                    <a:lnTo>
                      <a:pt x="7" y="49"/>
                    </a:lnTo>
                    <a:lnTo>
                      <a:pt x="12" y="38"/>
                    </a:lnTo>
                    <a:lnTo>
                      <a:pt x="18" y="27"/>
                    </a:lnTo>
                    <a:lnTo>
                      <a:pt x="27" y="17"/>
                    </a:lnTo>
                    <a:lnTo>
                      <a:pt x="38" y="8"/>
                    </a:lnTo>
                    <a:lnTo>
                      <a:pt x="53" y="3"/>
                    </a:lnTo>
                    <a:lnTo>
                      <a:pt x="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2" name="Oval 21"/>
            <p:cNvSpPr/>
            <p:nvPr/>
          </p:nvSpPr>
          <p:spPr>
            <a:xfrm>
              <a:off x="826920" y="5486760"/>
              <a:ext cx="7490160" cy="28548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3137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Box 27"/>
            <p:cNvSpPr/>
            <p:nvPr/>
          </p:nvSpPr>
          <p:spPr>
            <a:xfrm>
              <a:off x="1637280" y="3279960"/>
              <a:ext cx="25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rtificial intellig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TextBox 28"/>
            <p:cNvSpPr/>
            <p:nvPr/>
          </p:nvSpPr>
          <p:spPr>
            <a:xfrm>
              <a:off x="887040" y="4114080"/>
              <a:ext cx="25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xpedi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fr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TextBox 29"/>
            <p:cNvSpPr/>
            <p:nvPr/>
          </p:nvSpPr>
          <p:spPr>
            <a:xfrm>
              <a:off x="4685760" y="3215520"/>
              <a:ext cx="203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irtual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nterview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Box 30"/>
            <p:cNvSpPr/>
            <p:nvPr/>
          </p:nvSpPr>
          <p:spPr>
            <a:xfrm>
              <a:off x="5884560" y="4114080"/>
              <a:ext cx="25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obil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optimiz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Sele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182520" y="316080"/>
            <a:ext cx="8961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Content Placeholder 4" descr="graphology.png"/>
          <p:cNvPicPr/>
          <p:nvPr/>
        </p:nvPicPr>
        <p:blipFill>
          <a:blip r:embed="rId1"/>
          <a:stretch/>
        </p:blipFill>
        <p:spPr>
          <a:xfrm>
            <a:off x="923760" y="1981080"/>
            <a:ext cx="7296480" cy="236232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"/>
          <p:cNvSpPr/>
          <p:nvPr/>
        </p:nvSpPr>
        <p:spPr>
          <a:xfrm>
            <a:off x="2048040" y="4724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nsights would you have about this pers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28560" y="1162080"/>
            <a:ext cx="78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 the importance of the selection proc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termine the validity and reliability of selection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advantages and disadvantages of selection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actice writing effective interview and behavioral ques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 how to avoid the pitfalls of interview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 trends in sel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9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Selection Pro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905120" y="2471760"/>
          <a:ext cx="6076800" cy="397332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19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985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616" name="TextBox 2"/>
          <p:cNvSpPr/>
          <p:nvPr/>
        </p:nvSpPr>
        <p:spPr>
          <a:xfrm>
            <a:off x="237960" y="336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7"/>
          <p:cNvSpPr/>
          <p:nvPr/>
        </p:nvSpPr>
        <p:spPr>
          <a:xfrm>
            <a:off x="209520" y="55990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"/>
          <p:cNvSpPr/>
          <p:nvPr/>
        </p:nvSpPr>
        <p:spPr>
          <a:xfrm>
            <a:off x="1428840" y="1539720"/>
            <a:ext cx="35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9"/>
          <p:cNvSpPr/>
          <p:nvPr/>
        </p:nvSpPr>
        <p:spPr>
          <a:xfrm>
            <a:off x="4105440" y="1539720"/>
            <a:ext cx="45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hi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5" descr="A person wearing glasses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2685960" y="2692440"/>
            <a:ext cx="1524240" cy="1536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A person in a suit smiling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5778360" y="2736720"/>
            <a:ext cx="1473480" cy="14605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1" descr="A person with pink hair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2695680" y="4711680"/>
            <a:ext cx="1409760" cy="14349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3" descr="A person smiling for the pictur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5753160" y="4757760"/>
            <a:ext cx="1498680" cy="147312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4"/>
          <p:cNvSpPr/>
          <p:nvPr/>
        </p:nvSpPr>
        <p:spPr>
          <a:xfrm>
            <a:off x="1522440" y="104760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-Job-Organization F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hoosing Selection Too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7440" y="1536840"/>
            <a:ext cx="3886200" cy="37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and background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employmen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Content Placeholder 5" descr=""/>
          <p:cNvPicPr/>
          <p:nvPr/>
        </p:nvPicPr>
        <p:blipFill>
          <a:blip r:embed="rId1"/>
          <a:stretch/>
        </p:blipFill>
        <p:spPr>
          <a:xfrm>
            <a:off x="4952880" y="1187280"/>
            <a:ext cx="3386160" cy="2264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Two people discussing something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4808520" y="3627360"/>
            <a:ext cx="3743280" cy="2495520"/>
          </a:xfrm>
          <a:prstGeom prst="rect">
            <a:avLst/>
          </a:prstGeom>
          <a:ln w="0">
            <a:noFill/>
          </a:ln>
        </p:spPr>
      </p:pic>
      <p:pic>
        <p:nvPicPr>
          <p:cNvPr id="629" name="Rectangle 10" descr=""/>
          <p:cNvPicPr/>
          <p:nvPr/>
        </p:nvPicPr>
        <p:blipFill>
          <a:blip r:embed="rId3"/>
          <a:stretch/>
        </p:blipFill>
        <p:spPr>
          <a:xfrm>
            <a:off x="482760" y="1638360"/>
            <a:ext cx="3060720" cy="1574640"/>
          </a:xfrm>
          <a:prstGeom prst="rect">
            <a:avLst/>
          </a:prstGeom>
          <a:ln w="0">
            <a:noFill/>
          </a:ln>
        </p:spPr>
      </p:pic>
      <p:pic>
        <p:nvPicPr>
          <p:cNvPr id="630" name="Rectangle 15" descr=""/>
          <p:cNvPicPr/>
          <p:nvPr/>
        </p:nvPicPr>
        <p:blipFill>
          <a:blip r:embed="rId4"/>
          <a:stretch/>
        </p:blipFill>
        <p:spPr>
          <a:xfrm>
            <a:off x="1587600" y="3619440"/>
            <a:ext cx="24001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2076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lection Too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1"/>
          <p:cNvSpPr/>
          <p:nvPr/>
        </p:nvSpPr>
        <p:spPr>
          <a:xfrm>
            <a:off x="3468600" y="2057400"/>
            <a:ext cx="1568520" cy="182880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2"/>
          <p:cNvSpPr/>
          <p:nvPr/>
        </p:nvSpPr>
        <p:spPr>
          <a:xfrm>
            <a:off x="3468600" y="4373640"/>
            <a:ext cx="156852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82"/>
          <p:cNvSpPr/>
          <p:nvPr/>
        </p:nvSpPr>
        <p:spPr>
          <a:xfrm>
            <a:off x="5194440" y="2030400"/>
            <a:ext cx="1568160" cy="182880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83"/>
          <p:cNvSpPr/>
          <p:nvPr/>
        </p:nvSpPr>
        <p:spPr>
          <a:xfrm>
            <a:off x="5194440" y="4346640"/>
            <a:ext cx="156816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ound Same Side Corner Rectangle 41"/>
          <p:cNvSpPr/>
          <p:nvPr/>
        </p:nvSpPr>
        <p:spPr>
          <a:xfrm>
            <a:off x="3468600" y="1249200"/>
            <a:ext cx="1568520" cy="736920"/>
          </a:xfrm>
          <a:prstGeom prst="pie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nline 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ound Same Side Corner Rectangle 90"/>
          <p:cNvSpPr/>
          <p:nvPr/>
        </p:nvSpPr>
        <p:spPr>
          <a:xfrm>
            <a:off x="5194440" y="1249200"/>
            <a:ext cx="1568160" cy="709920"/>
          </a:xfrm>
          <a:prstGeom prst="pie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ference chec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48"/>
          <p:cNvSpPr/>
          <p:nvPr/>
        </p:nvSpPr>
        <p:spPr>
          <a:xfrm>
            <a:off x="6923160" y="2044800"/>
            <a:ext cx="1568520" cy="182880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9"/>
          <p:cNvSpPr/>
          <p:nvPr/>
        </p:nvSpPr>
        <p:spPr>
          <a:xfrm>
            <a:off x="6923160" y="4361040"/>
            <a:ext cx="156852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ound Same Side Corner Rectangle 51"/>
          <p:cNvSpPr/>
          <p:nvPr/>
        </p:nvSpPr>
        <p:spPr>
          <a:xfrm>
            <a:off x="6923160" y="1262160"/>
            <a:ext cx="1568520" cy="711000"/>
          </a:xfrm>
          <a:prstGeom prst="pie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ackground chec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52"/>
          <p:cNvSpPr/>
          <p:nvPr/>
        </p:nvSpPr>
        <p:spPr>
          <a:xfrm>
            <a:off x="1636560" y="2087640"/>
            <a:ext cx="1568520" cy="182880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53"/>
          <p:cNvSpPr/>
          <p:nvPr/>
        </p:nvSpPr>
        <p:spPr>
          <a:xfrm>
            <a:off x="1636560" y="4403880"/>
            <a:ext cx="156852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ound Same Side Corner Rectangle 55"/>
          <p:cNvSpPr/>
          <p:nvPr/>
        </p:nvSpPr>
        <p:spPr>
          <a:xfrm>
            <a:off x="1636560" y="1249200"/>
            <a:ext cx="1568520" cy="766800"/>
          </a:xfrm>
          <a:prstGeom prst="pie">
            <a:avLst/>
          </a:prstGeom>
          <a:solidFill>
            <a:srgbClr val="548235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aper 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ound Same Side Corner Rectangle 61"/>
          <p:cNvSpPr/>
          <p:nvPr/>
        </p:nvSpPr>
        <p:spPr>
          <a:xfrm>
            <a:off x="368280" y="2073240"/>
            <a:ext cx="976320" cy="1066680"/>
          </a:xfrm>
          <a:prstGeom prst="pi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ound Same Side Corner Rectangle 62"/>
          <p:cNvSpPr/>
          <p:nvPr/>
        </p:nvSpPr>
        <p:spPr>
          <a:xfrm>
            <a:off x="371520" y="5165640"/>
            <a:ext cx="976320" cy="1067040"/>
          </a:xfrm>
          <a:prstGeom prst="pie">
            <a:avLst/>
          </a:prstGeom>
          <a:solidFill>
            <a:srgbClr val="ed7d31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152280" y="3139920"/>
            <a:ext cx="11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l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Va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mpr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urpose of the intervie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Content Placeholder 3" descr="A picture containing text, person, indoor, computer&#10;&#10;Description automatically generated"/>
          <p:cNvPicPr/>
          <p:nvPr/>
        </p:nvPicPr>
        <p:blipFill>
          <a:blip r:embed="rId1"/>
          <a:stretch/>
        </p:blipFill>
        <p:spPr>
          <a:xfrm>
            <a:off x="600120" y="153972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649" name="Content Placeholder 5" descr="A person shaking another person's hand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4486320" y="3726000"/>
            <a:ext cx="3886200" cy="25891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6"/>
          <p:cNvSpPr/>
          <p:nvPr/>
        </p:nvSpPr>
        <p:spPr>
          <a:xfrm>
            <a:off x="4572000" y="122724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ation/Intervie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the organiz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ract the best possible candi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 inform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 candidate’s qualifications with job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t with organization and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1"/>
          <p:cNvSpPr/>
          <p:nvPr/>
        </p:nvSpPr>
        <p:spPr>
          <a:xfrm>
            <a:off x="219240" y="40021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job-related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e good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 fi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ervi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re-interview and First Impression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1217520"/>
            <a:ext cx="45147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esum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The source of refer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esum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The candidate’s gender when the job is stereotyped “male” or “fema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Social media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pproximate age of the candi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Content Placeholder 7" descr="A picture containing person&#10;&#10;Description automatically genera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29240" y="2405160"/>
            <a:ext cx="38862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st interview E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4854600" y="1370160"/>
            <a:ext cx="3755880" cy="4268520"/>
            <a:chOff x="4854600" y="1370160"/>
            <a:chExt cx="3755880" cy="4268520"/>
          </a:xfrm>
        </p:grpSpPr>
        <p:sp>
          <p:nvSpPr>
            <p:cNvPr id="657" name="Rectangle 7"/>
            <p:cNvSpPr/>
            <p:nvPr/>
          </p:nvSpPr>
          <p:spPr>
            <a:xfrm>
              <a:off x="4870080" y="1370160"/>
              <a:ext cx="3715200" cy="190080"/>
            </a:xfrm>
            <a:prstGeom prst="rect">
              <a:avLst/>
            </a:prstGeom>
            <a:solidFill>
              <a:srgbClr val="f5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What can make it better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8" name="Rectangle 8" descr=""/>
            <p:cNvPicPr/>
            <p:nvPr/>
          </p:nvPicPr>
          <p:blipFill>
            <a:blip r:embed="rId1"/>
            <a:stretch/>
          </p:blipFill>
          <p:spPr>
            <a:xfrm>
              <a:off x="4854600" y="1555920"/>
              <a:ext cx="3755880" cy="40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Group 9"/>
          <p:cNvGrpSpPr/>
          <p:nvPr/>
        </p:nvGrpSpPr>
        <p:grpSpPr>
          <a:xfrm>
            <a:off x="587520" y="1370160"/>
            <a:ext cx="3755880" cy="4268520"/>
            <a:chOff x="587520" y="1370160"/>
            <a:chExt cx="3755880" cy="4268520"/>
          </a:xfrm>
        </p:grpSpPr>
        <p:sp>
          <p:nvSpPr>
            <p:cNvPr id="660" name="Rectangle 10"/>
            <p:cNvSpPr/>
            <p:nvPr/>
          </p:nvSpPr>
          <p:spPr>
            <a:xfrm>
              <a:off x="603000" y="1370160"/>
              <a:ext cx="3715200" cy="190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hat made it so bad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1" name="Rectangle 11" descr=""/>
            <p:cNvPicPr/>
            <p:nvPr/>
          </p:nvPicPr>
          <p:blipFill>
            <a:blip r:embed="rId2"/>
            <a:stretch/>
          </p:blipFill>
          <p:spPr>
            <a:xfrm>
              <a:off x="587520" y="1555920"/>
              <a:ext cx="375588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You Be the Judge: Interview Ques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228600" y="1996920"/>
            <a:ext cx="5867280" cy="47340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job requires a lot of overtime. Will that conflict with your childcare arrang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28600" y="2462040"/>
            <a:ext cx="5867280" cy="471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you ever had attendance or performance problems in your previous position because of your [sight, hearing, physical] impair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228600" y="2924280"/>
            <a:ext cx="5867280" cy="47124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mostly men in that position. Do you foresee having trouble establishing your authority with them because you’re a wom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228600" y="3387600"/>
            <a:ext cx="5867280" cy="471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you ever filed a workers’ compensation clai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228600" y="3852720"/>
            <a:ext cx="5867280" cy="47160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you ever been arrested? We are hiring someone to teach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228600" y="4316400"/>
            <a:ext cx="5867280" cy="473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ntry are you from?  We need someone to speak Span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228600" y="4778280"/>
            <a:ext cx="5867280" cy="47304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plan to come back to work after your baby is bo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228600" y="5243400"/>
            <a:ext cx="5867280" cy="471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520" rIns="2059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Group 91"/>
          <p:cNvGrpSpPr/>
          <p:nvPr/>
        </p:nvGrpSpPr>
        <p:grpSpPr>
          <a:xfrm>
            <a:off x="7000920" y="1324080"/>
            <a:ext cx="1052640" cy="4390920"/>
            <a:chOff x="7000920" y="1324080"/>
            <a:chExt cx="1052640" cy="4390920"/>
          </a:xfrm>
        </p:grpSpPr>
        <p:grpSp>
          <p:nvGrpSpPr>
            <p:cNvPr id="672" name="Group 21"/>
            <p:cNvGrpSpPr/>
            <p:nvPr/>
          </p:nvGrpSpPr>
          <p:grpSpPr>
            <a:xfrm>
              <a:off x="7000920" y="1997640"/>
              <a:ext cx="1052280" cy="3717360"/>
              <a:chOff x="7000920" y="1997640"/>
              <a:chExt cx="1052280" cy="3717360"/>
            </a:xfrm>
          </p:grpSpPr>
          <p:sp>
            <p:nvSpPr>
              <p:cNvPr id="673" name="Rectangle 22"/>
              <p:cNvSpPr/>
              <p:nvPr/>
            </p:nvSpPr>
            <p:spPr>
              <a:xfrm>
                <a:off x="7000920" y="1997640"/>
                <a:ext cx="1052280" cy="4712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Rectangle 23"/>
              <p:cNvSpPr/>
              <p:nvPr/>
            </p:nvSpPr>
            <p:spPr>
              <a:xfrm>
                <a:off x="7000920" y="2460960"/>
                <a:ext cx="1052280" cy="473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Rectangle 24"/>
              <p:cNvSpPr/>
              <p:nvPr/>
            </p:nvSpPr>
            <p:spPr>
              <a:xfrm>
                <a:off x="7000920" y="2922840"/>
                <a:ext cx="1052280" cy="4730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Rectangle 25"/>
              <p:cNvSpPr/>
              <p:nvPr/>
            </p:nvSpPr>
            <p:spPr>
              <a:xfrm>
                <a:off x="7000920" y="3387960"/>
                <a:ext cx="1052280" cy="471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Rectangle 26"/>
              <p:cNvSpPr/>
              <p:nvPr/>
            </p:nvSpPr>
            <p:spPr>
              <a:xfrm>
                <a:off x="7000920" y="3853080"/>
                <a:ext cx="1052280" cy="4712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27"/>
              <p:cNvSpPr/>
              <p:nvPr/>
            </p:nvSpPr>
            <p:spPr>
              <a:xfrm>
                <a:off x="7000920" y="4316760"/>
                <a:ext cx="1052280" cy="473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28"/>
              <p:cNvSpPr/>
              <p:nvPr/>
            </p:nvSpPr>
            <p:spPr>
              <a:xfrm>
                <a:off x="7000920" y="4778640"/>
                <a:ext cx="1052280" cy="4730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Rectangle 29"/>
              <p:cNvSpPr/>
              <p:nvPr/>
            </p:nvSpPr>
            <p:spPr>
              <a:xfrm>
                <a:off x="7000920" y="5243760"/>
                <a:ext cx="1052280" cy="471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1" name="Round Same Side Corner Rectangle 40"/>
            <p:cNvSpPr/>
            <p:nvPr/>
          </p:nvSpPr>
          <p:spPr>
            <a:xfrm>
              <a:off x="7002360" y="1324080"/>
              <a:ext cx="1051200" cy="682560"/>
            </a:xfrm>
            <a:prstGeom prst="pi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lleg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2" name="Group 81"/>
          <p:cNvGrpSpPr/>
          <p:nvPr/>
        </p:nvGrpSpPr>
        <p:grpSpPr>
          <a:xfrm>
            <a:off x="5945040" y="1324080"/>
            <a:ext cx="1055880" cy="4390920"/>
            <a:chOff x="5945040" y="1324080"/>
            <a:chExt cx="1055880" cy="4390920"/>
          </a:xfrm>
        </p:grpSpPr>
        <p:grpSp>
          <p:nvGrpSpPr>
            <p:cNvPr id="683" name="Group 12"/>
            <p:cNvGrpSpPr/>
            <p:nvPr/>
          </p:nvGrpSpPr>
          <p:grpSpPr>
            <a:xfrm>
              <a:off x="5946480" y="1997640"/>
              <a:ext cx="1054440" cy="3717360"/>
              <a:chOff x="5946480" y="1997640"/>
              <a:chExt cx="1054440" cy="3717360"/>
            </a:xfrm>
          </p:grpSpPr>
          <p:sp>
            <p:nvSpPr>
              <p:cNvPr id="684" name="Rectangle 13"/>
              <p:cNvSpPr/>
              <p:nvPr/>
            </p:nvSpPr>
            <p:spPr>
              <a:xfrm>
                <a:off x="5946480" y="1997640"/>
                <a:ext cx="1054440" cy="4712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Rectangle 14"/>
              <p:cNvSpPr/>
              <p:nvPr/>
            </p:nvSpPr>
            <p:spPr>
              <a:xfrm>
                <a:off x="5946480" y="2460960"/>
                <a:ext cx="1054440" cy="473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15"/>
              <p:cNvSpPr/>
              <p:nvPr/>
            </p:nvSpPr>
            <p:spPr>
              <a:xfrm>
                <a:off x="5946480" y="2922840"/>
                <a:ext cx="1054440" cy="4730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Rectangle 16"/>
              <p:cNvSpPr/>
              <p:nvPr/>
            </p:nvSpPr>
            <p:spPr>
              <a:xfrm>
                <a:off x="5946480" y="3387960"/>
                <a:ext cx="1054440" cy="471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Rectangle 17"/>
              <p:cNvSpPr/>
              <p:nvPr/>
            </p:nvSpPr>
            <p:spPr>
              <a:xfrm>
                <a:off x="5946480" y="3853080"/>
                <a:ext cx="1054440" cy="4712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Rectangle 18"/>
              <p:cNvSpPr/>
              <p:nvPr/>
            </p:nvSpPr>
            <p:spPr>
              <a:xfrm>
                <a:off x="5946480" y="4316760"/>
                <a:ext cx="1054440" cy="473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Rectangle 19"/>
              <p:cNvSpPr/>
              <p:nvPr/>
            </p:nvSpPr>
            <p:spPr>
              <a:xfrm>
                <a:off x="5946480" y="4778640"/>
                <a:ext cx="1054440" cy="473040"/>
              </a:xfrm>
              <a:prstGeom prst="rect">
                <a:avLst/>
              </a:prstGeom>
              <a:solidFill>
                <a:srgbClr val="f2f2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Rectangle 20"/>
              <p:cNvSpPr/>
              <p:nvPr/>
            </p:nvSpPr>
            <p:spPr>
              <a:xfrm>
                <a:off x="5946480" y="5243760"/>
                <a:ext cx="1054440" cy="471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Round Same Side Corner Rectangle 39"/>
            <p:cNvSpPr/>
            <p:nvPr/>
          </p:nvSpPr>
          <p:spPr>
            <a:xfrm>
              <a:off x="5945040" y="1324080"/>
              <a:ext cx="1054440" cy="6825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3" name="Rectangle 31"/>
          <p:cNvSpPr/>
          <p:nvPr/>
        </p:nvSpPr>
        <p:spPr>
          <a:xfrm>
            <a:off x="456840" y="5326200"/>
            <a:ext cx="3183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you need days off for religious holi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Rectangle 32" descr=""/>
          <p:cNvPicPr/>
          <p:nvPr/>
        </p:nvPicPr>
        <p:blipFill>
          <a:blip r:embed="rId1"/>
          <a:stretch/>
        </p:blipFill>
        <p:spPr>
          <a:xfrm>
            <a:off x="546120" y="5816520"/>
            <a:ext cx="67183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19:28:46Z</dcterms:created>
  <dc:creator>Dr. Dale Dwyer</dc:creator>
  <dc:description/>
  <dc:language>en-US</dc:language>
  <cp:lastModifiedBy>Lori Roth</cp:lastModifiedBy>
  <dcterms:modified xsi:type="dcterms:W3CDTF">2021-07-30T17:24:10Z</dcterms:modified>
  <cp:revision>314</cp:revision>
  <dc:subject>Selection</dc:subject>
  <dc:title>Selection Meth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UC5APVKEY7YA-445657348-551</vt:lpwstr>
  </property>
  <property fmtid="{D5CDD505-2E9C-101B-9397-08002B2CF9AE}" pid="3" name="_dlc_DocIdItemGuid">
    <vt:lpwstr>9a78a7e4-bcd0-48fd-b845-6dd5988e8fd2</vt:lpwstr>
  </property>
  <property fmtid="{D5CDD505-2E9C-101B-9397-08002B2CF9AE}" pid="4" name="_dlc_DocIdUrl">
    <vt:lpwstr>https://edit.shrm.org/certification/educators/_layouts/15/DocIdRedir.aspx?ID=UC5APVKEY7YA-445657348-551, UC5APVKEY7YA-445657348-551</vt:lpwstr>
  </property>
</Properties>
</file>