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2.tif" ContentType="image/tiff"/>
  <Override PartName="/ppt/media/image1.png" ContentType="image/png"/>
  <Override PartName="/ppt/media/image10.png" ContentType="image/png"/>
  <Override PartName="/ppt/media/image9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5.tif" ContentType="image/tiff"/>
  <Override PartName="/ppt/media/image2.jpeg" ContentType="image/jpeg"/>
  <Override PartName="/ppt/media/image3.png" ContentType="image/png"/>
  <Override PartName="/ppt/media/image14.tif" ContentType="image/tiff"/>
  <Override PartName="/ppt/media/image5.jpeg" ContentType="image/jpeg"/>
  <Override PartName="/ppt/media/image6.png" ContentType="image/png"/>
  <Override PartName="/ppt/media/image7.png" ContentType="image/png"/>
  <Override PartName="/ppt/media/image8.jpeg" ContentType="image/jpeg"/>
  <Override PartName="/ppt/media/image11.tif" ContentType="image/tiff"/>
  <Override PartName="/ppt/media/image13.jpeg" ContentType="image/jpe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notesMasterIdLst>
    <p:notesMasterId r:id="rId17"/>
  </p:notes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  <p:sldId id="267" r:id="rId29"/>
    <p:sldId id="268" r:id="rId30"/>
    <p:sldId id="269" r:id="rId31"/>
    <p:sldId id="270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notesMaster" Target="notesMasters/notesMaster1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slide" Target="slides/slide12.xml"/><Relationship Id="rId30" Type="http://schemas.openxmlformats.org/officeDocument/2006/relationships/slide" Target="slides/slide13.xml"/><Relationship Id="rId31" Type="http://schemas.openxmlformats.org/officeDocument/2006/relationships/slide" Target="slides/slide14.xml"/><Relationship Id="rId32" Type="http://schemas.openxmlformats.org/officeDocument/2006/relationships/slide" Target="slides/slide15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5583C-EA00-4CED-85A2-DFDCADE603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9226B-1006-4FCB-A771-C60CD36745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7A4F1-E560-4798-9DAC-F66A933EB8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3280" cy="3416040"/>
          </a:xfrm>
          <a:prstGeom prst="rect">
            <a:avLst/>
          </a:prstGeom>
          <a:ln w="0">
            <a:noFill/>
          </a:ln>
        </p:spPr>
      </p:sp>
      <p:sp>
        <p:nvSpPr>
          <p:cNvPr id="7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EFD9A-F497-49F3-B057-F08E731E31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3280" cy="3416040"/>
          </a:xfrm>
          <a:prstGeom prst="rect">
            <a:avLst/>
          </a:prstGeom>
          <a:ln w="0">
            <a:noFill/>
          </a:ln>
        </p:spPr>
      </p:sp>
      <p:sp>
        <p:nvSpPr>
          <p:cNvPr id="7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04317-D26A-4ED3-80DD-2068C89D35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Slide Number Placeholder 3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2A39E-3DB8-4DA8-945C-435AA45462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7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ime:  10 minutes or 0 minut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unning time: 90 minut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Objective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: Review main points in this modul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escription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:  Be sure that students have a fun way to remember the material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Instructional Method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: Game - Re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cript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: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ow, let’s see how much we remember about this modul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eview Exercise: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reate a fun game to review the material.  Remember to use the objectives to measure learning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escribe the performance management proces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ist the purposes of performance appraisal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iscuss who conducts performance appraisal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istinguish among types of performance appraisals including graphic rating scales, BARS, the critical incident, rankings, and forced distribu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escribe communication rater error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nduct an effective performance appraisal inter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iscuss the trends in performance apprais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Facilitator Notes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Virtu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here are many ways to review material virtually or in person.  Students can use their phones or computers to navigate to various online review websites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 few are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ahoo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Quizl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F2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ave each student submit a question on a piece of paper, crumple it up and toss it in a bucket (clean wastebasket), Instructor will then read them and give points to each team with the correct answer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y game show – Family Feud, Jeopardy, $10,000 pyramid, Password, Tic Tac To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xtra credit quizz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Slide Number Placeholder 3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6EB48-8255-439B-8913-715D929CA7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B924C-278A-42B5-9C08-93F07F91BF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5F785-4E29-47D1-A26E-089129042F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09360-6D08-4DBB-AEFF-D0C31E481D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4EC2F-ADDE-471E-9AA9-2BDE9FE361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DE87F-32D6-4E47-900C-23E13D7548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9EC94-2128-4BAD-B69B-BEA6964E59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D7864-F11C-4EF6-ADA2-80B5C424BF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90288-C4F1-4D06-9EC0-34185A1D5D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603D9-65FA-448F-8772-C83A5B9D64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28560" y="4033440"/>
            <a:ext cx="788688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28560" y="403344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670280" y="403344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28560" y="4033440"/>
            <a:ext cx="788688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628560" y="4033440"/>
            <a:ext cx="788688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628560" y="403344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4670280" y="403344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628560" y="4033440"/>
            <a:ext cx="25394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6"/>
          <p:cNvSpPr>
            <a:spLocks noGrp="1"/>
          </p:cNvSpPr>
          <p:nvPr>
            <p:ph/>
          </p:nvPr>
        </p:nvSpPr>
        <p:spPr>
          <a:xfrm>
            <a:off x="3295440" y="4033440"/>
            <a:ext cx="25394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7"/>
          <p:cNvSpPr>
            <a:spLocks noGrp="1"/>
          </p:cNvSpPr>
          <p:nvPr>
            <p:ph/>
          </p:nvPr>
        </p:nvSpPr>
        <p:spPr>
          <a:xfrm>
            <a:off x="5962320" y="4033440"/>
            <a:ext cx="25394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28560" y="403344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0280" y="403344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628560" y="403344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670280" y="403344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28560" y="4033440"/>
            <a:ext cx="788688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628560" y="4033440"/>
            <a:ext cx="788688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28560" y="403344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4670280" y="403344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28560" y="4033440"/>
            <a:ext cx="25394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95440" y="4033440"/>
            <a:ext cx="25394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62320" y="4033440"/>
            <a:ext cx="25394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628560" y="4033440"/>
            <a:ext cx="25394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/>
          </p:nvPr>
        </p:nvSpPr>
        <p:spPr>
          <a:xfrm>
            <a:off x="3295440" y="4033440"/>
            <a:ext cx="25394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7"/>
          <p:cNvSpPr>
            <a:spLocks noGrp="1"/>
          </p:cNvSpPr>
          <p:nvPr>
            <p:ph/>
          </p:nvPr>
        </p:nvSpPr>
        <p:spPr>
          <a:xfrm>
            <a:off x="5962320" y="4033440"/>
            <a:ext cx="25394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628560" y="403344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0280" y="403344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28560" y="4033440"/>
            <a:ext cx="788688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628560" y="4033440"/>
            <a:ext cx="788688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628560" y="403344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0280" y="403344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628560" y="4033440"/>
            <a:ext cx="25394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95440" y="4033440"/>
            <a:ext cx="25394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5962320" y="4033440"/>
            <a:ext cx="25394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628560" y="403344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670280" y="403344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628560" y="4033440"/>
            <a:ext cx="788688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628560" y="4033440"/>
            <a:ext cx="788688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28560" y="403344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4670280" y="403344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628560" y="4033440"/>
            <a:ext cx="25394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6"/>
          <p:cNvSpPr>
            <a:spLocks noGrp="1"/>
          </p:cNvSpPr>
          <p:nvPr>
            <p:ph/>
          </p:nvPr>
        </p:nvSpPr>
        <p:spPr>
          <a:xfrm>
            <a:off x="3295440" y="4033440"/>
            <a:ext cx="25394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7"/>
          <p:cNvSpPr>
            <a:spLocks noGrp="1"/>
          </p:cNvSpPr>
          <p:nvPr>
            <p:ph/>
          </p:nvPr>
        </p:nvSpPr>
        <p:spPr>
          <a:xfrm>
            <a:off x="5962320" y="4033440"/>
            <a:ext cx="25394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628560" y="403344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670280" y="403344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628560" y="4033440"/>
            <a:ext cx="788688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628560" y="4033440"/>
            <a:ext cx="788688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28560" y="403344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670280" y="403344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/>
          </p:nvPr>
        </p:nvSpPr>
        <p:spPr>
          <a:xfrm>
            <a:off x="628560" y="4033440"/>
            <a:ext cx="25394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6"/>
          <p:cNvSpPr>
            <a:spLocks noGrp="1"/>
          </p:cNvSpPr>
          <p:nvPr>
            <p:ph/>
          </p:nvPr>
        </p:nvSpPr>
        <p:spPr>
          <a:xfrm>
            <a:off x="3295440" y="4033440"/>
            <a:ext cx="25394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7"/>
          <p:cNvSpPr>
            <a:spLocks noGrp="1"/>
          </p:cNvSpPr>
          <p:nvPr>
            <p:ph/>
          </p:nvPr>
        </p:nvSpPr>
        <p:spPr>
          <a:xfrm>
            <a:off x="5962320" y="4033440"/>
            <a:ext cx="25394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28560" y="403344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670280" y="403344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628560" y="4033440"/>
            <a:ext cx="788688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628560" y="4033440"/>
            <a:ext cx="788688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28560" y="403344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4670280" y="403344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/>
          </p:nvPr>
        </p:nvSpPr>
        <p:spPr>
          <a:xfrm>
            <a:off x="628560" y="4033440"/>
            <a:ext cx="25394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6"/>
          <p:cNvSpPr>
            <a:spLocks noGrp="1"/>
          </p:cNvSpPr>
          <p:nvPr>
            <p:ph/>
          </p:nvPr>
        </p:nvSpPr>
        <p:spPr>
          <a:xfrm>
            <a:off x="3295440" y="4033440"/>
            <a:ext cx="25394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7"/>
          <p:cNvSpPr>
            <a:spLocks noGrp="1"/>
          </p:cNvSpPr>
          <p:nvPr>
            <p:ph/>
          </p:nvPr>
        </p:nvSpPr>
        <p:spPr>
          <a:xfrm>
            <a:off x="5962320" y="4033440"/>
            <a:ext cx="25394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ADB9F7-B5A9-4558-9850-1329863F186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D0984F-40F3-4D39-A250-3143479D81A9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B86B7D-FA85-4EFF-8123-88154074C900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090838-8576-4129-8C93-A4792A74F67D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D952A7-3438-42B1-ADD5-CF04B4ED4D66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E4060B-2686-415E-82EB-3F0C7D595DD9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628560" y="403344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602760-6C6F-4445-8843-09A36CF5BC5F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4670280" y="403344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25AF65-5395-414B-8477-B60F779CAF08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28560" y="4033440"/>
            <a:ext cx="788688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F67EFB-4968-433E-B606-C2B811773C8C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628560" y="4033440"/>
            <a:ext cx="788688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46A8E2-BF33-4EC3-8B05-6BABD4903D40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628560" y="403344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5"/>
          <p:cNvSpPr>
            <a:spLocks noGrp="1"/>
          </p:cNvSpPr>
          <p:nvPr>
            <p:ph/>
          </p:nvPr>
        </p:nvSpPr>
        <p:spPr>
          <a:xfrm>
            <a:off x="4670280" y="403344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A349DD-B7B9-4FB4-A3EC-46212F0E914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/>
          </p:nvPr>
        </p:nvSpPr>
        <p:spPr>
          <a:xfrm>
            <a:off x="628560" y="4033440"/>
            <a:ext cx="25394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6"/>
          <p:cNvSpPr>
            <a:spLocks noGrp="1"/>
          </p:cNvSpPr>
          <p:nvPr>
            <p:ph/>
          </p:nvPr>
        </p:nvSpPr>
        <p:spPr>
          <a:xfrm>
            <a:off x="3295440" y="4033440"/>
            <a:ext cx="25394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7"/>
          <p:cNvSpPr>
            <a:spLocks noGrp="1"/>
          </p:cNvSpPr>
          <p:nvPr>
            <p:ph/>
          </p:nvPr>
        </p:nvSpPr>
        <p:spPr>
          <a:xfrm>
            <a:off x="5962320" y="4033440"/>
            <a:ext cx="25394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B05226-AB15-4421-A968-CDD766CCB24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28560" y="403344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0280" y="403344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28560" y="4033440"/>
            <a:ext cx="788688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28560" y="4033440"/>
            <a:ext cx="788688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28560" y="403344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0280" y="403344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28560" y="4033440"/>
            <a:ext cx="25394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95440" y="4033440"/>
            <a:ext cx="25394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62320" y="4033440"/>
            <a:ext cx="25394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8560" y="403344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0280" y="403344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28560" y="4033440"/>
            <a:ext cx="788688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8560" y="4033440"/>
            <a:ext cx="788688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28560" y="403344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0280" y="403344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8560" y="4033440"/>
            <a:ext cx="25394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95440" y="4033440"/>
            <a:ext cx="25394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62320" y="4033440"/>
            <a:ext cx="25394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28560" y="403344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0280" y="403344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28560" y="4033440"/>
            <a:ext cx="788688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628560" y="4033440"/>
            <a:ext cx="788688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28560" y="403344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0280" y="403344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628560" y="4033440"/>
            <a:ext cx="25394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95440" y="4033440"/>
            <a:ext cx="25394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5962320" y="4033440"/>
            <a:ext cx="25394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28560" y="403344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70280" y="403344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28560" y="4033440"/>
            <a:ext cx="788688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628560" y="4033440"/>
            <a:ext cx="788688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28560" y="403344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70280" y="403344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628560" y="4033440"/>
            <a:ext cx="25394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95440" y="4033440"/>
            <a:ext cx="25394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5962320" y="4033440"/>
            <a:ext cx="25394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28560" y="403344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0280" y="403344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28560" y="4033440"/>
            <a:ext cx="788688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28560" y="403344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28560" y="4033440"/>
            <a:ext cx="788688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28560" y="403344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0280" y="403344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28560" y="4033440"/>
            <a:ext cx="25394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95440" y="4033440"/>
            <a:ext cx="25394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62320" y="4033440"/>
            <a:ext cx="25394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28560" y="403344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0280" y="403344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70280" y="403344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28560" y="4033440"/>
            <a:ext cx="788688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628560" y="4033440"/>
            <a:ext cx="788688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628560" y="403344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70280" y="403344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628560" y="4033440"/>
            <a:ext cx="25394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295440" y="4033440"/>
            <a:ext cx="25394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5962320" y="4033440"/>
            <a:ext cx="25394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28560" y="4033440"/>
            <a:ext cx="788688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28560" y="403344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670280" y="403344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628560" y="4033440"/>
            <a:ext cx="788688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628560" y="4033440"/>
            <a:ext cx="788688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28560" y="403344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670280" y="403344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628560" y="4033440"/>
            <a:ext cx="25394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/>
          </p:nvPr>
        </p:nvSpPr>
        <p:spPr>
          <a:xfrm>
            <a:off x="3295440" y="4033440"/>
            <a:ext cx="25394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7"/>
          <p:cNvSpPr>
            <a:spLocks noGrp="1"/>
          </p:cNvSpPr>
          <p:nvPr>
            <p:ph/>
          </p:nvPr>
        </p:nvSpPr>
        <p:spPr>
          <a:xfrm>
            <a:off x="5962320" y="4033440"/>
            <a:ext cx="25394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4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5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6" descr="A picture containing text, sign&#10;&#10;Description automatically generated"/>
          <p:cNvPicPr/>
          <p:nvPr/>
        </p:nvPicPr>
        <p:blipFill>
          <a:blip r:embed="rId2"/>
          <a:stretch/>
        </p:blipFill>
        <p:spPr>
          <a:xfrm>
            <a:off x="8377200" y="6176880"/>
            <a:ext cx="56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7" name="Picture 6" descr="A picture containing text, sign&#10;&#10;Description automatically generated"/>
          <p:cNvPicPr/>
          <p:nvPr/>
        </p:nvPicPr>
        <p:blipFill>
          <a:blip r:embed="rId2"/>
          <a:stretch/>
        </p:blipFill>
        <p:spPr>
          <a:xfrm>
            <a:off x="8377200" y="6176880"/>
            <a:ext cx="565200" cy="432000"/>
          </a:xfrm>
          <a:prstGeom prst="rect">
            <a:avLst/>
          </a:prstGeom>
          <a:ln w="0">
            <a:noFill/>
          </a:ln>
        </p:spPr>
      </p:pic>
      <p:sp>
        <p:nvSpPr>
          <p:cNvPr id="368" name="Rectangle 4"/>
          <p:cNvSpPr/>
          <p:nvPr/>
        </p:nvSpPr>
        <p:spPr>
          <a:xfrm>
            <a:off x="0" y="271440"/>
            <a:ext cx="5005440" cy="766800"/>
          </a:xfrm>
          <a:prstGeom prst="rect">
            <a:avLst/>
          </a:prstGeom>
          <a:solidFill>
            <a:srgbClr val="197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Picture 6" descr="A picture containing text, sign&#10;&#10;Description automatically generated"/>
          <p:cNvPicPr/>
          <p:nvPr/>
        </p:nvPicPr>
        <p:blipFill>
          <a:blip r:embed="rId2"/>
          <a:stretch/>
        </p:blipFill>
        <p:spPr>
          <a:xfrm>
            <a:off x="8377200" y="6176880"/>
            <a:ext cx="565200" cy="432000"/>
          </a:xfrm>
          <a:prstGeom prst="rect">
            <a:avLst/>
          </a:prstGeom>
          <a:ln w="0">
            <a:noFill/>
          </a:ln>
        </p:spPr>
      </p:pic>
      <p:sp>
        <p:nvSpPr>
          <p:cNvPr id="408" name="Rectangle 4"/>
          <p:cNvSpPr/>
          <p:nvPr/>
        </p:nvSpPr>
        <p:spPr>
          <a:xfrm>
            <a:off x="0" y="271440"/>
            <a:ext cx="3579840" cy="766800"/>
          </a:xfrm>
          <a:prstGeom prst="rect">
            <a:avLst/>
          </a:prstGeom>
          <a:solidFill>
            <a:srgbClr val="197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7" name="Picture 6" descr="A picture containing text, sign&#10;&#10;Description automatically generated"/>
          <p:cNvPicPr/>
          <p:nvPr/>
        </p:nvPicPr>
        <p:blipFill>
          <a:blip r:embed="rId2"/>
          <a:stretch/>
        </p:blipFill>
        <p:spPr>
          <a:xfrm>
            <a:off x="8377200" y="6176880"/>
            <a:ext cx="565200" cy="432000"/>
          </a:xfrm>
          <a:prstGeom prst="rect">
            <a:avLst/>
          </a:prstGeom>
          <a:ln w="0">
            <a:noFill/>
          </a:ln>
        </p:spPr>
      </p:pic>
      <p:sp>
        <p:nvSpPr>
          <p:cNvPr id="448" name="Rectangle 4"/>
          <p:cNvSpPr/>
          <p:nvPr/>
        </p:nvSpPr>
        <p:spPr>
          <a:xfrm>
            <a:off x="0" y="271440"/>
            <a:ext cx="3579840" cy="766800"/>
          </a:xfrm>
          <a:prstGeom prst="rect">
            <a:avLst/>
          </a:prstGeom>
          <a:solidFill>
            <a:srgbClr val="197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7" name="Picture 6" descr="A picture containing text, sign&#10;&#10;Description automatically generated"/>
          <p:cNvPicPr/>
          <p:nvPr/>
        </p:nvPicPr>
        <p:blipFill>
          <a:blip r:embed="rId2"/>
          <a:stretch/>
        </p:blipFill>
        <p:spPr>
          <a:xfrm>
            <a:off x="8377200" y="6176880"/>
            <a:ext cx="565200" cy="432000"/>
          </a:xfrm>
          <a:prstGeom prst="rect">
            <a:avLst/>
          </a:prstGeom>
          <a:ln w="0">
            <a:noFill/>
          </a:ln>
        </p:spPr>
      </p:pic>
      <p:sp>
        <p:nvSpPr>
          <p:cNvPr id="488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1b3c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9" name="Picture 5" descr="Icon&#10;&#10;Description automatically generated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0" name="Picture 7" descr="Graphical user interface, text&#10;&#10;Description automatically generated"/>
          <p:cNvPicPr/>
          <p:nvPr/>
        </p:nvPicPr>
        <p:blipFill>
          <a:blip r:embed="rId4"/>
          <a:stretch/>
        </p:blipFill>
        <p:spPr>
          <a:xfrm>
            <a:off x="8370720" y="6175440"/>
            <a:ext cx="565200" cy="433440"/>
          </a:xfrm>
          <a:prstGeom prst="rect">
            <a:avLst/>
          </a:prstGeom>
          <a:ln w="0">
            <a:noFill/>
          </a:ln>
        </p:spPr>
      </p:pic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7" name="Picture 6" descr="A picture containing text, sign&#10;&#10;Description automatically generated"/>
          <p:cNvPicPr/>
          <p:nvPr/>
        </p:nvPicPr>
        <p:blipFill>
          <a:blip r:embed="rId2"/>
          <a:stretch/>
        </p:blipFill>
        <p:spPr>
          <a:xfrm>
            <a:off x="8377200" y="6176880"/>
            <a:ext cx="565200" cy="432000"/>
          </a:xfrm>
          <a:prstGeom prst="rect">
            <a:avLst/>
          </a:prstGeom>
          <a:ln w="0">
            <a:noFill/>
          </a:ln>
        </p:spPr>
      </p:pic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 type="sldNum" idx="1"/>
          </p:nvPr>
        </p:nvSpPr>
        <p:spPr>
          <a:xfrm>
            <a:off x="480600" y="633528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776B5-6075-45FB-98AF-D548288B6AA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6" descr="A picture containing text, sign&#10;&#10;Description automatically generated"/>
          <p:cNvPicPr/>
          <p:nvPr/>
        </p:nvPicPr>
        <p:blipFill>
          <a:blip r:embed="rId2"/>
          <a:stretch/>
        </p:blipFill>
        <p:spPr>
          <a:xfrm>
            <a:off x="8377200" y="6176880"/>
            <a:ext cx="565200" cy="43200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4" descr="A picture containing person, crowd&#10;&#10;Description automatically generated"/>
          <p:cNvPicPr/>
          <p:nvPr/>
        </p:nvPicPr>
        <p:blipFill>
          <a:blip r:embed="rId3"/>
          <a:stretch/>
        </p:blipFill>
        <p:spPr>
          <a:xfrm flipH="1"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" name="Rectangle 5"/>
          <p:cNvSpPr/>
          <p:nvPr/>
        </p:nvSpPr>
        <p:spPr>
          <a:xfrm>
            <a:off x="0" y="739800"/>
            <a:ext cx="4457880" cy="3387600"/>
          </a:xfrm>
          <a:prstGeom prst="rect">
            <a:avLst/>
          </a:prstGeom>
          <a:solidFill>
            <a:srgbClr val="1b3c69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Placeholder 7" descr="Graphical user interface, text&#10;&#10;Description automatically generated"/>
          <p:cNvPicPr/>
          <p:nvPr/>
        </p:nvPicPr>
        <p:blipFill>
          <a:blip r:embed="rId4"/>
          <a:srcRect l="-3618" t="-5668" r="-2814" b="-6438"/>
          <a:stretch/>
        </p:blipFill>
        <p:spPr>
          <a:xfrm>
            <a:off x="411120" y="1101600"/>
            <a:ext cx="916200" cy="73836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6" descr="A picture containing text, sign&#10;&#10;Description automatically generated"/>
          <p:cNvPicPr/>
          <p:nvPr/>
        </p:nvPicPr>
        <p:blipFill>
          <a:blip r:embed="rId2"/>
          <a:stretch/>
        </p:blipFill>
        <p:spPr>
          <a:xfrm>
            <a:off x="8377200" y="6176880"/>
            <a:ext cx="565200" cy="432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4" descr="An aerial view of a city&#10;&#10;Description automatically generated with low confidence"/>
          <p:cNvPicPr/>
          <p:nvPr/>
        </p:nvPicPr>
        <p:blipFill>
          <a:blip r:embed="rId3"/>
          <a:stretch/>
        </p:blipFill>
        <p:spPr>
          <a:xfrm flipH="1">
            <a:off x="-360" y="0"/>
            <a:ext cx="982332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5"/>
          <p:cNvSpPr/>
          <p:nvPr/>
        </p:nvSpPr>
        <p:spPr>
          <a:xfrm>
            <a:off x="0" y="739800"/>
            <a:ext cx="4457880" cy="3387600"/>
          </a:xfrm>
          <a:prstGeom prst="rect">
            <a:avLst/>
          </a:prstGeom>
          <a:solidFill>
            <a:srgbClr val="1b3c69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Placeholder 7" descr="Graphical user interface, text&#10;&#10;Description automatically generated"/>
          <p:cNvPicPr/>
          <p:nvPr/>
        </p:nvPicPr>
        <p:blipFill>
          <a:blip r:embed="rId4"/>
          <a:srcRect l="-3618" t="-5668" r="-2814" b="-6438"/>
          <a:stretch/>
        </p:blipFill>
        <p:spPr>
          <a:xfrm>
            <a:off x="411120" y="1101600"/>
            <a:ext cx="916200" cy="73836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6" descr="A picture containing text, sign&#10;&#10;Description automatically generated"/>
          <p:cNvPicPr/>
          <p:nvPr/>
        </p:nvPicPr>
        <p:blipFill>
          <a:blip r:embed="rId2"/>
          <a:stretch/>
        </p:blipFill>
        <p:spPr>
          <a:xfrm>
            <a:off x="8377200" y="6176880"/>
            <a:ext cx="565200" cy="432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4" descr="A group of people raising their hands&#10;&#10;Description automatically generated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5"/>
          <p:cNvSpPr/>
          <p:nvPr/>
        </p:nvSpPr>
        <p:spPr>
          <a:xfrm>
            <a:off x="0" y="739800"/>
            <a:ext cx="4457880" cy="3387600"/>
          </a:xfrm>
          <a:prstGeom prst="rect">
            <a:avLst/>
          </a:prstGeom>
          <a:solidFill>
            <a:srgbClr val="1b3c69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Picture Placeholder 7" descr="Graphical user interface, text&#10;&#10;Description automatically generated"/>
          <p:cNvPicPr/>
          <p:nvPr/>
        </p:nvPicPr>
        <p:blipFill>
          <a:blip r:embed="rId4"/>
          <a:srcRect l="-3618" t="-5668" r="-2814" b="-6438"/>
          <a:stretch/>
        </p:blipFill>
        <p:spPr>
          <a:xfrm>
            <a:off x="411120" y="1101600"/>
            <a:ext cx="916200" cy="73836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6" descr="A picture containing text, sign&#10;&#10;Description automatically generated"/>
          <p:cNvPicPr/>
          <p:nvPr/>
        </p:nvPicPr>
        <p:blipFill>
          <a:blip r:embed="rId2"/>
          <a:stretch/>
        </p:blipFill>
        <p:spPr>
          <a:xfrm>
            <a:off x="8377200" y="6176880"/>
            <a:ext cx="565200" cy="43200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4"/>
          <p:cNvSpPr/>
          <p:nvPr/>
        </p:nvSpPr>
        <p:spPr>
          <a:xfrm>
            <a:off x="0" y="271440"/>
            <a:ext cx="8271000" cy="766800"/>
          </a:xfrm>
          <a:prstGeom prst="rect">
            <a:avLst/>
          </a:prstGeom>
          <a:solidFill>
            <a:srgbClr val="197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7" name="Picture 5" descr="A picture containing text, sign&#10;&#10;Description automatically generated"/>
          <p:cNvPicPr/>
          <p:nvPr/>
        </p:nvPicPr>
        <p:blipFill>
          <a:blip r:embed="rId3"/>
          <a:stretch/>
        </p:blipFill>
        <p:spPr>
          <a:xfrm>
            <a:off x="8354880" y="6176880"/>
            <a:ext cx="565200" cy="43200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6" descr="A picture containing text, sign&#10;&#10;Description automatically generated"/>
          <p:cNvPicPr/>
          <p:nvPr/>
        </p:nvPicPr>
        <p:blipFill>
          <a:blip r:embed="rId2"/>
          <a:stretch/>
        </p:blipFill>
        <p:spPr>
          <a:xfrm>
            <a:off x="8377200" y="6176880"/>
            <a:ext cx="565200" cy="432000"/>
          </a:xfrm>
          <a:prstGeom prst="rect">
            <a:avLst/>
          </a:prstGeom>
          <a:ln w="0">
            <a:noFill/>
          </a:ln>
        </p:spPr>
      </p:pic>
      <p:sp>
        <p:nvSpPr>
          <p:cNvPr id="207" name="Rectangle 4"/>
          <p:cNvSpPr/>
          <p:nvPr/>
        </p:nvSpPr>
        <p:spPr>
          <a:xfrm>
            <a:off x="0" y="271440"/>
            <a:ext cx="8271000" cy="766800"/>
          </a:xfrm>
          <a:prstGeom prst="rect">
            <a:avLst/>
          </a:prstGeom>
          <a:solidFill>
            <a:srgbClr val="197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6" descr="A picture containing text, sign&#10;&#10;Description automatically generated"/>
          <p:cNvPicPr/>
          <p:nvPr/>
        </p:nvPicPr>
        <p:blipFill>
          <a:blip r:embed="rId2"/>
          <a:stretch/>
        </p:blipFill>
        <p:spPr>
          <a:xfrm>
            <a:off x="8377200" y="6176880"/>
            <a:ext cx="565200" cy="432000"/>
          </a:xfrm>
          <a:prstGeom prst="rect">
            <a:avLst/>
          </a:prstGeom>
          <a:ln w="0">
            <a:noFill/>
          </a:ln>
        </p:spPr>
      </p:pic>
      <p:sp>
        <p:nvSpPr>
          <p:cNvPr id="247" name="Rectangle 4"/>
          <p:cNvSpPr/>
          <p:nvPr/>
        </p:nvSpPr>
        <p:spPr>
          <a:xfrm>
            <a:off x="0" y="271440"/>
            <a:ext cx="8271000" cy="766800"/>
          </a:xfrm>
          <a:prstGeom prst="rect">
            <a:avLst/>
          </a:prstGeom>
          <a:solidFill>
            <a:srgbClr val="197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Picture 6" descr="A picture containing text, sign&#10;&#10;Description automatically generated"/>
          <p:cNvPicPr/>
          <p:nvPr/>
        </p:nvPicPr>
        <p:blipFill>
          <a:blip r:embed="rId2"/>
          <a:stretch/>
        </p:blipFill>
        <p:spPr>
          <a:xfrm>
            <a:off x="8377200" y="6176880"/>
            <a:ext cx="565200" cy="432000"/>
          </a:xfrm>
          <a:prstGeom prst="rect">
            <a:avLst/>
          </a:prstGeom>
          <a:ln w="0">
            <a:noFill/>
          </a:ln>
        </p:spPr>
      </p:pic>
      <p:sp>
        <p:nvSpPr>
          <p:cNvPr id="287" name="Rectangle 4"/>
          <p:cNvSpPr/>
          <p:nvPr/>
        </p:nvSpPr>
        <p:spPr>
          <a:xfrm>
            <a:off x="0" y="271440"/>
            <a:ext cx="8271000" cy="766800"/>
          </a:xfrm>
          <a:prstGeom prst="rect">
            <a:avLst/>
          </a:prstGeom>
          <a:solidFill>
            <a:srgbClr val="197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Picture 6" descr="A picture containing text, sign&#10;&#10;Description automatically generated"/>
          <p:cNvPicPr/>
          <p:nvPr/>
        </p:nvPicPr>
        <p:blipFill>
          <a:blip r:embed="rId2"/>
          <a:stretch/>
        </p:blipFill>
        <p:spPr>
          <a:xfrm>
            <a:off x="8377200" y="6176880"/>
            <a:ext cx="565200" cy="432000"/>
          </a:xfrm>
          <a:prstGeom prst="rect">
            <a:avLst/>
          </a:prstGeom>
          <a:ln w="0">
            <a:noFill/>
          </a:ln>
        </p:spPr>
      </p:pic>
      <p:sp>
        <p:nvSpPr>
          <p:cNvPr id="327" name="Slide Number Placeholder 5"/>
          <p:cNvSpPr/>
          <p:nvPr/>
        </p:nvSpPr>
        <p:spPr>
          <a:xfrm rot="16200000">
            <a:off x="8209800" y="611640"/>
            <a:ext cx="1498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1b3c69"/>
                </a:solidFill>
                <a:latin typeface="Open Sans Condensed Light"/>
                <a:ea typeface="Open Sans Condensed Light"/>
              </a:rPr>
              <a:t>SLIDES 00</a:t>
            </a:r>
            <a:fld id="{52C97138-96A2-4CD4-9C7A-3C9CDE94A10D}" type="slidenum">
              <a:rPr b="0" lang="id-ID" sz="700" spc="-1" strike="noStrike">
                <a:solidFill>
                  <a:srgbClr val="1b3c69"/>
                </a:solidFill>
                <a:latin typeface="Open Sans Condensed Light"/>
                <a:ea typeface="Open Sans Condensed Light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8" name="Picture 5" descr="A picture containing text, sign&#10;&#10;Description automatically generated"/>
          <p:cNvPicPr/>
          <p:nvPr/>
        </p:nvPicPr>
        <p:blipFill>
          <a:blip r:embed="rId3"/>
          <a:stretch/>
        </p:blipFill>
        <p:spPr>
          <a:xfrm>
            <a:off x="8280360" y="6154560"/>
            <a:ext cx="565200" cy="432000"/>
          </a:xfrm>
          <a:prstGeom prst="rect">
            <a:avLst/>
          </a:prstGeom>
          <a:ln w="0">
            <a:noFill/>
          </a:ln>
        </p:spPr>
      </p:pic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tif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tif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69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tif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tif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4920" y="2346120"/>
            <a:ext cx="3954240" cy="109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dule 5: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formance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 type="subTitle"/>
          </p:nvPr>
        </p:nvSpPr>
        <p:spPr>
          <a:xfrm>
            <a:off x="304920" y="2063880"/>
            <a:ext cx="3954240" cy="56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Undergraduate Overview Cour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152280" y="297000"/>
            <a:ext cx="7886880" cy="766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MS PGothic"/>
              </a:rPr>
              <a:t>Performance Development - Manager’s Vie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 txBox="1"/>
          <p:nvPr/>
        </p:nvSpPr>
        <p:spPr>
          <a:xfrm>
            <a:off x="-360" y="1217520"/>
            <a:ext cx="4514760" cy="495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ear standard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courage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 difficult situ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t to know your employe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8" name="Content Placeholder 6" descr="A picture containing person, indoor&#10;&#10;Description automatically generated"/>
          <p:cNvPicPr/>
          <p:nvPr/>
        </p:nvPicPr>
        <p:blipFill>
          <a:blip r:embed="rId1"/>
          <a:stretch/>
        </p:blipFill>
        <p:spPr>
          <a:xfrm flipH="1">
            <a:off x="4266720" y="1230480"/>
            <a:ext cx="4743720" cy="273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28560" y="271440"/>
            <a:ext cx="7886880" cy="766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  <a:ea typeface="MS PGothic"/>
              </a:rPr>
              <a:t>Performance Development - Employee’s Vie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 txBox="1"/>
          <p:nvPr/>
        </p:nvSpPr>
        <p:spPr>
          <a:xfrm>
            <a:off x="304920" y="1217520"/>
            <a:ext cx="4209840" cy="495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1360" indent="-17136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ear stand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k for development and training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efo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nee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k for hel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t to know the future pl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1" name="Content Placeholder 11" descr=""/>
          <p:cNvPicPr/>
          <p:nvPr/>
        </p:nvPicPr>
        <p:blipFill>
          <a:blip r:embed="rId1"/>
          <a:stretch/>
        </p:blipFill>
        <p:spPr>
          <a:xfrm>
            <a:off x="4629240" y="1873080"/>
            <a:ext cx="388620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628560" y="271440"/>
            <a:ext cx="7886880" cy="76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The Performance Appraisal Interview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 txBox="1"/>
          <p:nvPr/>
        </p:nvSpPr>
        <p:spPr>
          <a:xfrm>
            <a:off x="628200" y="1217520"/>
            <a:ext cx="3886200" cy="536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Prepare for and Schedule Interview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onduct Interview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, constructive feed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e sandwich techniqu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-way commun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cus on behavi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What to Avoid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sonal attac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ose with Action Pla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ve date for follow 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4" name="Content Placeholder 2" descr=""/>
          <p:cNvPicPr/>
          <p:nvPr/>
        </p:nvPicPr>
        <p:blipFill>
          <a:blip r:embed="rId1"/>
          <a:stretch/>
        </p:blipFill>
        <p:spPr>
          <a:xfrm>
            <a:off x="4952880" y="1311120"/>
            <a:ext cx="388620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Freeform 6"/>
          <p:cNvSpPr/>
          <p:nvPr/>
        </p:nvSpPr>
        <p:spPr>
          <a:xfrm>
            <a:off x="1746360" y="1301760"/>
            <a:ext cx="1114200" cy="1311120"/>
          </a:xfrm>
          <a:custGeom>
            <a:avLst/>
            <a:gdLst/>
            <a:ahLst/>
            <a:rect l="l" t="t" r="r" b="b"/>
            <a:pathLst>
              <a:path w="813" h="917">
                <a:moveTo>
                  <a:pt x="296" y="0"/>
                </a:moveTo>
                <a:lnTo>
                  <a:pt x="331" y="2"/>
                </a:lnTo>
                <a:lnTo>
                  <a:pt x="367" y="9"/>
                </a:lnTo>
                <a:lnTo>
                  <a:pt x="405" y="23"/>
                </a:lnTo>
                <a:lnTo>
                  <a:pt x="444" y="41"/>
                </a:lnTo>
                <a:lnTo>
                  <a:pt x="482" y="64"/>
                </a:lnTo>
                <a:lnTo>
                  <a:pt x="521" y="91"/>
                </a:lnTo>
                <a:lnTo>
                  <a:pt x="560" y="120"/>
                </a:lnTo>
                <a:lnTo>
                  <a:pt x="598" y="152"/>
                </a:lnTo>
                <a:lnTo>
                  <a:pt x="635" y="186"/>
                </a:lnTo>
                <a:lnTo>
                  <a:pt x="670" y="221"/>
                </a:lnTo>
                <a:lnTo>
                  <a:pt x="704" y="257"/>
                </a:lnTo>
                <a:lnTo>
                  <a:pt x="736" y="293"/>
                </a:lnTo>
                <a:lnTo>
                  <a:pt x="764" y="327"/>
                </a:lnTo>
                <a:lnTo>
                  <a:pt x="791" y="361"/>
                </a:lnTo>
                <a:lnTo>
                  <a:pt x="813" y="392"/>
                </a:lnTo>
                <a:lnTo>
                  <a:pt x="640" y="917"/>
                </a:lnTo>
                <a:lnTo>
                  <a:pt x="0" y="464"/>
                </a:lnTo>
                <a:lnTo>
                  <a:pt x="1" y="460"/>
                </a:lnTo>
                <a:lnTo>
                  <a:pt x="4" y="450"/>
                </a:lnTo>
                <a:lnTo>
                  <a:pt x="8" y="434"/>
                </a:lnTo>
                <a:lnTo>
                  <a:pt x="14" y="411"/>
                </a:lnTo>
                <a:lnTo>
                  <a:pt x="21" y="386"/>
                </a:lnTo>
                <a:lnTo>
                  <a:pt x="30" y="356"/>
                </a:lnTo>
                <a:lnTo>
                  <a:pt x="41" y="323"/>
                </a:lnTo>
                <a:lnTo>
                  <a:pt x="54" y="289"/>
                </a:lnTo>
                <a:lnTo>
                  <a:pt x="68" y="253"/>
                </a:lnTo>
                <a:lnTo>
                  <a:pt x="84" y="216"/>
                </a:lnTo>
                <a:lnTo>
                  <a:pt x="102" y="181"/>
                </a:lnTo>
                <a:lnTo>
                  <a:pt x="120" y="146"/>
                </a:lnTo>
                <a:lnTo>
                  <a:pt x="140" y="113"/>
                </a:lnTo>
                <a:lnTo>
                  <a:pt x="162" y="83"/>
                </a:lnTo>
                <a:lnTo>
                  <a:pt x="185" y="57"/>
                </a:lnTo>
                <a:lnTo>
                  <a:pt x="209" y="34"/>
                </a:lnTo>
                <a:lnTo>
                  <a:pt x="236" y="17"/>
                </a:lnTo>
                <a:lnTo>
                  <a:pt x="263" y="5"/>
                </a:lnTo>
                <a:lnTo>
                  <a:pt x="296" y="0"/>
                </a:lnTo>
                <a:close/>
              </a:path>
            </a:pathLst>
          </a:custGeom>
          <a:gradFill rotWithShape="0">
            <a:gsLst>
              <a:gs pos="0">
                <a:srgbClr val="5f5f5f"/>
              </a:gs>
              <a:gs pos="100000">
                <a:srgbClr val="a6a6a6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26" name="Freeform 8"/>
          <p:cNvGrpSpPr/>
          <p:nvPr/>
        </p:nvGrpSpPr>
        <p:grpSpPr>
          <a:xfrm>
            <a:off x="6286680" y="1295280"/>
            <a:ext cx="1130040" cy="1320840"/>
            <a:chOff x="6286680" y="1295280"/>
            <a:chExt cx="1130040" cy="1320840"/>
          </a:xfrm>
        </p:grpSpPr>
        <p:pic>
          <p:nvPicPr>
            <p:cNvPr id="727" name="Freeform 8" descr=""/>
            <p:cNvPicPr/>
            <p:nvPr/>
          </p:nvPicPr>
          <p:blipFill>
            <a:blip r:embed="rId1"/>
            <a:stretch/>
          </p:blipFill>
          <p:spPr>
            <a:xfrm>
              <a:off x="6286680" y="1295280"/>
              <a:ext cx="1130040" cy="132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8" name=""/>
            <p:cNvSpPr/>
            <p:nvPr/>
          </p:nvSpPr>
          <p:spPr>
            <a:xfrm>
              <a:off x="6297480" y="1301760"/>
              <a:ext cx="1114560" cy="13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29" name="Oval 17"/>
          <p:cNvSpPr/>
          <p:nvPr/>
        </p:nvSpPr>
        <p:spPr>
          <a:xfrm>
            <a:off x="165240" y="5186520"/>
            <a:ext cx="4011480" cy="331560"/>
          </a:xfrm>
          <a:prstGeom prst="ellipse">
            <a:avLst/>
          </a:prstGeom>
          <a:gradFill rotWithShape="0">
            <a:gsLst>
              <a:gs pos="0">
                <a:srgbClr val="262626">
                  <a:alpha val="55294"/>
                </a:srgbClr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Oval 18"/>
          <p:cNvSpPr/>
          <p:nvPr/>
        </p:nvSpPr>
        <p:spPr>
          <a:xfrm>
            <a:off x="165240" y="1546200"/>
            <a:ext cx="4341600" cy="268200"/>
          </a:xfrm>
          <a:prstGeom prst="ellipse">
            <a:avLst/>
          </a:prstGeom>
          <a:gradFill rotWithShape="0">
            <a:gsLst>
              <a:gs pos="0">
                <a:srgbClr val="262626">
                  <a:alpha val="55294"/>
                </a:srgbClr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Oval 19"/>
          <p:cNvSpPr/>
          <p:nvPr/>
        </p:nvSpPr>
        <p:spPr>
          <a:xfrm>
            <a:off x="4610160" y="1546200"/>
            <a:ext cx="4341600" cy="268200"/>
          </a:xfrm>
          <a:prstGeom prst="ellipse">
            <a:avLst/>
          </a:prstGeom>
          <a:gradFill rotWithShape="0">
            <a:gsLst>
              <a:gs pos="0">
                <a:srgbClr val="262626">
                  <a:alpha val="55294"/>
                </a:srgbClr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Oval 20"/>
          <p:cNvSpPr/>
          <p:nvPr/>
        </p:nvSpPr>
        <p:spPr>
          <a:xfrm>
            <a:off x="4984920" y="5186520"/>
            <a:ext cx="4011480" cy="331560"/>
          </a:xfrm>
          <a:prstGeom prst="ellipse">
            <a:avLst/>
          </a:prstGeom>
          <a:gradFill rotWithShape="0">
            <a:gsLst>
              <a:gs pos="0">
                <a:srgbClr val="262626">
                  <a:alpha val="55294"/>
                </a:srgbClr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Rectangle 15"/>
          <p:cNvSpPr/>
          <p:nvPr/>
        </p:nvSpPr>
        <p:spPr>
          <a:xfrm>
            <a:off x="0" y="1704960"/>
            <a:ext cx="9144000" cy="363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Freeform 7"/>
          <p:cNvSpPr/>
          <p:nvPr/>
        </p:nvSpPr>
        <p:spPr>
          <a:xfrm>
            <a:off x="1978200" y="1295280"/>
            <a:ext cx="2560320" cy="1619280"/>
          </a:xfrm>
          <a:custGeom>
            <a:avLst/>
            <a:gdLst/>
            <a:ahLst/>
            <a:rect l="l" t="t" r="r" b="b"/>
            <a:pathLst>
              <a:path w="1869" h="1133">
                <a:moveTo>
                  <a:pt x="156" y="0"/>
                </a:moveTo>
                <a:lnTo>
                  <a:pt x="1233" y="0"/>
                </a:lnTo>
                <a:lnTo>
                  <a:pt x="1241" y="2"/>
                </a:lnTo>
                <a:lnTo>
                  <a:pt x="1251" y="4"/>
                </a:lnTo>
                <a:lnTo>
                  <a:pt x="1263" y="10"/>
                </a:lnTo>
                <a:lnTo>
                  <a:pt x="1280" y="19"/>
                </a:lnTo>
                <a:lnTo>
                  <a:pt x="1298" y="32"/>
                </a:lnTo>
                <a:lnTo>
                  <a:pt x="1319" y="49"/>
                </a:lnTo>
                <a:lnTo>
                  <a:pt x="1391" y="122"/>
                </a:lnTo>
                <a:lnTo>
                  <a:pt x="1411" y="143"/>
                </a:lnTo>
                <a:lnTo>
                  <a:pt x="1435" y="166"/>
                </a:lnTo>
                <a:lnTo>
                  <a:pt x="1459" y="190"/>
                </a:lnTo>
                <a:lnTo>
                  <a:pt x="1484" y="214"/>
                </a:lnTo>
                <a:lnTo>
                  <a:pt x="1534" y="264"/>
                </a:lnTo>
                <a:lnTo>
                  <a:pt x="1559" y="288"/>
                </a:lnTo>
                <a:lnTo>
                  <a:pt x="1583" y="312"/>
                </a:lnTo>
                <a:lnTo>
                  <a:pt x="1607" y="333"/>
                </a:lnTo>
                <a:lnTo>
                  <a:pt x="1627" y="354"/>
                </a:lnTo>
                <a:lnTo>
                  <a:pt x="1647" y="372"/>
                </a:lnTo>
                <a:lnTo>
                  <a:pt x="1663" y="388"/>
                </a:lnTo>
                <a:lnTo>
                  <a:pt x="1677" y="401"/>
                </a:lnTo>
                <a:lnTo>
                  <a:pt x="1696" y="420"/>
                </a:lnTo>
                <a:lnTo>
                  <a:pt x="1790" y="324"/>
                </a:lnTo>
                <a:lnTo>
                  <a:pt x="1791" y="324"/>
                </a:lnTo>
                <a:lnTo>
                  <a:pt x="1796" y="323"/>
                </a:lnTo>
                <a:lnTo>
                  <a:pt x="1803" y="322"/>
                </a:lnTo>
                <a:lnTo>
                  <a:pt x="1812" y="321"/>
                </a:lnTo>
                <a:lnTo>
                  <a:pt x="1822" y="321"/>
                </a:lnTo>
                <a:lnTo>
                  <a:pt x="1832" y="323"/>
                </a:lnTo>
                <a:lnTo>
                  <a:pt x="1842" y="328"/>
                </a:lnTo>
                <a:lnTo>
                  <a:pt x="1852" y="336"/>
                </a:lnTo>
                <a:lnTo>
                  <a:pt x="1860" y="348"/>
                </a:lnTo>
                <a:lnTo>
                  <a:pt x="1865" y="363"/>
                </a:lnTo>
                <a:lnTo>
                  <a:pt x="1867" y="385"/>
                </a:lnTo>
                <a:lnTo>
                  <a:pt x="1867" y="402"/>
                </a:lnTo>
                <a:lnTo>
                  <a:pt x="1869" y="427"/>
                </a:lnTo>
                <a:lnTo>
                  <a:pt x="1869" y="873"/>
                </a:lnTo>
                <a:lnTo>
                  <a:pt x="1867" y="917"/>
                </a:lnTo>
                <a:lnTo>
                  <a:pt x="1867" y="1060"/>
                </a:lnTo>
                <a:lnTo>
                  <a:pt x="1866" y="1065"/>
                </a:lnTo>
                <a:lnTo>
                  <a:pt x="1865" y="1074"/>
                </a:lnTo>
                <a:lnTo>
                  <a:pt x="1862" y="1084"/>
                </a:lnTo>
                <a:lnTo>
                  <a:pt x="1857" y="1095"/>
                </a:lnTo>
                <a:lnTo>
                  <a:pt x="1851" y="1107"/>
                </a:lnTo>
                <a:lnTo>
                  <a:pt x="1842" y="1117"/>
                </a:lnTo>
                <a:lnTo>
                  <a:pt x="1831" y="1126"/>
                </a:lnTo>
                <a:lnTo>
                  <a:pt x="1816" y="1131"/>
                </a:lnTo>
                <a:lnTo>
                  <a:pt x="1798" y="1133"/>
                </a:lnTo>
                <a:lnTo>
                  <a:pt x="1110" y="1133"/>
                </a:lnTo>
                <a:lnTo>
                  <a:pt x="1105" y="1132"/>
                </a:lnTo>
                <a:lnTo>
                  <a:pt x="1098" y="1131"/>
                </a:lnTo>
                <a:lnTo>
                  <a:pt x="1089" y="1128"/>
                </a:lnTo>
                <a:lnTo>
                  <a:pt x="1079" y="1123"/>
                </a:lnTo>
                <a:lnTo>
                  <a:pt x="1070" y="1118"/>
                </a:lnTo>
                <a:lnTo>
                  <a:pt x="1062" y="1109"/>
                </a:lnTo>
                <a:lnTo>
                  <a:pt x="1055" y="1099"/>
                </a:lnTo>
                <a:lnTo>
                  <a:pt x="1053" y="1085"/>
                </a:lnTo>
                <a:lnTo>
                  <a:pt x="1054" y="1070"/>
                </a:lnTo>
                <a:lnTo>
                  <a:pt x="1060" y="1050"/>
                </a:lnTo>
                <a:lnTo>
                  <a:pt x="1151" y="964"/>
                </a:lnTo>
                <a:lnTo>
                  <a:pt x="281" y="98"/>
                </a:lnTo>
                <a:lnTo>
                  <a:pt x="278" y="96"/>
                </a:lnTo>
                <a:lnTo>
                  <a:pt x="272" y="91"/>
                </a:lnTo>
                <a:lnTo>
                  <a:pt x="262" y="83"/>
                </a:lnTo>
                <a:lnTo>
                  <a:pt x="248" y="73"/>
                </a:lnTo>
                <a:lnTo>
                  <a:pt x="232" y="63"/>
                </a:lnTo>
                <a:lnTo>
                  <a:pt x="213" y="52"/>
                </a:lnTo>
                <a:lnTo>
                  <a:pt x="191" y="43"/>
                </a:lnTo>
                <a:lnTo>
                  <a:pt x="168" y="35"/>
                </a:lnTo>
                <a:lnTo>
                  <a:pt x="142" y="32"/>
                </a:lnTo>
                <a:lnTo>
                  <a:pt x="115" y="32"/>
                </a:lnTo>
                <a:lnTo>
                  <a:pt x="87" y="35"/>
                </a:lnTo>
                <a:lnTo>
                  <a:pt x="58" y="45"/>
                </a:lnTo>
                <a:lnTo>
                  <a:pt x="29" y="63"/>
                </a:lnTo>
                <a:lnTo>
                  <a:pt x="0" y="87"/>
                </a:lnTo>
                <a:lnTo>
                  <a:pt x="1" y="84"/>
                </a:lnTo>
                <a:lnTo>
                  <a:pt x="8" y="78"/>
                </a:lnTo>
                <a:lnTo>
                  <a:pt x="15" y="68"/>
                </a:lnTo>
                <a:lnTo>
                  <a:pt x="28" y="57"/>
                </a:lnTo>
                <a:lnTo>
                  <a:pt x="42" y="44"/>
                </a:lnTo>
                <a:lnTo>
                  <a:pt x="60" y="32"/>
                </a:lnTo>
                <a:lnTo>
                  <a:pt x="80" y="20"/>
                </a:lnTo>
                <a:lnTo>
                  <a:pt x="103" y="10"/>
                </a:lnTo>
                <a:lnTo>
                  <a:pt x="128" y="3"/>
                </a:lnTo>
                <a:lnTo>
                  <a:pt x="156" y="0"/>
                </a:ln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Freeform 9"/>
          <p:cNvSpPr/>
          <p:nvPr/>
        </p:nvSpPr>
        <p:spPr>
          <a:xfrm>
            <a:off x="4591080" y="1295280"/>
            <a:ext cx="2562120" cy="1619280"/>
          </a:xfrm>
          <a:custGeom>
            <a:avLst/>
            <a:gdLst/>
            <a:ahLst/>
            <a:rect l="l" t="t" r="r" b="b"/>
            <a:pathLst>
              <a:path w="1869" h="1133">
                <a:moveTo>
                  <a:pt x="636" y="0"/>
                </a:moveTo>
                <a:lnTo>
                  <a:pt x="1714" y="0"/>
                </a:lnTo>
                <a:lnTo>
                  <a:pt x="1741" y="3"/>
                </a:lnTo>
                <a:lnTo>
                  <a:pt x="1766" y="10"/>
                </a:lnTo>
                <a:lnTo>
                  <a:pt x="1789" y="20"/>
                </a:lnTo>
                <a:lnTo>
                  <a:pt x="1809" y="32"/>
                </a:lnTo>
                <a:lnTo>
                  <a:pt x="1828" y="44"/>
                </a:lnTo>
                <a:lnTo>
                  <a:pt x="1841" y="57"/>
                </a:lnTo>
                <a:lnTo>
                  <a:pt x="1854" y="68"/>
                </a:lnTo>
                <a:lnTo>
                  <a:pt x="1861" y="78"/>
                </a:lnTo>
                <a:lnTo>
                  <a:pt x="1868" y="84"/>
                </a:lnTo>
                <a:lnTo>
                  <a:pt x="1869" y="87"/>
                </a:lnTo>
                <a:lnTo>
                  <a:pt x="1840" y="63"/>
                </a:lnTo>
                <a:lnTo>
                  <a:pt x="1811" y="45"/>
                </a:lnTo>
                <a:lnTo>
                  <a:pt x="1782" y="35"/>
                </a:lnTo>
                <a:lnTo>
                  <a:pt x="1755" y="32"/>
                </a:lnTo>
                <a:lnTo>
                  <a:pt x="1727" y="32"/>
                </a:lnTo>
                <a:lnTo>
                  <a:pt x="1702" y="35"/>
                </a:lnTo>
                <a:lnTo>
                  <a:pt x="1678" y="43"/>
                </a:lnTo>
                <a:lnTo>
                  <a:pt x="1656" y="52"/>
                </a:lnTo>
                <a:lnTo>
                  <a:pt x="1637" y="63"/>
                </a:lnTo>
                <a:lnTo>
                  <a:pt x="1621" y="73"/>
                </a:lnTo>
                <a:lnTo>
                  <a:pt x="1607" y="83"/>
                </a:lnTo>
                <a:lnTo>
                  <a:pt x="1597" y="91"/>
                </a:lnTo>
                <a:lnTo>
                  <a:pt x="1591" y="96"/>
                </a:lnTo>
                <a:lnTo>
                  <a:pt x="1588" y="98"/>
                </a:lnTo>
                <a:lnTo>
                  <a:pt x="720" y="964"/>
                </a:lnTo>
                <a:lnTo>
                  <a:pt x="809" y="1050"/>
                </a:lnTo>
                <a:lnTo>
                  <a:pt x="815" y="1070"/>
                </a:lnTo>
                <a:lnTo>
                  <a:pt x="816" y="1085"/>
                </a:lnTo>
                <a:lnTo>
                  <a:pt x="814" y="1099"/>
                </a:lnTo>
                <a:lnTo>
                  <a:pt x="808" y="1109"/>
                </a:lnTo>
                <a:lnTo>
                  <a:pt x="799" y="1118"/>
                </a:lnTo>
                <a:lnTo>
                  <a:pt x="790" y="1123"/>
                </a:lnTo>
                <a:lnTo>
                  <a:pt x="780" y="1128"/>
                </a:lnTo>
                <a:lnTo>
                  <a:pt x="771" y="1131"/>
                </a:lnTo>
                <a:lnTo>
                  <a:pt x="764" y="1132"/>
                </a:lnTo>
                <a:lnTo>
                  <a:pt x="759" y="1133"/>
                </a:lnTo>
                <a:lnTo>
                  <a:pt x="71" y="1133"/>
                </a:lnTo>
                <a:lnTo>
                  <a:pt x="53" y="1131"/>
                </a:lnTo>
                <a:lnTo>
                  <a:pt x="38" y="1126"/>
                </a:lnTo>
                <a:lnTo>
                  <a:pt x="27" y="1117"/>
                </a:lnTo>
                <a:lnTo>
                  <a:pt x="18" y="1107"/>
                </a:lnTo>
                <a:lnTo>
                  <a:pt x="12" y="1095"/>
                </a:lnTo>
                <a:lnTo>
                  <a:pt x="7" y="1084"/>
                </a:lnTo>
                <a:lnTo>
                  <a:pt x="4" y="1074"/>
                </a:lnTo>
                <a:lnTo>
                  <a:pt x="3" y="1065"/>
                </a:lnTo>
                <a:lnTo>
                  <a:pt x="2" y="1060"/>
                </a:lnTo>
                <a:lnTo>
                  <a:pt x="2" y="917"/>
                </a:lnTo>
                <a:lnTo>
                  <a:pt x="0" y="873"/>
                </a:lnTo>
                <a:lnTo>
                  <a:pt x="0" y="427"/>
                </a:lnTo>
                <a:lnTo>
                  <a:pt x="2" y="402"/>
                </a:lnTo>
                <a:lnTo>
                  <a:pt x="2" y="385"/>
                </a:lnTo>
                <a:lnTo>
                  <a:pt x="4" y="363"/>
                </a:lnTo>
                <a:lnTo>
                  <a:pt x="9" y="348"/>
                </a:lnTo>
                <a:lnTo>
                  <a:pt x="17" y="336"/>
                </a:lnTo>
                <a:lnTo>
                  <a:pt x="27" y="328"/>
                </a:lnTo>
                <a:lnTo>
                  <a:pt x="37" y="323"/>
                </a:lnTo>
                <a:lnTo>
                  <a:pt x="47" y="321"/>
                </a:lnTo>
                <a:lnTo>
                  <a:pt x="57" y="321"/>
                </a:lnTo>
                <a:lnTo>
                  <a:pt x="66" y="322"/>
                </a:lnTo>
                <a:lnTo>
                  <a:pt x="73" y="323"/>
                </a:lnTo>
                <a:lnTo>
                  <a:pt x="78" y="324"/>
                </a:lnTo>
                <a:lnTo>
                  <a:pt x="79" y="324"/>
                </a:lnTo>
                <a:lnTo>
                  <a:pt x="173" y="420"/>
                </a:lnTo>
                <a:lnTo>
                  <a:pt x="192" y="401"/>
                </a:lnTo>
                <a:lnTo>
                  <a:pt x="206" y="388"/>
                </a:lnTo>
                <a:lnTo>
                  <a:pt x="222" y="372"/>
                </a:lnTo>
                <a:lnTo>
                  <a:pt x="242" y="354"/>
                </a:lnTo>
                <a:lnTo>
                  <a:pt x="262" y="333"/>
                </a:lnTo>
                <a:lnTo>
                  <a:pt x="286" y="312"/>
                </a:lnTo>
                <a:lnTo>
                  <a:pt x="310" y="288"/>
                </a:lnTo>
                <a:lnTo>
                  <a:pt x="335" y="264"/>
                </a:lnTo>
                <a:lnTo>
                  <a:pt x="385" y="214"/>
                </a:lnTo>
                <a:lnTo>
                  <a:pt x="410" y="190"/>
                </a:lnTo>
                <a:lnTo>
                  <a:pt x="434" y="166"/>
                </a:lnTo>
                <a:lnTo>
                  <a:pt x="458" y="143"/>
                </a:lnTo>
                <a:lnTo>
                  <a:pt x="478" y="122"/>
                </a:lnTo>
                <a:lnTo>
                  <a:pt x="551" y="49"/>
                </a:lnTo>
                <a:lnTo>
                  <a:pt x="571" y="32"/>
                </a:lnTo>
                <a:lnTo>
                  <a:pt x="589" y="19"/>
                </a:lnTo>
                <a:lnTo>
                  <a:pt x="606" y="10"/>
                </a:lnTo>
                <a:lnTo>
                  <a:pt x="618" y="4"/>
                </a:lnTo>
                <a:lnTo>
                  <a:pt x="628" y="2"/>
                </a:lnTo>
                <a:lnTo>
                  <a:pt x="636" y="0"/>
                </a:lnTo>
                <a:close/>
              </a:path>
            </a:pathLst>
          </a:cu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Oval 21"/>
          <p:cNvSpPr/>
          <p:nvPr/>
        </p:nvSpPr>
        <p:spPr>
          <a:xfrm>
            <a:off x="263520" y="5753160"/>
            <a:ext cx="8616960" cy="342720"/>
          </a:xfrm>
          <a:prstGeom prst="ellipse">
            <a:avLst/>
          </a:prstGeom>
          <a:gradFill rotWithShape="0">
            <a:gsLst>
              <a:gs pos="0">
                <a:srgbClr val="262626">
                  <a:alpha val="31372"/>
                </a:srgbClr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TextBox 27"/>
          <p:cNvSpPr/>
          <p:nvPr/>
        </p:nvSpPr>
        <p:spPr>
          <a:xfrm>
            <a:off x="1278000" y="3325680"/>
            <a:ext cx="2894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hort, informal cha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TextBox 29"/>
          <p:cNvSpPr/>
          <p:nvPr/>
        </p:nvSpPr>
        <p:spPr>
          <a:xfrm>
            <a:off x="4984920" y="3324240"/>
            <a:ext cx="3090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parat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erformance appraisal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rom compens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628560" y="271440"/>
            <a:ext cx="7886880" cy="76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Trends in Performance Managemen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0" name="Picture 5" descr="Text&#10;&#10;Description automatically generated"/>
          <p:cNvPicPr/>
          <p:nvPr/>
        </p:nvPicPr>
        <p:blipFill>
          <a:blip r:embed="rId1"/>
          <a:stretch/>
        </p:blipFill>
        <p:spPr>
          <a:xfrm>
            <a:off x="182520" y="316080"/>
            <a:ext cx="8961480" cy="58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628560" y="271440"/>
            <a:ext cx="7886880" cy="76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Resource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 txBox="1"/>
          <p:nvPr/>
        </p:nvSpPr>
        <p:spPr>
          <a:xfrm>
            <a:off x="628560" y="1162080"/>
            <a:ext cx="7886880" cy="488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628560" y="271440"/>
            <a:ext cx="7886880" cy="76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Learning Objective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304560" y="1038240"/>
            <a:ext cx="8057880" cy="55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Describe the performance management proces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List the purposes of performance appraisal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Discuss who conducts performance appraisal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xplore types of performance appraisal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Describe communication rater error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List best practices for an effective performance appraisal interview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Discuss the trends in performance appraisa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25360" y="228600"/>
            <a:ext cx="7886880" cy="76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The Performance Management Proces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9" name="Group 3"/>
          <p:cNvGrpSpPr/>
          <p:nvPr/>
        </p:nvGrpSpPr>
        <p:grpSpPr>
          <a:xfrm>
            <a:off x="2362320" y="1905120"/>
            <a:ext cx="4022640" cy="3858840"/>
            <a:chOff x="2362320" y="1905120"/>
            <a:chExt cx="4022640" cy="3858840"/>
          </a:xfrm>
        </p:grpSpPr>
        <p:sp>
          <p:nvSpPr>
            <p:cNvPr id="620" name="Oval 47"/>
            <p:cNvSpPr/>
            <p:nvPr/>
          </p:nvSpPr>
          <p:spPr>
            <a:xfrm flipV="1">
              <a:off x="2503440" y="5579640"/>
              <a:ext cx="3740400" cy="183960"/>
            </a:xfrm>
            <a:prstGeom prst="ellipse">
              <a:avLst/>
            </a:prstGeom>
            <a:gradFill rotWithShape="0">
              <a:gsLst>
                <a:gs pos="0">
                  <a:srgbClr val="0d0d0d">
                    <a:alpha val="15294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1" name="Freeform 6"/>
            <p:cNvSpPr/>
            <p:nvPr/>
          </p:nvSpPr>
          <p:spPr>
            <a:xfrm>
              <a:off x="2362320" y="2079360"/>
              <a:ext cx="1799280" cy="1581840"/>
            </a:xfrm>
            <a:custGeom>
              <a:avLst/>
              <a:gdLst/>
              <a:ahLst/>
              <a:rect l="l" t="t" r="r" b="b"/>
              <a:pathLst>
                <a:path w="1702" h="1496">
                  <a:moveTo>
                    <a:pt x="860" y="0"/>
                  </a:moveTo>
                  <a:lnTo>
                    <a:pt x="879" y="5"/>
                  </a:lnTo>
                  <a:lnTo>
                    <a:pt x="897" y="16"/>
                  </a:lnTo>
                  <a:lnTo>
                    <a:pt x="914" y="33"/>
                  </a:lnTo>
                  <a:lnTo>
                    <a:pt x="931" y="55"/>
                  </a:lnTo>
                  <a:lnTo>
                    <a:pt x="1683" y="1357"/>
                  </a:lnTo>
                  <a:lnTo>
                    <a:pt x="1696" y="1382"/>
                  </a:lnTo>
                  <a:lnTo>
                    <a:pt x="1702" y="1405"/>
                  </a:lnTo>
                  <a:lnTo>
                    <a:pt x="1702" y="1427"/>
                  </a:lnTo>
                  <a:lnTo>
                    <a:pt x="1697" y="1446"/>
                  </a:lnTo>
                  <a:lnTo>
                    <a:pt x="1688" y="1462"/>
                  </a:lnTo>
                  <a:lnTo>
                    <a:pt x="1673" y="1476"/>
                  </a:lnTo>
                  <a:lnTo>
                    <a:pt x="1654" y="1487"/>
                  </a:lnTo>
                  <a:lnTo>
                    <a:pt x="1631" y="1493"/>
                  </a:lnTo>
                  <a:lnTo>
                    <a:pt x="1604" y="1496"/>
                  </a:lnTo>
                  <a:lnTo>
                    <a:pt x="99" y="1496"/>
                  </a:lnTo>
                  <a:lnTo>
                    <a:pt x="72" y="1493"/>
                  </a:lnTo>
                  <a:lnTo>
                    <a:pt x="48" y="1487"/>
                  </a:lnTo>
                  <a:lnTo>
                    <a:pt x="29" y="1476"/>
                  </a:lnTo>
                  <a:lnTo>
                    <a:pt x="15" y="1462"/>
                  </a:lnTo>
                  <a:lnTo>
                    <a:pt x="5" y="1446"/>
                  </a:lnTo>
                  <a:lnTo>
                    <a:pt x="0" y="1427"/>
                  </a:lnTo>
                  <a:lnTo>
                    <a:pt x="1" y="1405"/>
                  </a:lnTo>
                  <a:lnTo>
                    <a:pt x="7" y="1382"/>
                  </a:lnTo>
                  <a:lnTo>
                    <a:pt x="18" y="1357"/>
                  </a:lnTo>
                  <a:lnTo>
                    <a:pt x="770" y="55"/>
                  </a:lnTo>
                  <a:lnTo>
                    <a:pt x="786" y="33"/>
                  </a:lnTo>
                  <a:lnTo>
                    <a:pt x="804" y="16"/>
                  </a:lnTo>
                  <a:lnTo>
                    <a:pt x="821" y="5"/>
                  </a:lnTo>
                  <a:lnTo>
                    <a:pt x="841" y="0"/>
                  </a:lnTo>
                  <a:lnTo>
                    <a:pt x="860" y="0"/>
                  </a:lnTo>
                  <a:close/>
                </a:path>
              </a:pathLst>
            </a:custGeom>
            <a:solidFill>
              <a:srgbClr val="4472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2" name="Freeform 7"/>
            <p:cNvSpPr/>
            <p:nvPr/>
          </p:nvSpPr>
          <p:spPr>
            <a:xfrm>
              <a:off x="2362320" y="3829320"/>
              <a:ext cx="1798560" cy="1582560"/>
            </a:xfrm>
            <a:custGeom>
              <a:avLst/>
              <a:gdLst/>
              <a:ahLst/>
              <a:rect l="l" t="t" r="r" b="b"/>
              <a:pathLst>
                <a:path w="1702" h="1496">
                  <a:moveTo>
                    <a:pt x="99" y="0"/>
                  </a:moveTo>
                  <a:lnTo>
                    <a:pt x="1604" y="0"/>
                  </a:lnTo>
                  <a:lnTo>
                    <a:pt x="1631" y="2"/>
                  </a:lnTo>
                  <a:lnTo>
                    <a:pt x="1654" y="9"/>
                  </a:lnTo>
                  <a:lnTo>
                    <a:pt x="1673" y="20"/>
                  </a:lnTo>
                  <a:lnTo>
                    <a:pt x="1688" y="34"/>
                  </a:lnTo>
                  <a:lnTo>
                    <a:pt x="1697" y="50"/>
                  </a:lnTo>
                  <a:lnTo>
                    <a:pt x="1702" y="69"/>
                  </a:lnTo>
                  <a:lnTo>
                    <a:pt x="1702" y="91"/>
                  </a:lnTo>
                  <a:lnTo>
                    <a:pt x="1695" y="114"/>
                  </a:lnTo>
                  <a:lnTo>
                    <a:pt x="1683" y="139"/>
                  </a:lnTo>
                  <a:lnTo>
                    <a:pt x="931" y="1439"/>
                  </a:lnTo>
                  <a:lnTo>
                    <a:pt x="914" y="1462"/>
                  </a:lnTo>
                  <a:lnTo>
                    <a:pt x="897" y="1479"/>
                  </a:lnTo>
                  <a:lnTo>
                    <a:pt x="879" y="1490"/>
                  </a:lnTo>
                  <a:lnTo>
                    <a:pt x="859" y="1496"/>
                  </a:lnTo>
                  <a:lnTo>
                    <a:pt x="841" y="1496"/>
                  </a:lnTo>
                  <a:lnTo>
                    <a:pt x="821" y="1490"/>
                  </a:lnTo>
                  <a:lnTo>
                    <a:pt x="802" y="1479"/>
                  </a:lnTo>
                  <a:lnTo>
                    <a:pt x="785" y="1462"/>
                  </a:lnTo>
                  <a:lnTo>
                    <a:pt x="770" y="1439"/>
                  </a:lnTo>
                  <a:lnTo>
                    <a:pt x="18" y="139"/>
                  </a:lnTo>
                  <a:lnTo>
                    <a:pt x="7" y="114"/>
                  </a:lnTo>
                  <a:lnTo>
                    <a:pt x="1" y="91"/>
                  </a:lnTo>
                  <a:lnTo>
                    <a:pt x="0" y="69"/>
                  </a:lnTo>
                  <a:lnTo>
                    <a:pt x="5" y="50"/>
                  </a:lnTo>
                  <a:lnTo>
                    <a:pt x="15" y="34"/>
                  </a:lnTo>
                  <a:lnTo>
                    <a:pt x="29" y="20"/>
                  </a:lnTo>
                  <a:lnTo>
                    <a:pt x="48" y="9"/>
                  </a:lnTo>
                  <a:lnTo>
                    <a:pt x="72" y="2"/>
                  </a:lnTo>
                  <a:lnTo>
                    <a:pt x="99" y="0"/>
                  </a:lnTo>
                  <a:close/>
                </a:path>
              </a:pathLst>
            </a:custGeom>
            <a:solidFill>
              <a:srgbClr val="70ad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3" name="Freeform 8"/>
            <p:cNvSpPr/>
            <p:nvPr/>
          </p:nvSpPr>
          <p:spPr>
            <a:xfrm>
              <a:off x="3470760" y="1905120"/>
              <a:ext cx="1803600" cy="1584000"/>
            </a:xfrm>
            <a:custGeom>
              <a:avLst/>
              <a:gdLst/>
              <a:ahLst/>
              <a:rect l="l" t="t" r="r" b="b"/>
              <a:pathLst>
                <a:path w="1706" h="1498">
                  <a:moveTo>
                    <a:pt x="99" y="0"/>
                  </a:moveTo>
                  <a:lnTo>
                    <a:pt x="1608" y="0"/>
                  </a:lnTo>
                  <a:lnTo>
                    <a:pt x="1635" y="2"/>
                  </a:lnTo>
                  <a:lnTo>
                    <a:pt x="1658" y="9"/>
                  </a:lnTo>
                  <a:lnTo>
                    <a:pt x="1677" y="19"/>
                  </a:lnTo>
                  <a:lnTo>
                    <a:pt x="1692" y="33"/>
                  </a:lnTo>
                  <a:lnTo>
                    <a:pt x="1701" y="49"/>
                  </a:lnTo>
                  <a:lnTo>
                    <a:pt x="1706" y="69"/>
                  </a:lnTo>
                  <a:lnTo>
                    <a:pt x="1706" y="91"/>
                  </a:lnTo>
                  <a:lnTo>
                    <a:pt x="1699" y="114"/>
                  </a:lnTo>
                  <a:lnTo>
                    <a:pt x="1687" y="138"/>
                  </a:lnTo>
                  <a:lnTo>
                    <a:pt x="933" y="1443"/>
                  </a:lnTo>
                  <a:lnTo>
                    <a:pt x="918" y="1465"/>
                  </a:lnTo>
                  <a:lnTo>
                    <a:pt x="901" y="1482"/>
                  </a:lnTo>
                  <a:lnTo>
                    <a:pt x="883" y="1493"/>
                  </a:lnTo>
                  <a:lnTo>
                    <a:pt x="863" y="1498"/>
                  </a:lnTo>
                  <a:lnTo>
                    <a:pt x="844" y="1498"/>
                  </a:lnTo>
                  <a:lnTo>
                    <a:pt x="825" y="1493"/>
                  </a:lnTo>
                  <a:lnTo>
                    <a:pt x="806" y="1482"/>
                  </a:lnTo>
                  <a:lnTo>
                    <a:pt x="789" y="1465"/>
                  </a:lnTo>
                  <a:lnTo>
                    <a:pt x="774" y="1443"/>
                  </a:lnTo>
                  <a:lnTo>
                    <a:pt x="19" y="138"/>
                  </a:lnTo>
                  <a:lnTo>
                    <a:pt x="7" y="114"/>
                  </a:lnTo>
                  <a:lnTo>
                    <a:pt x="0" y="90"/>
                  </a:lnTo>
                  <a:lnTo>
                    <a:pt x="0" y="69"/>
                  </a:lnTo>
                  <a:lnTo>
                    <a:pt x="5" y="49"/>
                  </a:lnTo>
                  <a:lnTo>
                    <a:pt x="14" y="33"/>
                  </a:lnTo>
                  <a:lnTo>
                    <a:pt x="29" y="19"/>
                  </a:lnTo>
                  <a:lnTo>
                    <a:pt x="48" y="9"/>
                  </a:lnTo>
                  <a:lnTo>
                    <a:pt x="71" y="2"/>
                  </a:lnTo>
                  <a:lnTo>
                    <a:pt x="99" y="0"/>
                  </a:lnTo>
                  <a:close/>
                </a:path>
              </a:pathLst>
            </a:custGeom>
            <a:solidFill>
              <a:srgbClr val="ed7d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4" name="Freeform 9"/>
            <p:cNvSpPr/>
            <p:nvPr/>
          </p:nvSpPr>
          <p:spPr>
            <a:xfrm>
              <a:off x="4586400" y="2077920"/>
              <a:ext cx="1798560" cy="1582560"/>
            </a:xfrm>
            <a:custGeom>
              <a:avLst/>
              <a:gdLst/>
              <a:ahLst/>
              <a:rect l="l" t="t" r="r" b="b"/>
              <a:pathLst>
                <a:path w="1701" h="1497">
                  <a:moveTo>
                    <a:pt x="841" y="0"/>
                  </a:moveTo>
                  <a:lnTo>
                    <a:pt x="860" y="0"/>
                  </a:lnTo>
                  <a:lnTo>
                    <a:pt x="879" y="6"/>
                  </a:lnTo>
                  <a:lnTo>
                    <a:pt x="898" y="16"/>
                  </a:lnTo>
                  <a:lnTo>
                    <a:pt x="915" y="33"/>
                  </a:lnTo>
                  <a:lnTo>
                    <a:pt x="930" y="56"/>
                  </a:lnTo>
                  <a:lnTo>
                    <a:pt x="1683" y="1358"/>
                  </a:lnTo>
                  <a:lnTo>
                    <a:pt x="1694" y="1383"/>
                  </a:lnTo>
                  <a:lnTo>
                    <a:pt x="1700" y="1406"/>
                  </a:lnTo>
                  <a:lnTo>
                    <a:pt x="1701" y="1428"/>
                  </a:lnTo>
                  <a:lnTo>
                    <a:pt x="1697" y="1447"/>
                  </a:lnTo>
                  <a:lnTo>
                    <a:pt x="1686" y="1463"/>
                  </a:lnTo>
                  <a:lnTo>
                    <a:pt x="1673" y="1477"/>
                  </a:lnTo>
                  <a:lnTo>
                    <a:pt x="1653" y="1488"/>
                  </a:lnTo>
                  <a:lnTo>
                    <a:pt x="1630" y="1494"/>
                  </a:lnTo>
                  <a:lnTo>
                    <a:pt x="1602" y="1497"/>
                  </a:lnTo>
                  <a:lnTo>
                    <a:pt x="98" y="1497"/>
                  </a:lnTo>
                  <a:lnTo>
                    <a:pt x="70" y="1494"/>
                  </a:lnTo>
                  <a:lnTo>
                    <a:pt x="47" y="1488"/>
                  </a:lnTo>
                  <a:lnTo>
                    <a:pt x="27" y="1477"/>
                  </a:lnTo>
                  <a:lnTo>
                    <a:pt x="13" y="1463"/>
                  </a:lnTo>
                  <a:lnTo>
                    <a:pt x="4" y="1447"/>
                  </a:lnTo>
                  <a:lnTo>
                    <a:pt x="0" y="1428"/>
                  </a:lnTo>
                  <a:lnTo>
                    <a:pt x="0" y="1406"/>
                  </a:lnTo>
                  <a:lnTo>
                    <a:pt x="5" y="1383"/>
                  </a:lnTo>
                  <a:lnTo>
                    <a:pt x="18" y="1358"/>
                  </a:lnTo>
                  <a:lnTo>
                    <a:pt x="771" y="56"/>
                  </a:lnTo>
                  <a:lnTo>
                    <a:pt x="786" y="33"/>
                  </a:lnTo>
                  <a:lnTo>
                    <a:pt x="803" y="16"/>
                  </a:lnTo>
                  <a:lnTo>
                    <a:pt x="822" y="4"/>
                  </a:lnTo>
                  <a:lnTo>
                    <a:pt x="841" y="0"/>
                  </a:lnTo>
                  <a:close/>
                </a:path>
              </a:pathLst>
            </a:cu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5" name="Freeform 10"/>
            <p:cNvSpPr/>
            <p:nvPr/>
          </p:nvSpPr>
          <p:spPr>
            <a:xfrm>
              <a:off x="4584960" y="3829320"/>
              <a:ext cx="1800000" cy="1587600"/>
            </a:xfrm>
            <a:custGeom>
              <a:avLst/>
              <a:gdLst/>
              <a:ahLst/>
              <a:rect l="l" t="t" r="r" b="b"/>
              <a:pathLst>
                <a:path w="1703" h="1501">
                  <a:moveTo>
                    <a:pt x="100" y="0"/>
                  </a:moveTo>
                  <a:lnTo>
                    <a:pt x="1604" y="0"/>
                  </a:lnTo>
                  <a:lnTo>
                    <a:pt x="1632" y="2"/>
                  </a:lnTo>
                  <a:lnTo>
                    <a:pt x="1655" y="9"/>
                  </a:lnTo>
                  <a:lnTo>
                    <a:pt x="1675" y="20"/>
                  </a:lnTo>
                  <a:lnTo>
                    <a:pt x="1688" y="34"/>
                  </a:lnTo>
                  <a:lnTo>
                    <a:pt x="1699" y="50"/>
                  </a:lnTo>
                  <a:lnTo>
                    <a:pt x="1703" y="69"/>
                  </a:lnTo>
                  <a:lnTo>
                    <a:pt x="1702" y="91"/>
                  </a:lnTo>
                  <a:lnTo>
                    <a:pt x="1696" y="114"/>
                  </a:lnTo>
                  <a:lnTo>
                    <a:pt x="1685" y="139"/>
                  </a:lnTo>
                  <a:lnTo>
                    <a:pt x="931" y="1444"/>
                  </a:lnTo>
                  <a:lnTo>
                    <a:pt x="916" y="1466"/>
                  </a:lnTo>
                  <a:lnTo>
                    <a:pt x="899" y="1483"/>
                  </a:lnTo>
                  <a:lnTo>
                    <a:pt x="880" y="1495"/>
                  </a:lnTo>
                  <a:lnTo>
                    <a:pt x="861" y="1501"/>
                  </a:lnTo>
                  <a:lnTo>
                    <a:pt x="842" y="1501"/>
                  </a:lnTo>
                  <a:lnTo>
                    <a:pt x="822" y="1495"/>
                  </a:lnTo>
                  <a:lnTo>
                    <a:pt x="804" y="1483"/>
                  </a:lnTo>
                  <a:lnTo>
                    <a:pt x="787" y="1466"/>
                  </a:lnTo>
                  <a:lnTo>
                    <a:pt x="772" y="1444"/>
                  </a:lnTo>
                  <a:lnTo>
                    <a:pt x="19" y="140"/>
                  </a:lnTo>
                  <a:lnTo>
                    <a:pt x="7" y="114"/>
                  </a:lnTo>
                  <a:lnTo>
                    <a:pt x="2" y="91"/>
                  </a:lnTo>
                  <a:lnTo>
                    <a:pt x="0" y="69"/>
                  </a:lnTo>
                  <a:lnTo>
                    <a:pt x="5" y="50"/>
                  </a:lnTo>
                  <a:lnTo>
                    <a:pt x="15" y="34"/>
                  </a:lnTo>
                  <a:lnTo>
                    <a:pt x="29" y="20"/>
                  </a:lnTo>
                  <a:lnTo>
                    <a:pt x="49" y="9"/>
                  </a:lnTo>
                  <a:lnTo>
                    <a:pt x="72" y="2"/>
                  </a:lnTo>
                  <a:lnTo>
                    <a:pt x="100" y="0"/>
                  </a:ln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6" name="Freeform 11"/>
            <p:cNvSpPr/>
            <p:nvPr/>
          </p:nvSpPr>
          <p:spPr>
            <a:xfrm>
              <a:off x="3471840" y="4002120"/>
              <a:ext cx="1801800" cy="1582560"/>
            </a:xfrm>
            <a:custGeom>
              <a:avLst/>
              <a:gdLst/>
              <a:ahLst/>
              <a:rect l="l" t="t" r="r" b="b"/>
              <a:pathLst>
                <a:path w="1704" h="1498">
                  <a:moveTo>
                    <a:pt x="844" y="0"/>
                  </a:moveTo>
                  <a:lnTo>
                    <a:pt x="864" y="0"/>
                  </a:lnTo>
                  <a:lnTo>
                    <a:pt x="884" y="6"/>
                  </a:lnTo>
                  <a:lnTo>
                    <a:pt x="902" y="16"/>
                  </a:lnTo>
                  <a:lnTo>
                    <a:pt x="919" y="33"/>
                  </a:lnTo>
                  <a:lnTo>
                    <a:pt x="934" y="56"/>
                  </a:lnTo>
                  <a:lnTo>
                    <a:pt x="1686" y="1359"/>
                  </a:lnTo>
                  <a:lnTo>
                    <a:pt x="1698" y="1384"/>
                  </a:lnTo>
                  <a:lnTo>
                    <a:pt x="1703" y="1408"/>
                  </a:lnTo>
                  <a:lnTo>
                    <a:pt x="1704" y="1429"/>
                  </a:lnTo>
                  <a:lnTo>
                    <a:pt x="1700" y="1448"/>
                  </a:lnTo>
                  <a:lnTo>
                    <a:pt x="1689" y="1466"/>
                  </a:lnTo>
                  <a:lnTo>
                    <a:pt x="1676" y="1478"/>
                  </a:lnTo>
                  <a:lnTo>
                    <a:pt x="1656" y="1489"/>
                  </a:lnTo>
                  <a:lnTo>
                    <a:pt x="1633" y="1496"/>
                  </a:lnTo>
                  <a:lnTo>
                    <a:pt x="1605" y="1498"/>
                  </a:lnTo>
                  <a:lnTo>
                    <a:pt x="98" y="1498"/>
                  </a:lnTo>
                  <a:lnTo>
                    <a:pt x="72" y="1496"/>
                  </a:lnTo>
                  <a:lnTo>
                    <a:pt x="48" y="1489"/>
                  </a:lnTo>
                  <a:lnTo>
                    <a:pt x="29" y="1478"/>
                  </a:lnTo>
                  <a:lnTo>
                    <a:pt x="15" y="1466"/>
                  </a:lnTo>
                  <a:lnTo>
                    <a:pt x="5" y="1448"/>
                  </a:lnTo>
                  <a:lnTo>
                    <a:pt x="0" y="1429"/>
                  </a:lnTo>
                  <a:lnTo>
                    <a:pt x="1" y="1408"/>
                  </a:lnTo>
                  <a:lnTo>
                    <a:pt x="7" y="1384"/>
                  </a:lnTo>
                  <a:lnTo>
                    <a:pt x="19" y="1359"/>
                  </a:lnTo>
                  <a:lnTo>
                    <a:pt x="774" y="56"/>
                  </a:lnTo>
                  <a:lnTo>
                    <a:pt x="790" y="33"/>
                  </a:lnTo>
                  <a:lnTo>
                    <a:pt x="807" y="16"/>
                  </a:lnTo>
                  <a:lnTo>
                    <a:pt x="826" y="6"/>
                  </a:lnTo>
                  <a:lnTo>
                    <a:pt x="844" y="0"/>
                  </a:lnTo>
                  <a:close/>
                </a:path>
              </a:pathLst>
            </a:custGeom>
            <a:solidFill>
              <a:srgbClr val="5b9b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7" name="Freeform 12"/>
            <p:cNvSpPr/>
            <p:nvPr/>
          </p:nvSpPr>
          <p:spPr>
            <a:xfrm>
              <a:off x="3757680" y="3130560"/>
              <a:ext cx="1230120" cy="1230120"/>
            </a:xfrm>
            <a:custGeom>
              <a:avLst/>
              <a:gdLst/>
              <a:ahLst/>
              <a:rect l="l" t="t" r="r" b="b"/>
              <a:pathLst>
                <a:path w="1164" h="1163">
                  <a:moveTo>
                    <a:pt x="582" y="0"/>
                  </a:moveTo>
                  <a:lnTo>
                    <a:pt x="645" y="3"/>
                  </a:lnTo>
                  <a:lnTo>
                    <a:pt x="706" y="14"/>
                  </a:lnTo>
                  <a:lnTo>
                    <a:pt x="765" y="30"/>
                  </a:lnTo>
                  <a:lnTo>
                    <a:pt x="822" y="52"/>
                  </a:lnTo>
                  <a:lnTo>
                    <a:pt x="875" y="79"/>
                  </a:lnTo>
                  <a:lnTo>
                    <a:pt x="926" y="112"/>
                  </a:lnTo>
                  <a:lnTo>
                    <a:pt x="972" y="150"/>
                  </a:lnTo>
                  <a:lnTo>
                    <a:pt x="1013" y="192"/>
                  </a:lnTo>
                  <a:lnTo>
                    <a:pt x="1052" y="239"/>
                  </a:lnTo>
                  <a:lnTo>
                    <a:pt x="1084" y="288"/>
                  </a:lnTo>
                  <a:lnTo>
                    <a:pt x="1112" y="341"/>
                  </a:lnTo>
                  <a:lnTo>
                    <a:pt x="1134" y="398"/>
                  </a:lnTo>
                  <a:lnTo>
                    <a:pt x="1150" y="457"/>
                  </a:lnTo>
                  <a:lnTo>
                    <a:pt x="1160" y="518"/>
                  </a:lnTo>
                  <a:lnTo>
                    <a:pt x="1164" y="581"/>
                  </a:lnTo>
                  <a:lnTo>
                    <a:pt x="1160" y="645"/>
                  </a:lnTo>
                  <a:lnTo>
                    <a:pt x="1150" y="706"/>
                  </a:lnTo>
                  <a:lnTo>
                    <a:pt x="1134" y="765"/>
                  </a:lnTo>
                  <a:lnTo>
                    <a:pt x="1112" y="822"/>
                  </a:lnTo>
                  <a:lnTo>
                    <a:pt x="1084" y="875"/>
                  </a:lnTo>
                  <a:lnTo>
                    <a:pt x="1052" y="925"/>
                  </a:lnTo>
                  <a:lnTo>
                    <a:pt x="1013" y="972"/>
                  </a:lnTo>
                  <a:lnTo>
                    <a:pt x="972" y="1013"/>
                  </a:lnTo>
                  <a:lnTo>
                    <a:pt x="926" y="1051"/>
                  </a:lnTo>
                  <a:lnTo>
                    <a:pt x="875" y="1084"/>
                  </a:lnTo>
                  <a:lnTo>
                    <a:pt x="822" y="1111"/>
                  </a:lnTo>
                  <a:lnTo>
                    <a:pt x="765" y="1133"/>
                  </a:lnTo>
                  <a:lnTo>
                    <a:pt x="706" y="1149"/>
                  </a:lnTo>
                  <a:lnTo>
                    <a:pt x="645" y="1160"/>
                  </a:lnTo>
                  <a:lnTo>
                    <a:pt x="582" y="1163"/>
                  </a:lnTo>
                  <a:lnTo>
                    <a:pt x="518" y="1160"/>
                  </a:lnTo>
                  <a:lnTo>
                    <a:pt x="457" y="1149"/>
                  </a:lnTo>
                  <a:lnTo>
                    <a:pt x="398" y="1133"/>
                  </a:lnTo>
                  <a:lnTo>
                    <a:pt x="342" y="1111"/>
                  </a:lnTo>
                  <a:lnTo>
                    <a:pt x="288" y="1084"/>
                  </a:lnTo>
                  <a:lnTo>
                    <a:pt x="238" y="1051"/>
                  </a:lnTo>
                  <a:lnTo>
                    <a:pt x="191" y="1013"/>
                  </a:lnTo>
                  <a:lnTo>
                    <a:pt x="150" y="972"/>
                  </a:lnTo>
                  <a:lnTo>
                    <a:pt x="112" y="925"/>
                  </a:lnTo>
                  <a:lnTo>
                    <a:pt x="79" y="875"/>
                  </a:lnTo>
                  <a:lnTo>
                    <a:pt x="52" y="822"/>
                  </a:lnTo>
                  <a:lnTo>
                    <a:pt x="30" y="765"/>
                  </a:lnTo>
                  <a:lnTo>
                    <a:pt x="14" y="706"/>
                  </a:lnTo>
                  <a:lnTo>
                    <a:pt x="3" y="645"/>
                  </a:lnTo>
                  <a:lnTo>
                    <a:pt x="0" y="581"/>
                  </a:lnTo>
                  <a:lnTo>
                    <a:pt x="3" y="518"/>
                  </a:lnTo>
                  <a:lnTo>
                    <a:pt x="14" y="457"/>
                  </a:lnTo>
                  <a:lnTo>
                    <a:pt x="30" y="398"/>
                  </a:lnTo>
                  <a:lnTo>
                    <a:pt x="52" y="341"/>
                  </a:lnTo>
                  <a:lnTo>
                    <a:pt x="79" y="288"/>
                  </a:lnTo>
                  <a:lnTo>
                    <a:pt x="112" y="239"/>
                  </a:lnTo>
                  <a:lnTo>
                    <a:pt x="150" y="192"/>
                  </a:lnTo>
                  <a:lnTo>
                    <a:pt x="191" y="150"/>
                  </a:lnTo>
                  <a:lnTo>
                    <a:pt x="238" y="112"/>
                  </a:lnTo>
                  <a:lnTo>
                    <a:pt x="288" y="79"/>
                  </a:lnTo>
                  <a:lnTo>
                    <a:pt x="342" y="52"/>
                  </a:lnTo>
                  <a:lnTo>
                    <a:pt x="398" y="30"/>
                  </a:lnTo>
                  <a:lnTo>
                    <a:pt x="457" y="14"/>
                  </a:lnTo>
                  <a:lnTo>
                    <a:pt x="518" y="3"/>
                  </a:lnTo>
                  <a:lnTo>
                    <a:pt x="58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53753" dir="2700000" blurRad="0" rotWithShape="0">
                <a:srgbClr val="000000">
                  <a:alpha val="2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8" name="Rectangle 28"/>
            <p:cNvSpPr/>
            <p:nvPr/>
          </p:nvSpPr>
          <p:spPr>
            <a:xfrm>
              <a:off x="3812040" y="1973520"/>
              <a:ext cx="1230480" cy="67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oal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and Strategie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9" name="Rectangle 29"/>
            <p:cNvSpPr/>
            <p:nvPr/>
          </p:nvSpPr>
          <p:spPr>
            <a:xfrm>
              <a:off x="3687840" y="4792680"/>
              <a:ext cx="12859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stablish</a:t>
              </a:r>
              <a:r>
                <a:rPr b="0" lang="en-US" sz="10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tandard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0" name="Rectangle 30"/>
            <p:cNvSpPr/>
            <p:nvPr/>
          </p:nvSpPr>
          <p:spPr>
            <a:xfrm>
              <a:off x="4711680" y="2845440"/>
              <a:ext cx="1608120" cy="48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N" sz="1600" spc="-1" strike="noStrike">
                  <a:solidFill>
                    <a:srgbClr val="ffffff"/>
                  </a:solidFill>
                  <a:latin typeface="Arial"/>
                </a:rPr>
                <a:t>Job</a:t>
              </a:r>
              <a:r>
                <a:rPr b="0" lang="en-IN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 </a:t>
              </a:r>
              <a:r>
                <a:rPr b="0" lang="en-IN" sz="1600" spc="-1" strike="noStrike">
                  <a:solidFill>
                    <a:srgbClr val="ffffff"/>
                  </a:solidFill>
                  <a:latin typeface="Arial"/>
                </a:rPr>
                <a:t>Requirement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1" name="Rectangle 31"/>
            <p:cNvSpPr/>
            <p:nvPr/>
          </p:nvSpPr>
          <p:spPr>
            <a:xfrm>
              <a:off x="4705560" y="3988440"/>
              <a:ext cx="1558800" cy="48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stablish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Competencie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2" name="Rectangle 32"/>
            <p:cNvSpPr/>
            <p:nvPr/>
          </p:nvSpPr>
          <p:spPr>
            <a:xfrm>
              <a:off x="2671560" y="2928240"/>
              <a:ext cx="12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hare</a:t>
              </a:r>
              <a:r>
                <a:rPr b="0" lang="en-US" sz="10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Feedback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3" name="Rectangle 33"/>
            <p:cNvSpPr/>
            <p:nvPr/>
          </p:nvSpPr>
          <p:spPr>
            <a:xfrm>
              <a:off x="2573280" y="3804120"/>
              <a:ext cx="13683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valuate</a:t>
              </a:r>
              <a:r>
                <a:rPr b="0" lang="en-US" sz="10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Actual</a:t>
              </a:r>
              <a:r>
                <a:rPr b="0" lang="en-US" sz="10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Performanc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628560" y="271440"/>
            <a:ext cx="7886880" cy="76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Performance Appraisal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5" name=""/>
          <p:cNvGraphicFramePr/>
          <p:nvPr/>
        </p:nvGraphicFramePr>
        <p:xfrm>
          <a:off x="457200" y="1523880"/>
          <a:ext cx="8229600" cy="45720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Why Managers do 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not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like the proce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Why Employees do 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not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like the proce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92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36" name=""/>
          <p:cNvGraphicFramePr/>
          <p:nvPr/>
        </p:nvGraphicFramePr>
        <p:xfrm>
          <a:off x="133200" y="1298520"/>
          <a:ext cx="8553600" cy="5023080"/>
        </p:xfrm>
        <a:graphic>
          <a:graphicData uri="http://schemas.openxmlformats.org/drawingml/2006/table">
            <a:tbl>
              <a:tblPr/>
              <a:tblGrid>
                <a:gridCol w="4276800"/>
                <a:gridCol w="4276800"/>
              </a:tblGrid>
              <a:tr h="1006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Why the process is important for Manag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d7d3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Why the process is important for Employe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d7d31"/>
                    </a:solidFill>
                  </a:tcPr>
                </a:tc>
              </a:tr>
              <a:tr h="4016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e5d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e5d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30000" y="271440"/>
            <a:ext cx="7886520" cy="76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Who Appraises?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2340000" y="3589200"/>
            <a:ext cx="3627360" cy="76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MS PGothic"/>
              </a:rPr>
              <a:t>Peers – Customers - Subordinat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9" name="Content Placeholder 6" descr="A group of people posing for a photo&#10;&#10;Description automatically generated"/>
          <p:cNvPicPr/>
          <p:nvPr/>
        </p:nvPicPr>
        <p:blipFill>
          <a:blip r:embed="rId1"/>
          <a:stretch/>
        </p:blipFill>
        <p:spPr>
          <a:xfrm>
            <a:off x="2338560" y="4471920"/>
            <a:ext cx="3625560" cy="2395440"/>
          </a:xfrm>
          <a:prstGeom prst="rect">
            <a:avLst/>
          </a:prstGeom>
          <a:ln w="0">
            <a:noFill/>
          </a:ln>
        </p:spPr>
      </p:pic>
      <p:grpSp>
        <p:nvGrpSpPr>
          <p:cNvPr id="640" name="Group 9"/>
          <p:cNvGrpSpPr/>
          <p:nvPr/>
        </p:nvGrpSpPr>
        <p:grpSpPr>
          <a:xfrm>
            <a:off x="0" y="790560"/>
            <a:ext cx="2573280" cy="2774880"/>
            <a:chOff x="0" y="790560"/>
            <a:chExt cx="2573280" cy="2774880"/>
          </a:xfrm>
        </p:grpSpPr>
        <p:sp>
          <p:nvSpPr>
            <p:cNvPr id="641" name="Text Placeholder 3"/>
            <p:cNvSpPr/>
            <p:nvPr/>
          </p:nvSpPr>
          <p:spPr>
            <a:xfrm>
              <a:off x="0" y="790560"/>
              <a:ext cx="2573280" cy="76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/>
            </a:bodyPr>
            <a:p>
              <a:pPr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Supervisor</a:t>
              </a: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642" name="Picture 14" descr="A picture containing person, indoor&#10;&#10;Description automatically generated"/>
            <p:cNvPicPr/>
            <p:nvPr/>
          </p:nvPicPr>
          <p:blipFill>
            <a:blip r:embed="rId2"/>
            <a:stretch/>
          </p:blipFill>
          <p:spPr>
            <a:xfrm>
              <a:off x="242640" y="1557720"/>
              <a:ext cx="2095560" cy="2007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43" name="Text Placeholder 3"/>
          <p:cNvSpPr/>
          <p:nvPr/>
        </p:nvSpPr>
        <p:spPr>
          <a:xfrm>
            <a:off x="5807160" y="1084320"/>
            <a:ext cx="24210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MS PGothic"/>
              </a:rPr>
              <a:t>Self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4" name="Picture 15" descr="A person sitting in a chair&#10;&#10;Description automatically generated with low confidence"/>
          <p:cNvPicPr/>
          <p:nvPr/>
        </p:nvPicPr>
        <p:blipFill>
          <a:blip r:embed="rId3"/>
          <a:stretch/>
        </p:blipFill>
        <p:spPr>
          <a:xfrm>
            <a:off x="6095880" y="1557360"/>
            <a:ext cx="1843200" cy="2022480"/>
          </a:xfrm>
          <a:prstGeom prst="rect">
            <a:avLst/>
          </a:prstGeom>
          <a:ln w="0">
            <a:noFill/>
          </a:ln>
        </p:spPr>
      </p:pic>
      <p:sp>
        <p:nvSpPr>
          <p:cNvPr id="645" name="Freeform 227"/>
          <p:cNvSpPr/>
          <p:nvPr/>
        </p:nvSpPr>
        <p:spPr>
          <a:xfrm>
            <a:off x="3135240" y="1320840"/>
            <a:ext cx="2201760" cy="2206440"/>
          </a:xfrm>
          <a:custGeom>
            <a:avLst/>
            <a:gdLst/>
            <a:ahLst/>
            <a:rect l="l" t="t" r="r" b="b"/>
            <a:pathLst>
              <a:path w="1387" h="1390">
                <a:moveTo>
                  <a:pt x="694" y="88"/>
                </a:moveTo>
                <a:lnTo>
                  <a:pt x="612" y="93"/>
                </a:lnTo>
                <a:lnTo>
                  <a:pt x="532" y="109"/>
                </a:lnTo>
                <a:lnTo>
                  <a:pt x="457" y="135"/>
                </a:lnTo>
                <a:lnTo>
                  <a:pt x="387" y="170"/>
                </a:lnTo>
                <a:lnTo>
                  <a:pt x="322" y="214"/>
                </a:lnTo>
                <a:lnTo>
                  <a:pt x="265" y="265"/>
                </a:lnTo>
                <a:lnTo>
                  <a:pt x="213" y="324"/>
                </a:lnTo>
                <a:lnTo>
                  <a:pt x="170" y="387"/>
                </a:lnTo>
                <a:lnTo>
                  <a:pt x="135" y="458"/>
                </a:lnTo>
                <a:lnTo>
                  <a:pt x="109" y="534"/>
                </a:lnTo>
                <a:lnTo>
                  <a:pt x="91" y="612"/>
                </a:lnTo>
                <a:lnTo>
                  <a:pt x="88" y="694"/>
                </a:lnTo>
                <a:lnTo>
                  <a:pt x="91" y="778"/>
                </a:lnTo>
                <a:lnTo>
                  <a:pt x="109" y="856"/>
                </a:lnTo>
                <a:lnTo>
                  <a:pt x="135" y="930"/>
                </a:lnTo>
                <a:lnTo>
                  <a:pt x="170" y="1001"/>
                </a:lnTo>
                <a:lnTo>
                  <a:pt x="213" y="1066"/>
                </a:lnTo>
                <a:lnTo>
                  <a:pt x="265" y="1125"/>
                </a:lnTo>
                <a:lnTo>
                  <a:pt x="322" y="1176"/>
                </a:lnTo>
                <a:lnTo>
                  <a:pt x="387" y="1218"/>
                </a:lnTo>
                <a:lnTo>
                  <a:pt x="457" y="1255"/>
                </a:lnTo>
                <a:lnTo>
                  <a:pt x="532" y="1281"/>
                </a:lnTo>
                <a:lnTo>
                  <a:pt x="612" y="1297"/>
                </a:lnTo>
                <a:lnTo>
                  <a:pt x="694" y="1302"/>
                </a:lnTo>
                <a:lnTo>
                  <a:pt x="776" y="1297"/>
                </a:lnTo>
                <a:lnTo>
                  <a:pt x="856" y="1281"/>
                </a:lnTo>
                <a:lnTo>
                  <a:pt x="930" y="1255"/>
                </a:lnTo>
                <a:lnTo>
                  <a:pt x="1000" y="1218"/>
                </a:lnTo>
                <a:lnTo>
                  <a:pt x="1065" y="1176"/>
                </a:lnTo>
                <a:lnTo>
                  <a:pt x="1124" y="1125"/>
                </a:lnTo>
                <a:lnTo>
                  <a:pt x="1174" y="1066"/>
                </a:lnTo>
                <a:lnTo>
                  <a:pt x="1218" y="1001"/>
                </a:lnTo>
                <a:lnTo>
                  <a:pt x="1254" y="930"/>
                </a:lnTo>
                <a:lnTo>
                  <a:pt x="1279" y="856"/>
                </a:lnTo>
                <a:lnTo>
                  <a:pt x="1296" y="778"/>
                </a:lnTo>
                <a:lnTo>
                  <a:pt x="1301" y="694"/>
                </a:lnTo>
                <a:lnTo>
                  <a:pt x="1296" y="612"/>
                </a:lnTo>
                <a:lnTo>
                  <a:pt x="1279" y="534"/>
                </a:lnTo>
                <a:lnTo>
                  <a:pt x="1254" y="458"/>
                </a:lnTo>
                <a:lnTo>
                  <a:pt x="1218" y="387"/>
                </a:lnTo>
                <a:lnTo>
                  <a:pt x="1174" y="324"/>
                </a:lnTo>
                <a:lnTo>
                  <a:pt x="1124" y="265"/>
                </a:lnTo>
                <a:lnTo>
                  <a:pt x="1065" y="214"/>
                </a:lnTo>
                <a:lnTo>
                  <a:pt x="1000" y="170"/>
                </a:lnTo>
                <a:lnTo>
                  <a:pt x="930" y="135"/>
                </a:lnTo>
                <a:lnTo>
                  <a:pt x="856" y="109"/>
                </a:lnTo>
                <a:lnTo>
                  <a:pt x="776" y="93"/>
                </a:lnTo>
                <a:lnTo>
                  <a:pt x="694" y="88"/>
                </a:lnTo>
                <a:close/>
                <a:moveTo>
                  <a:pt x="694" y="0"/>
                </a:moveTo>
                <a:lnTo>
                  <a:pt x="781" y="6"/>
                </a:lnTo>
                <a:lnTo>
                  <a:pt x="865" y="21"/>
                </a:lnTo>
                <a:lnTo>
                  <a:pt x="945" y="48"/>
                </a:lnTo>
                <a:lnTo>
                  <a:pt x="1019" y="82"/>
                </a:lnTo>
                <a:lnTo>
                  <a:pt x="1090" y="124"/>
                </a:lnTo>
                <a:lnTo>
                  <a:pt x="1155" y="175"/>
                </a:lnTo>
                <a:lnTo>
                  <a:pt x="1212" y="233"/>
                </a:lnTo>
                <a:lnTo>
                  <a:pt x="1263" y="297"/>
                </a:lnTo>
                <a:lnTo>
                  <a:pt x="1307" y="368"/>
                </a:lnTo>
                <a:lnTo>
                  <a:pt x="1341" y="444"/>
                </a:lnTo>
                <a:lnTo>
                  <a:pt x="1366" y="524"/>
                </a:lnTo>
                <a:lnTo>
                  <a:pt x="1383" y="608"/>
                </a:lnTo>
                <a:lnTo>
                  <a:pt x="1387" y="694"/>
                </a:lnTo>
                <a:lnTo>
                  <a:pt x="1383" y="782"/>
                </a:lnTo>
                <a:lnTo>
                  <a:pt x="1366" y="866"/>
                </a:lnTo>
                <a:lnTo>
                  <a:pt x="1341" y="946"/>
                </a:lnTo>
                <a:lnTo>
                  <a:pt x="1307" y="1022"/>
                </a:lnTo>
                <a:lnTo>
                  <a:pt x="1263" y="1091"/>
                </a:lnTo>
                <a:lnTo>
                  <a:pt x="1212" y="1155"/>
                </a:lnTo>
                <a:lnTo>
                  <a:pt x="1155" y="1215"/>
                </a:lnTo>
                <a:lnTo>
                  <a:pt x="1090" y="1264"/>
                </a:lnTo>
                <a:lnTo>
                  <a:pt x="1019" y="1308"/>
                </a:lnTo>
                <a:lnTo>
                  <a:pt x="945" y="1342"/>
                </a:lnTo>
                <a:lnTo>
                  <a:pt x="865" y="1367"/>
                </a:lnTo>
                <a:lnTo>
                  <a:pt x="781" y="1384"/>
                </a:lnTo>
                <a:lnTo>
                  <a:pt x="694" y="1390"/>
                </a:lnTo>
                <a:lnTo>
                  <a:pt x="608" y="1384"/>
                </a:lnTo>
                <a:lnTo>
                  <a:pt x="524" y="1367"/>
                </a:lnTo>
                <a:lnTo>
                  <a:pt x="444" y="1342"/>
                </a:lnTo>
                <a:lnTo>
                  <a:pt x="368" y="1308"/>
                </a:lnTo>
                <a:lnTo>
                  <a:pt x="297" y="1264"/>
                </a:lnTo>
                <a:lnTo>
                  <a:pt x="232" y="1215"/>
                </a:lnTo>
                <a:lnTo>
                  <a:pt x="175" y="1155"/>
                </a:lnTo>
                <a:lnTo>
                  <a:pt x="124" y="1091"/>
                </a:lnTo>
                <a:lnTo>
                  <a:pt x="82" y="1022"/>
                </a:lnTo>
                <a:lnTo>
                  <a:pt x="48" y="946"/>
                </a:lnTo>
                <a:lnTo>
                  <a:pt x="21" y="866"/>
                </a:lnTo>
                <a:lnTo>
                  <a:pt x="6" y="782"/>
                </a:lnTo>
                <a:lnTo>
                  <a:pt x="0" y="694"/>
                </a:lnTo>
                <a:lnTo>
                  <a:pt x="6" y="608"/>
                </a:lnTo>
                <a:lnTo>
                  <a:pt x="21" y="524"/>
                </a:lnTo>
                <a:lnTo>
                  <a:pt x="48" y="444"/>
                </a:lnTo>
                <a:lnTo>
                  <a:pt x="82" y="368"/>
                </a:lnTo>
                <a:lnTo>
                  <a:pt x="124" y="297"/>
                </a:lnTo>
                <a:lnTo>
                  <a:pt x="175" y="233"/>
                </a:lnTo>
                <a:lnTo>
                  <a:pt x="232" y="175"/>
                </a:lnTo>
                <a:lnTo>
                  <a:pt x="297" y="124"/>
                </a:lnTo>
                <a:lnTo>
                  <a:pt x="368" y="82"/>
                </a:lnTo>
                <a:lnTo>
                  <a:pt x="444" y="48"/>
                </a:lnTo>
                <a:lnTo>
                  <a:pt x="524" y="21"/>
                </a:lnTo>
                <a:lnTo>
                  <a:pt x="608" y="6"/>
                </a:lnTo>
                <a:lnTo>
                  <a:pt x="694" y="0"/>
                </a:ln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Freeform 228"/>
          <p:cNvSpPr/>
          <p:nvPr/>
        </p:nvSpPr>
        <p:spPr>
          <a:xfrm>
            <a:off x="3873600" y="2082960"/>
            <a:ext cx="730080" cy="725400"/>
          </a:xfrm>
          <a:prstGeom prst="pie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36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Freeform 229"/>
          <p:cNvSpPr/>
          <p:nvPr/>
        </p:nvSpPr>
        <p:spPr>
          <a:xfrm>
            <a:off x="4200480" y="1601640"/>
            <a:ext cx="74520" cy="125640"/>
          </a:xfrm>
          <a:custGeom>
            <a:avLst/>
            <a:gdLst/>
            <a:ahLst/>
            <a:rect l="l" t="t" r="r" b="b"/>
            <a:pathLst>
              <a:path w="47" h="79">
                <a:moveTo>
                  <a:pt x="0" y="0"/>
                </a:moveTo>
                <a:lnTo>
                  <a:pt x="47" y="0"/>
                </a:lnTo>
                <a:lnTo>
                  <a:pt x="47" y="54"/>
                </a:lnTo>
                <a:lnTo>
                  <a:pt x="45" y="61"/>
                </a:lnTo>
                <a:lnTo>
                  <a:pt x="42" y="69"/>
                </a:lnTo>
                <a:lnTo>
                  <a:pt x="36" y="73"/>
                </a:lnTo>
                <a:lnTo>
                  <a:pt x="30" y="77"/>
                </a:lnTo>
                <a:lnTo>
                  <a:pt x="23" y="79"/>
                </a:lnTo>
                <a:lnTo>
                  <a:pt x="15" y="77"/>
                </a:lnTo>
                <a:lnTo>
                  <a:pt x="9" y="73"/>
                </a:lnTo>
                <a:lnTo>
                  <a:pt x="4" y="69"/>
                </a:lnTo>
                <a:lnTo>
                  <a:pt x="0" y="61"/>
                </a:lnTo>
                <a:lnTo>
                  <a:pt x="0" y="54"/>
                </a:lnTo>
                <a:lnTo>
                  <a:pt x="0" y="0"/>
                </a:ln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Freeform 230"/>
          <p:cNvSpPr/>
          <p:nvPr/>
        </p:nvSpPr>
        <p:spPr>
          <a:xfrm>
            <a:off x="4935600" y="2386080"/>
            <a:ext cx="120600" cy="75960"/>
          </a:xfrm>
          <a:custGeom>
            <a:avLst/>
            <a:gdLst/>
            <a:ahLst/>
            <a:rect l="l" t="t" r="r" b="b"/>
            <a:pathLst>
              <a:path w="76" h="48">
                <a:moveTo>
                  <a:pt x="23" y="0"/>
                </a:moveTo>
                <a:lnTo>
                  <a:pt x="76" y="0"/>
                </a:lnTo>
                <a:lnTo>
                  <a:pt x="76" y="48"/>
                </a:lnTo>
                <a:lnTo>
                  <a:pt x="23" y="48"/>
                </a:lnTo>
                <a:lnTo>
                  <a:pt x="15" y="46"/>
                </a:lnTo>
                <a:lnTo>
                  <a:pt x="9" y="42"/>
                </a:lnTo>
                <a:lnTo>
                  <a:pt x="4" y="38"/>
                </a:lnTo>
                <a:lnTo>
                  <a:pt x="0" y="31"/>
                </a:lnTo>
                <a:lnTo>
                  <a:pt x="0" y="23"/>
                </a:lnTo>
                <a:lnTo>
                  <a:pt x="0" y="15"/>
                </a:lnTo>
                <a:lnTo>
                  <a:pt x="4" y="10"/>
                </a:lnTo>
                <a:lnTo>
                  <a:pt x="9" y="4"/>
                </a:lnTo>
                <a:lnTo>
                  <a:pt x="15" y="2"/>
                </a:lnTo>
                <a:lnTo>
                  <a:pt x="23" y="0"/>
                </a:ln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Freeform 231"/>
          <p:cNvSpPr/>
          <p:nvPr/>
        </p:nvSpPr>
        <p:spPr>
          <a:xfrm>
            <a:off x="3416400" y="2386080"/>
            <a:ext cx="123840" cy="75960"/>
          </a:xfrm>
          <a:custGeom>
            <a:avLst/>
            <a:gdLst/>
            <a:ahLst/>
            <a:rect l="l" t="t" r="r" b="b"/>
            <a:pathLst>
              <a:path w="78" h="48">
                <a:moveTo>
                  <a:pt x="0" y="0"/>
                </a:moveTo>
                <a:lnTo>
                  <a:pt x="54" y="0"/>
                </a:lnTo>
                <a:lnTo>
                  <a:pt x="61" y="2"/>
                </a:lnTo>
                <a:lnTo>
                  <a:pt x="69" y="4"/>
                </a:lnTo>
                <a:lnTo>
                  <a:pt x="73" y="10"/>
                </a:lnTo>
                <a:lnTo>
                  <a:pt x="76" y="15"/>
                </a:lnTo>
                <a:lnTo>
                  <a:pt x="78" y="23"/>
                </a:lnTo>
                <a:lnTo>
                  <a:pt x="76" y="31"/>
                </a:lnTo>
                <a:lnTo>
                  <a:pt x="73" y="38"/>
                </a:lnTo>
                <a:lnTo>
                  <a:pt x="69" y="42"/>
                </a:lnTo>
                <a:lnTo>
                  <a:pt x="61" y="46"/>
                </a:lnTo>
                <a:lnTo>
                  <a:pt x="54" y="48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Freeform 232"/>
          <p:cNvSpPr/>
          <p:nvPr/>
        </p:nvSpPr>
        <p:spPr>
          <a:xfrm>
            <a:off x="4719600" y="1817640"/>
            <a:ext cx="125280" cy="120600"/>
          </a:xfrm>
          <a:custGeom>
            <a:avLst/>
            <a:gdLst/>
            <a:ahLst/>
            <a:rect l="l" t="t" r="r" b="b"/>
            <a:pathLst>
              <a:path w="79" h="76">
                <a:moveTo>
                  <a:pt x="44" y="0"/>
                </a:moveTo>
                <a:lnTo>
                  <a:pt x="79" y="32"/>
                </a:lnTo>
                <a:lnTo>
                  <a:pt x="40" y="70"/>
                </a:lnTo>
                <a:lnTo>
                  <a:pt x="29" y="76"/>
                </a:lnTo>
                <a:lnTo>
                  <a:pt x="18" y="76"/>
                </a:lnTo>
                <a:lnTo>
                  <a:pt x="6" y="70"/>
                </a:lnTo>
                <a:lnTo>
                  <a:pt x="0" y="61"/>
                </a:lnTo>
                <a:lnTo>
                  <a:pt x="0" y="47"/>
                </a:lnTo>
                <a:lnTo>
                  <a:pt x="6" y="38"/>
                </a:lnTo>
                <a:lnTo>
                  <a:pt x="44" y="0"/>
                </a:ln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Freeform 233"/>
          <p:cNvSpPr/>
          <p:nvPr/>
        </p:nvSpPr>
        <p:spPr>
          <a:xfrm>
            <a:off x="3630600" y="2906640"/>
            <a:ext cx="122400" cy="123840"/>
          </a:xfrm>
          <a:custGeom>
            <a:avLst/>
            <a:gdLst/>
            <a:ahLst/>
            <a:rect l="l" t="t" r="r" b="b"/>
            <a:pathLst>
              <a:path w="77" h="78">
                <a:moveTo>
                  <a:pt x="48" y="0"/>
                </a:moveTo>
                <a:lnTo>
                  <a:pt x="61" y="0"/>
                </a:lnTo>
                <a:lnTo>
                  <a:pt x="71" y="6"/>
                </a:lnTo>
                <a:lnTo>
                  <a:pt x="77" y="17"/>
                </a:lnTo>
                <a:lnTo>
                  <a:pt x="77" y="29"/>
                </a:lnTo>
                <a:lnTo>
                  <a:pt x="71" y="40"/>
                </a:lnTo>
                <a:lnTo>
                  <a:pt x="33" y="78"/>
                </a:lnTo>
                <a:lnTo>
                  <a:pt x="0" y="44"/>
                </a:lnTo>
                <a:lnTo>
                  <a:pt x="39" y="6"/>
                </a:lnTo>
                <a:lnTo>
                  <a:pt x="48" y="0"/>
                </a:ln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Freeform 234"/>
          <p:cNvSpPr/>
          <p:nvPr/>
        </p:nvSpPr>
        <p:spPr>
          <a:xfrm rot="3040200">
            <a:off x="4164840" y="3116520"/>
            <a:ext cx="125640" cy="123840"/>
          </a:xfrm>
          <a:custGeom>
            <a:avLst/>
            <a:gdLst/>
            <a:ahLst/>
            <a:rect l="l" t="t" r="r" b="b"/>
            <a:pathLst>
              <a:path w="79" h="78">
                <a:moveTo>
                  <a:pt x="18" y="0"/>
                </a:moveTo>
                <a:lnTo>
                  <a:pt x="29" y="0"/>
                </a:lnTo>
                <a:lnTo>
                  <a:pt x="40" y="6"/>
                </a:lnTo>
                <a:lnTo>
                  <a:pt x="79" y="44"/>
                </a:lnTo>
                <a:lnTo>
                  <a:pt x="44" y="78"/>
                </a:lnTo>
                <a:lnTo>
                  <a:pt x="6" y="40"/>
                </a:lnTo>
                <a:lnTo>
                  <a:pt x="0" y="29"/>
                </a:lnTo>
                <a:lnTo>
                  <a:pt x="0" y="17"/>
                </a:lnTo>
                <a:lnTo>
                  <a:pt x="6" y="6"/>
                </a:lnTo>
                <a:lnTo>
                  <a:pt x="18" y="0"/>
                </a:ln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Freeform 235"/>
          <p:cNvSpPr/>
          <p:nvPr/>
        </p:nvSpPr>
        <p:spPr>
          <a:xfrm>
            <a:off x="3630600" y="1817640"/>
            <a:ext cx="122400" cy="120600"/>
          </a:xfrm>
          <a:custGeom>
            <a:avLst/>
            <a:gdLst/>
            <a:ahLst/>
            <a:rect l="l" t="t" r="r" b="b"/>
            <a:pathLst>
              <a:path w="77" h="76">
                <a:moveTo>
                  <a:pt x="33" y="0"/>
                </a:moveTo>
                <a:lnTo>
                  <a:pt x="71" y="38"/>
                </a:lnTo>
                <a:lnTo>
                  <a:pt x="77" y="47"/>
                </a:lnTo>
                <a:lnTo>
                  <a:pt x="77" y="61"/>
                </a:lnTo>
                <a:lnTo>
                  <a:pt x="71" y="70"/>
                </a:lnTo>
                <a:lnTo>
                  <a:pt x="61" y="76"/>
                </a:lnTo>
                <a:lnTo>
                  <a:pt x="48" y="76"/>
                </a:lnTo>
                <a:lnTo>
                  <a:pt x="39" y="70"/>
                </a:lnTo>
                <a:lnTo>
                  <a:pt x="0" y="32"/>
                </a:lnTo>
                <a:lnTo>
                  <a:pt x="33" y="0"/>
                </a:ln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Freeform 234"/>
          <p:cNvSpPr/>
          <p:nvPr/>
        </p:nvSpPr>
        <p:spPr>
          <a:xfrm>
            <a:off x="4724280" y="2998800"/>
            <a:ext cx="120600" cy="123840"/>
          </a:xfrm>
          <a:custGeom>
            <a:avLst/>
            <a:gdLst/>
            <a:ahLst/>
            <a:rect l="l" t="t" r="r" b="b"/>
            <a:pathLst>
              <a:path w="79" h="78">
                <a:moveTo>
                  <a:pt x="18" y="0"/>
                </a:moveTo>
                <a:lnTo>
                  <a:pt x="29" y="0"/>
                </a:lnTo>
                <a:lnTo>
                  <a:pt x="40" y="6"/>
                </a:lnTo>
                <a:lnTo>
                  <a:pt x="79" y="44"/>
                </a:lnTo>
                <a:lnTo>
                  <a:pt x="44" y="78"/>
                </a:lnTo>
                <a:lnTo>
                  <a:pt x="6" y="40"/>
                </a:lnTo>
                <a:lnTo>
                  <a:pt x="0" y="29"/>
                </a:lnTo>
                <a:lnTo>
                  <a:pt x="0" y="17"/>
                </a:lnTo>
                <a:lnTo>
                  <a:pt x="6" y="6"/>
                </a:lnTo>
                <a:lnTo>
                  <a:pt x="18" y="0"/>
                </a:ln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628560" y="271440"/>
            <a:ext cx="7886880" cy="76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Types of Performance Appraisal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6" name="Group 4"/>
          <p:cNvGrpSpPr/>
          <p:nvPr/>
        </p:nvGrpSpPr>
        <p:grpSpPr>
          <a:xfrm>
            <a:off x="262080" y="3429000"/>
            <a:ext cx="8619840" cy="1947960"/>
            <a:chOff x="262080" y="3429000"/>
            <a:chExt cx="8619840" cy="1947960"/>
          </a:xfrm>
        </p:grpSpPr>
        <p:sp>
          <p:nvSpPr>
            <p:cNvPr id="657" name="Rectangle: Rounded Corners 65"/>
            <p:cNvSpPr/>
            <p:nvPr/>
          </p:nvSpPr>
          <p:spPr>
            <a:xfrm>
              <a:off x="7508880" y="3768480"/>
              <a:ext cx="1352520" cy="1570320"/>
            </a:xfrm>
            <a:custGeom>
              <a:avLst/>
              <a:gdLst>
                <a:gd name="textAreaLeft" fmla="*/ 37440 w 1352520"/>
                <a:gd name="textAreaRight" fmla="*/ 1315080 w 1352520"/>
                <a:gd name="textAreaTop" fmla="*/ 37440 h 1570320"/>
                <a:gd name="textAreaBottom" fmla="*/ 1532880 h 1570320"/>
              </a:gdLst>
              <a:ahLst/>
              <a:rect l="textAreaLeft" t="textAreaTop" r="textAreaRight" b="textAreaBottom"/>
              <a:pathLst>
                <a:path w="21600" h="25077">
                  <a:moveTo>
                    <a:pt x="2058" y="0"/>
                  </a:moveTo>
                  <a:arcTo wR="2058" hR="2058" stAng="16200000" swAng="-5400000"/>
                  <a:lnTo>
                    <a:pt x="0" y="23019"/>
                  </a:lnTo>
                  <a:arcTo wR="2058" hR="2058" stAng="10800000" swAng="-5400000"/>
                  <a:lnTo>
                    <a:pt x="19542" y="25077"/>
                  </a:lnTo>
                  <a:arcTo wR="2058" hR="2058" stAng="5400000" swAng="-5400000"/>
                  <a:lnTo>
                    <a:pt x="21600" y="2058"/>
                  </a:lnTo>
                  <a:arcTo wR="2058" hR="2058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53753" dir="2700000" blurRad="0" rotWithShape="0">
                <a:srgbClr val="000000">
                  <a:alpha val="1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8" name="Rectangle: Rounded Corners 66"/>
            <p:cNvSpPr/>
            <p:nvPr/>
          </p:nvSpPr>
          <p:spPr>
            <a:xfrm>
              <a:off x="3139920" y="3700440"/>
              <a:ext cx="1352520" cy="1638360"/>
            </a:xfrm>
            <a:custGeom>
              <a:avLst/>
              <a:gdLst>
                <a:gd name="textAreaLeft" fmla="*/ 37440 w 1352520"/>
                <a:gd name="textAreaRight" fmla="*/ 1315080 w 1352520"/>
                <a:gd name="textAreaTop" fmla="*/ 37440 h 1638360"/>
                <a:gd name="textAreaBottom" fmla="*/ 1600920 h 1638360"/>
              </a:gdLst>
              <a:ahLst/>
              <a:rect l="textAreaLeft" t="textAreaTop" r="textAreaRight" b="textAreaBottom"/>
              <a:pathLst>
                <a:path w="21600" h="26164">
                  <a:moveTo>
                    <a:pt x="2058" y="0"/>
                  </a:moveTo>
                  <a:arcTo wR="2058" hR="2058" stAng="16200000" swAng="-5400000"/>
                  <a:lnTo>
                    <a:pt x="0" y="24106"/>
                  </a:lnTo>
                  <a:arcTo wR="2058" hR="2058" stAng="10800000" swAng="-5400000"/>
                  <a:lnTo>
                    <a:pt x="19542" y="26164"/>
                  </a:lnTo>
                  <a:arcTo wR="2058" hR="2058" stAng="5400000" swAng="-5400000"/>
                  <a:lnTo>
                    <a:pt x="21600" y="2058"/>
                  </a:lnTo>
                  <a:arcTo wR="2058" hR="2058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53753" dir="2700000" blurRad="0" rotWithShape="0">
                <a:srgbClr val="000000">
                  <a:alpha val="1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9" name="Rectangle: Rounded Corners 67"/>
            <p:cNvSpPr/>
            <p:nvPr/>
          </p:nvSpPr>
          <p:spPr>
            <a:xfrm>
              <a:off x="4595760" y="3768480"/>
              <a:ext cx="1352520" cy="1552680"/>
            </a:xfrm>
            <a:custGeom>
              <a:avLst/>
              <a:gdLst>
                <a:gd name="textAreaLeft" fmla="*/ 37440 w 1352520"/>
                <a:gd name="textAreaRight" fmla="*/ 1315080 w 1352520"/>
                <a:gd name="textAreaTop" fmla="*/ 37440 h 1552680"/>
                <a:gd name="textAreaBottom" fmla="*/ 1515240 h 1552680"/>
              </a:gdLst>
              <a:ahLst/>
              <a:rect l="textAreaLeft" t="textAreaTop" r="textAreaRight" b="textAreaBottom"/>
              <a:pathLst>
                <a:path w="21600" h="24796">
                  <a:moveTo>
                    <a:pt x="2058" y="0"/>
                  </a:moveTo>
                  <a:arcTo wR="2058" hR="2058" stAng="16200000" swAng="-5400000"/>
                  <a:lnTo>
                    <a:pt x="0" y="22738"/>
                  </a:lnTo>
                  <a:arcTo wR="2058" hR="2058" stAng="10800000" swAng="-5400000"/>
                  <a:lnTo>
                    <a:pt x="19542" y="24796"/>
                  </a:lnTo>
                  <a:arcTo wR="2058" hR="2058" stAng="5400000" swAng="-5400000"/>
                  <a:lnTo>
                    <a:pt x="21600" y="2058"/>
                  </a:lnTo>
                  <a:arcTo wR="2058" hR="2058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53753" dir="2700000" blurRad="0" rotWithShape="0">
                <a:srgbClr val="000000">
                  <a:alpha val="1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0" name="Rectangle: Rounded Corners 68"/>
            <p:cNvSpPr/>
            <p:nvPr/>
          </p:nvSpPr>
          <p:spPr>
            <a:xfrm>
              <a:off x="6075360" y="3806640"/>
              <a:ext cx="1353960" cy="1570320"/>
            </a:xfrm>
            <a:custGeom>
              <a:avLst/>
              <a:gdLst>
                <a:gd name="textAreaLeft" fmla="*/ 37440 w 1353960"/>
                <a:gd name="textAreaRight" fmla="*/ 1316520 w 1353960"/>
                <a:gd name="textAreaTop" fmla="*/ 37440 h 1570320"/>
                <a:gd name="textAreaBottom" fmla="*/ 1532880 h 1570320"/>
              </a:gdLst>
              <a:ahLst/>
              <a:rect l="textAreaLeft" t="textAreaTop" r="textAreaRight" b="textAreaBottom"/>
              <a:pathLst>
                <a:path w="21600" h="25051">
                  <a:moveTo>
                    <a:pt x="2058" y="0"/>
                  </a:moveTo>
                  <a:arcTo wR="2058" hR="2058" stAng="16200000" swAng="-5400000"/>
                  <a:lnTo>
                    <a:pt x="0" y="22993"/>
                  </a:lnTo>
                  <a:arcTo wR="2058" hR="2058" stAng="10800000" swAng="-5400000"/>
                  <a:lnTo>
                    <a:pt x="19542" y="25051"/>
                  </a:lnTo>
                  <a:arcTo wR="2058" hR="2058" stAng="5400000" swAng="-5400000"/>
                  <a:lnTo>
                    <a:pt x="21600" y="2058"/>
                  </a:lnTo>
                  <a:arcTo wR="2058" hR="2058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53753" dir="2700000" blurRad="0" rotWithShape="0">
                <a:srgbClr val="000000">
                  <a:alpha val="1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1" name="Rectangle: Rounded Corners 56"/>
            <p:cNvSpPr/>
            <p:nvPr/>
          </p:nvSpPr>
          <p:spPr>
            <a:xfrm>
              <a:off x="7101000" y="3429000"/>
              <a:ext cx="1766880" cy="79200"/>
            </a:xfrm>
            <a:prstGeom prst="roundRect">
              <a:avLst>
                <a:gd name="adj" fmla="val 50000"/>
              </a:avLst>
            </a:prstGeom>
            <a:solidFill>
              <a:srgbClr val="5b9b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2" name="Rectangle: Rounded Corners 55"/>
            <p:cNvSpPr/>
            <p:nvPr/>
          </p:nvSpPr>
          <p:spPr>
            <a:xfrm>
              <a:off x="5675400" y="3429000"/>
              <a:ext cx="1768320" cy="79200"/>
            </a:xfrm>
            <a:prstGeom prst="roundRect">
              <a:avLst>
                <a:gd name="adj" fmla="val 50000"/>
              </a:avLst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3" name="Rectangle: Rounded Corners 54"/>
            <p:cNvSpPr/>
            <p:nvPr/>
          </p:nvSpPr>
          <p:spPr>
            <a:xfrm>
              <a:off x="4232160" y="3429000"/>
              <a:ext cx="1766880" cy="79200"/>
            </a:xfrm>
            <a:prstGeom prst="roundRect">
              <a:avLst>
                <a:gd name="adj" fmla="val 50000"/>
              </a:avLst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4" name="Rectangle: Rounded Corners 53"/>
            <p:cNvSpPr/>
            <p:nvPr/>
          </p:nvSpPr>
          <p:spPr>
            <a:xfrm>
              <a:off x="2789280" y="3429000"/>
              <a:ext cx="1768320" cy="79200"/>
            </a:xfrm>
            <a:prstGeom prst="roundRect">
              <a:avLst>
                <a:gd name="adj" fmla="val 50000"/>
              </a:avLst>
            </a:prstGeom>
            <a:solidFill>
              <a:srgbClr val="ed7d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5" name="TextBox 123"/>
            <p:cNvSpPr/>
            <p:nvPr/>
          </p:nvSpPr>
          <p:spPr>
            <a:xfrm>
              <a:off x="3244680" y="4077360"/>
              <a:ext cx="1142640" cy="61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Critical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Incident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6" name="TextBox 125"/>
            <p:cNvSpPr/>
            <p:nvPr/>
          </p:nvSpPr>
          <p:spPr>
            <a:xfrm>
              <a:off x="4700880" y="4068720"/>
              <a:ext cx="1142640" cy="61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Simple Rankin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7" name="TextBox 127"/>
            <p:cNvSpPr/>
            <p:nvPr/>
          </p:nvSpPr>
          <p:spPr>
            <a:xfrm>
              <a:off x="6103080" y="4135320"/>
              <a:ext cx="1277280" cy="61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Pared Comparison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8" name="TextBox 129"/>
            <p:cNvSpPr/>
            <p:nvPr/>
          </p:nvSpPr>
          <p:spPr>
            <a:xfrm>
              <a:off x="7529760" y="4147200"/>
              <a:ext cx="1352160" cy="61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Forced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Distribution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9" name="Straight Connector 93"/>
            <p:cNvSpPr/>
            <p:nvPr/>
          </p:nvSpPr>
          <p:spPr>
            <a:xfrm>
              <a:off x="3814920" y="3558960"/>
              <a:ext cx="0" cy="91800"/>
            </a:xfrm>
            <a:prstGeom prst="line">
              <a:avLst/>
            </a:prstGeom>
            <a:ln w="648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0" name="Straight Connector 94"/>
            <p:cNvSpPr/>
            <p:nvPr/>
          </p:nvSpPr>
          <p:spPr>
            <a:xfrm>
              <a:off x="5272200" y="3558960"/>
              <a:ext cx="0" cy="91800"/>
            </a:xfrm>
            <a:prstGeom prst="line">
              <a:avLst/>
            </a:prstGeom>
            <a:ln w="648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1" name="Straight Connector 95"/>
            <p:cNvSpPr/>
            <p:nvPr/>
          </p:nvSpPr>
          <p:spPr>
            <a:xfrm>
              <a:off x="6727680" y="3558960"/>
              <a:ext cx="0" cy="91800"/>
            </a:xfrm>
            <a:prstGeom prst="line">
              <a:avLst/>
            </a:prstGeom>
            <a:ln w="648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2" name="Straight Connector 111"/>
            <p:cNvSpPr/>
            <p:nvPr/>
          </p:nvSpPr>
          <p:spPr>
            <a:xfrm>
              <a:off x="8185320" y="3558960"/>
              <a:ext cx="0" cy="91800"/>
            </a:xfrm>
            <a:prstGeom prst="line">
              <a:avLst/>
            </a:prstGeom>
            <a:ln w="648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73" name="Group 3"/>
            <p:cNvGrpSpPr/>
            <p:nvPr/>
          </p:nvGrpSpPr>
          <p:grpSpPr>
            <a:xfrm>
              <a:off x="1683720" y="3429000"/>
              <a:ext cx="1438200" cy="1892880"/>
              <a:chOff x="1683720" y="3429000"/>
              <a:chExt cx="1438200" cy="1892880"/>
            </a:xfrm>
          </p:grpSpPr>
          <p:sp>
            <p:nvSpPr>
              <p:cNvPr id="674" name="Rectangle: Rounded Corners 2"/>
              <p:cNvSpPr/>
              <p:nvPr/>
            </p:nvSpPr>
            <p:spPr>
              <a:xfrm>
                <a:off x="1683720" y="3768840"/>
                <a:ext cx="1352520" cy="1553040"/>
              </a:xfrm>
              <a:custGeom>
                <a:avLst/>
                <a:gdLst>
                  <a:gd name="textAreaLeft" fmla="*/ 37440 w 1352520"/>
                  <a:gd name="textAreaRight" fmla="*/ 1315080 w 1352520"/>
                  <a:gd name="textAreaTop" fmla="*/ 37440 h 1553040"/>
                  <a:gd name="textAreaBottom" fmla="*/ 1515600 h 1553040"/>
                </a:gdLst>
                <a:ahLst/>
                <a:rect l="textAreaLeft" t="textAreaTop" r="textAreaRight" b="textAreaBottom"/>
                <a:pathLst>
                  <a:path w="21600" h="24801">
                    <a:moveTo>
                      <a:pt x="2058" y="0"/>
                    </a:moveTo>
                    <a:arcTo wR="2058" hR="2058" stAng="16200000" swAng="-5400000"/>
                    <a:lnTo>
                      <a:pt x="0" y="22743"/>
                    </a:lnTo>
                    <a:arcTo wR="2058" hR="2058" stAng="10800000" swAng="-5400000"/>
                    <a:lnTo>
                      <a:pt x="19542" y="24801"/>
                    </a:lnTo>
                    <a:arcTo wR="2058" hR="2058" stAng="5400000" swAng="-5400000"/>
                    <a:lnTo>
                      <a:pt x="21600" y="2058"/>
                    </a:lnTo>
                    <a:arcTo wR="2058" hR="2058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  <a:effectLst>
                <a:outerShdw dist="153753" dir="2700000" blurRad="0" rotWithShape="0">
                  <a:srgbClr val="000000">
                    <a:alpha val="1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5" name="Rectangle: Rounded Corners 52"/>
              <p:cNvSpPr/>
              <p:nvPr/>
            </p:nvSpPr>
            <p:spPr>
              <a:xfrm>
                <a:off x="1686600" y="3429000"/>
                <a:ext cx="1435320" cy="79200"/>
              </a:xfrm>
              <a:prstGeom prst="roundRect">
                <a:avLst>
                  <a:gd name="adj" fmla="val 50000"/>
                </a:avLst>
              </a:prstGeom>
              <a:solidFill>
                <a:srgbClr val="4472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6" name="TextBox 121"/>
              <p:cNvSpPr/>
              <p:nvPr/>
            </p:nvSpPr>
            <p:spPr>
              <a:xfrm>
                <a:off x="1797840" y="4420800"/>
                <a:ext cx="114300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b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Calibri"/>
                  </a:rPr>
                  <a:t>BARS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7" name="Straight Connector 92"/>
              <p:cNvSpPr/>
              <p:nvPr/>
            </p:nvSpPr>
            <p:spPr>
              <a:xfrm>
                <a:off x="2359800" y="3558960"/>
                <a:ext cx="0" cy="91800"/>
              </a:xfrm>
              <a:prstGeom prst="line">
                <a:avLst/>
              </a:prstGeom>
              <a:ln w="6480">
                <a:solidFill>
                  <a:srgbClr val="a6a6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8" name="Oval 112"/>
              <p:cNvSpPr/>
              <p:nvPr/>
            </p:nvSpPr>
            <p:spPr>
              <a:xfrm>
                <a:off x="2180520" y="3616200"/>
                <a:ext cx="358560" cy="3589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9" name="TextBox 113"/>
              <p:cNvSpPr/>
              <p:nvPr/>
            </p:nvSpPr>
            <p:spPr>
              <a:xfrm>
                <a:off x="2264760" y="3695400"/>
                <a:ext cx="1897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404040"/>
                    </a:solidFill>
                    <a:latin typeface="Arial Black"/>
                  </a:rPr>
                  <a:t>02</a:t>
                </a:r>
                <a:endParaRPr b="0" lang="en-US" sz="13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80" name="Oval 114"/>
            <p:cNvSpPr/>
            <p:nvPr/>
          </p:nvSpPr>
          <p:spPr>
            <a:xfrm>
              <a:off x="3637080" y="3616200"/>
              <a:ext cx="358560" cy="358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1" name="TextBox 115"/>
            <p:cNvSpPr/>
            <p:nvPr/>
          </p:nvSpPr>
          <p:spPr>
            <a:xfrm>
              <a:off x="3721320" y="3695400"/>
              <a:ext cx="1897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404040"/>
                  </a:solidFill>
                  <a:latin typeface="Arial Black"/>
                </a:rPr>
                <a:t>03</a:t>
              </a:r>
              <a:endParaRPr b="0" lang="en-US" sz="13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2" name="Oval 116"/>
            <p:cNvSpPr/>
            <p:nvPr/>
          </p:nvSpPr>
          <p:spPr>
            <a:xfrm>
              <a:off x="5092560" y="3616200"/>
              <a:ext cx="358560" cy="358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3" name="TextBox 117"/>
            <p:cNvSpPr/>
            <p:nvPr/>
          </p:nvSpPr>
          <p:spPr>
            <a:xfrm>
              <a:off x="5177880" y="3695400"/>
              <a:ext cx="1897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404040"/>
                  </a:solidFill>
                  <a:latin typeface="Arial Black"/>
                </a:rPr>
                <a:t>04</a:t>
              </a:r>
              <a:endParaRPr b="0" lang="en-US" sz="13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4" name="Oval 118"/>
            <p:cNvSpPr/>
            <p:nvPr/>
          </p:nvSpPr>
          <p:spPr>
            <a:xfrm>
              <a:off x="6550200" y="3616200"/>
              <a:ext cx="358560" cy="358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5" name="TextBox 119"/>
            <p:cNvSpPr/>
            <p:nvPr/>
          </p:nvSpPr>
          <p:spPr>
            <a:xfrm>
              <a:off x="6633720" y="3695400"/>
              <a:ext cx="1897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404040"/>
                  </a:solidFill>
                  <a:latin typeface="Arial Black"/>
                </a:rPr>
                <a:t>05</a:t>
              </a:r>
              <a:endParaRPr b="0" lang="en-US" sz="13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6" name="Oval 120"/>
            <p:cNvSpPr/>
            <p:nvPr/>
          </p:nvSpPr>
          <p:spPr>
            <a:xfrm>
              <a:off x="8004240" y="3616200"/>
              <a:ext cx="360360" cy="358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7" name="TextBox 131"/>
            <p:cNvSpPr/>
            <p:nvPr/>
          </p:nvSpPr>
          <p:spPr>
            <a:xfrm>
              <a:off x="8089560" y="3695400"/>
              <a:ext cx="1897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404040"/>
                  </a:solidFill>
                  <a:latin typeface="Arial Black"/>
                </a:rPr>
                <a:t>06</a:t>
              </a:r>
              <a:endParaRPr b="0" lang="en-US" sz="13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8" name="Rectangle: Rounded Corners 2"/>
            <p:cNvSpPr/>
            <p:nvPr/>
          </p:nvSpPr>
          <p:spPr>
            <a:xfrm>
              <a:off x="262080" y="3770280"/>
              <a:ext cx="1352520" cy="1554480"/>
            </a:xfrm>
            <a:custGeom>
              <a:avLst/>
              <a:gdLst>
                <a:gd name="textAreaLeft" fmla="*/ 37440 w 1352520"/>
                <a:gd name="textAreaRight" fmla="*/ 1315080 w 1352520"/>
                <a:gd name="textAreaTop" fmla="*/ 37440 h 1554480"/>
                <a:gd name="textAreaBottom" fmla="*/ 1517040 h 1554480"/>
              </a:gdLst>
              <a:ahLst/>
              <a:rect l="textAreaLeft" t="textAreaTop" r="textAreaRight" b="textAreaBottom"/>
              <a:pathLst>
                <a:path w="21600" h="24824">
                  <a:moveTo>
                    <a:pt x="2058" y="0"/>
                  </a:moveTo>
                  <a:arcTo wR="2058" hR="2058" stAng="16200000" swAng="-5400000"/>
                  <a:lnTo>
                    <a:pt x="0" y="22766"/>
                  </a:lnTo>
                  <a:arcTo wR="2058" hR="2058" stAng="10800000" swAng="-5400000"/>
                  <a:lnTo>
                    <a:pt x="19542" y="24824"/>
                  </a:lnTo>
                  <a:arcTo wR="2058" hR="2058" stAng="5400000" swAng="-5400000"/>
                  <a:lnTo>
                    <a:pt x="21600" y="2058"/>
                  </a:lnTo>
                  <a:arcTo wR="2058" hR="2058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53753" dir="2700000" blurRad="0" rotWithShape="0">
                <a:srgbClr val="000000">
                  <a:alpha val="1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9" name="Rectangle: Rounded Corners 52"/>
            <p:cNvSpPr/>
            <p:nvPr/>
          </p:nvSpPr>
          <p:spPr>
            <a:xfrm>
              <a:off x="264960" y="3431880"/>
              <a:ext cx="1434960" cy="77760"/>
            </a:xfrm>
            <a:prstGeom prst="roundRect">
              <a:avLst>
                <a:gd name="adj" fmla="val 50000"/>
              </a:avLst>
            </a:prstGeom>
            <a:solidFill>
              <a:srgbClr val="00b0f0"/>
            </a:solidFill>
            <a:ln w="1260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0" name="TextBox 121"/>
            <p:cNvSpPr/>
            <p:nvPr/>
          </p:nvSpPr>
          <p:spPr>
            <a:xfrm>
              <a:off x="366840" y="4142520"/>
              <a:ext cx="1142640" cy="91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Graphic Rating Scal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1" name="Straight Connector 39"/>
            <p:cNvSpPr/>
            <p:nvPr/>
          </p:nvSpPr>
          <p:spPr>
            <a:xfrm>
              <a:off x="938160" y="3562200"/>
              <a:ext cx="0" cy="90360"/>
            </a:xfrm>
            <a:prstGeom prst="line">
              <a:avLst/>
            </a:prstGeom>
            <a:ln w="648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2" name="Oval 40"/>
            <p:cNvSpPr/>
            <p:nvPr/>
          </p:nvSpPr>
          <p:spPr>
            <a:xfrm>
              <a:off x="758880" y="3617640"/>
              <a:ext cx="358560" cy="360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3" name="TextBox 41"/>
            <p:cNvSpPr/>
            <p:nvPr/>
          </p:nvSpPr>
          <p:spPr>
            <a:xfrm>
              <a:off x="843120" y="3697920"/>
              <a:ext cx="1897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404040"/>
                  </a:solidFill>
                  <a:latin typeface="Arial Black"/>
                </a:rPr>
                <a:t>01</a:t>
              </a:r>
              <a:endParaRPr b="0" lang="en-US" sz="13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94" name="Rectangle 5"/>
          <p:cNvSpPr/>
          <p:nvPr/>
        </p:nvSpPr>
        <p:spPr>
          <a:xfrm>
            <a:off x="1754280" y="1490760"/>
            <a:ext cx="5194080" cy="1720800"/>
          </a:xfrm>
          <a:prstGeom prst="rect">
            <a:avLst/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Directions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Explain the appraisal approac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List the advantages and disadvantag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Give an example based on the grades in this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reate your example graphically (below example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28560" y="271440"/>
            <a:ext cx="7886880" cy="76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The Politics of Appraisa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6" name="Picture 1" descr=""/>
          <p:cNvPicPr/>
          <p:nvPr/>
        </p:nvPicPr>
        <p:blipFill>
          <a:blip r:embed="rId1"/>
          <a:stretch/>
        </p:blipFill>
        <p:spPr>
          <a:xfrm>
            <a:off x="1542960" y="1828800"/>
            <a:ext cx="60580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28560" y="271440"/>
            <a:ext cx="7886880" cy="76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erformance Evalu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 txBox="1"/>
          <p:nvPr/>
        </p:nvSpPr>
        <p:spPr>
          <a:xfrm>
            <a:off x="2476440" y="5838840"/>
            <a:ext cx="4191120" cy="58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Jerry Rigg aka The Lone Range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Picture 1" descr=""/>
          <p:cNvPicPr/>
          <p:nvPr/>
        </p:nvPicPr>
        <p:blipFill>
          <a:blip r:embed="rId1"/>
          <a:stretch/>
        </p:blipFill>
        <p:spPr>
          <a:xfrm>
            <a:off x="2476440" y="1523880"/>
            <a:ext cx="4191120" cy="409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Rectangle 79"/>
          <p:cNvSpPr/>
          <p:nvPr/>
        </p:nvSpPr>
        <p:spPr>
          <a:xfrm>
            <a:off x="2374920" y="2239920"/>
            <a:ext cx="6502320" cy="530280"/>
          </a:xfrm>
          <a:prstGeom prst="rect">
            <a:avLst/>
          </a:prstGeom>
          <a:solidFill>
            <a:srgbClr val="bf9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valuator rates all employees “about averag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Rectangle 80"/>
          <p:cNvSpPr/>
          <p:nvPr/>
        </p:nvSpPr>
        <p:spPr>
          <a:xfrm>
            <a:off x="2370240" y="3030480"/>
            <a:ext cx="6502320" cy="531720"/>
          </a:xfrm>
          <a:prstGeom prst="rect">
            <a:avLst/>
          </a:prstGeom>
          <a:solidFill>
            <a:srgbClr val="4472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valuator is an “easy grader,” giving high scores to most employe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Rectangle 82"/>
          <p:cNvSpPr/>
          <p:nvPr/>
        </p:nvSpPr>
        <p:spPr>
          <a:xfrm>
            <a:off x="2405160" y="3827520"/>
            <a:ext cx="6500880" cy="530280"/>
          </a:xfrm>
          <a:prstGeom prst="rect">
            <a:avLst/>
          </a:prstGeom>
          <a:solidFill>
            <a:srgbClr val="2e75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valuator is a “hard grader,” refusing to give a top score to anyon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Rectangle 83"/>
          <p:cNvSpPr/>
          <p:nvPr/>
        </p:nvSpPr>
        <p:spPr>
          <a:xfrm>
            <a:off x="2463840" y="4575240"/>
            <a:ext cx="6475320" cy="641160"/>
          </a:xfrm>
          <a:prstGeom prst="rect">
            <a:avLst/>
          </a:prstGeom>
          <a:solidFill>
            <a:srgbClr val="ed7d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valuator does not consider individual characteristics or behaviors and makes similar assumptions about all employe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Rectangle 102"/>
          <p:cNvSpPr/>
          <p:nvPr/>
        </p:nvSpPr>
        <p:spPr>
          <a:xfrm>
            <a:off x="2476440" y="5408640"/>
            <a:ext cx="6475320" cy="530280"/>
          </a:xfrm>
          <a:prstGeom prst="rect">
            <a:avLst/>
          </a:prstGeom>
          <a:solidFill>
            <a:srgbClr val="5482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valuator considers only the last few months or most recent behaviors when rating an employe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Rectangle 110"/>
          <p:cNvSpPr/>
          <p:nvPr/>
        </p:nvSpPr>
        <p:spPr>
          <a:xfrm>
            <a:off x="2476440" y="6188040"/>
            <a:ext cx="6475320" cy="530280"/>
          </a:xfrm>
          <a:prstGeom prst="rect">
            <a:avLst/>
          </a:prstGeom>
          <a:solidFill>
            <a:srgbClr val="4454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valuator considers the “first impression” of an employee, even if later the employee presented differentl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TextBox 119"/>
          <p:cNvSpPr/>
          <p:nvPr/>
        </p:nvSpPr>
        <p:spPr>
          <a:xfrm flipH="1">
            <a:off x="0" y="1046160"/>
            <a:ext cx="22003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imac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alo Effec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rictn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entral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12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ndenc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nienc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ereotyp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cenc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628560" y="271440"/>
            <a:ext cx="7886880" cy="76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Rater Biases/Error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Rectangle 66"/>
          <p:cNvSpPr/>
          <p:nvPr/>
        </p:nvSpPr>
        <p:spPr>
          <a:xfrm>
            <a:off x="2324160" y="1438200"/>
            <a:ext cx="6502320" cy="531720"/>
          </a:xfrm>
          <a:prstGeom prst="rect">
            <a:avLst/>
          </a:prstGeom>
          <a:solidFill>
            <a:srgbClr val="00b0f0"/>
          </a:solidFill>
          <a:ln w="0">
            <a:solidFill>
              <a:srgbClr val="00b0f0"/>
            </a:solidFill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valuator uses one characteristic or behavior as the primary information to rate a person’s entire performan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Oval 4"/>
          <p:cNvSpPr/>
          <p:nvPr/>
        </p:nvSpPr>
        <p:spPr>
          <a:xfrm>
            <a:off x="1573200" y="1246320"/>
            <a:ext cx="6778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Oval 71"/>
          <p:cNvSpPr/>
          <p:nvPr/>
        </p:nvSpPr>
        <p:spPr>
          <a:xfrm>
            <a:off x="1620720" y="5334120"/>
            <a:ext cx="6778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Oval 72"/>
          <p:cNvSpPr/>
          <p:nvPr/>
        </p:nvSpPr>
        <p:spPr>
          <a:xfrm>
            <a:off x="1625760" y="6087960"/>
            <a:ext cx="6778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Oval 78"/>
          <p:cNvSpPr/>
          <p:nvPr/>
        </p:nvSpPr>
        <p:spPr>
          <a:xfrm>
            <a:off x="1620720" y="3713040"/>
            <a:ext cx="6778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Oval 93"/>
          <p:cNvSpPr/>
          <p:nvPr/>
        </p:nvSpPr>
        <p:spPr>
          <a:xfrm>
            <a:off x="1600200" y="4560840"/>
            <a:ext cx="6778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Oval 94"/>
          <p:cNvSpPr/>
          <p:nvPr/>
        </p:nvSpPr>
        <p:spPr>
          <a:xfrm>
            <a:off x="1573200" y="2075040"/>
            <a:ext cx="677880" cy="677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Oval 95"/>
          <p:cNvSpPr/>
          <p:nvPr/>
        </p:nvSpPr>
        <p:spPr>
          <a:xfrm>
            <a:off x="1600200" y="2887560"/>
            <a:ext cx="6778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3T19:14:33Z</dcterms:created>
  <dc:creator>Dr. Pat Buhler</dc:creator>
  <dc:description/>
  <dc:language>en-US</dc:language>
  <cp:lastModifiedBy>Lori Roth</cp:lastModifiedBy>
  <cp:lastPrinted>2021-07-26T16:37:29Z</cp:lastPrinted>
  <dcterms:modified xsi:type="dcterms:W3CDTF">2021-07-26T21:22:05Z</dcterms:modified>
  <cp:revision>173</cp:revision>
  <dc:subject/>
  <dc:title>What is Performance Management?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dlc_DocId">
    <vt:lpwstr>UC5APVKEY7YA-445657348-550</vt:lpwstr>
  </property>
  <property fmtid="{D5CDD505-2E9C-101B-9397-08002B2CF9AE}" pid="3" name="_dlc_DocIdItemGuid">
    <vt:lpwstr>c87b9943-5e73-4561-b2eb-7bcfbc0323df</vt:lpwstr>
  </property>
  <property fmtid="{D5CDD505-2E9C-101B-9397-08002B2CF9AE}" pid="4" name="_dlc_DocIdUrl">
    <vt:lpwstr>https://edit.shrm.org/certification/educators/_layouts/15/DocIdRedir.aspx?ID=UC5APVKEY7YA-445657348-550, UC5APVKEY7YA-445657348-550</vt:lpwstr>
  </property>
</Properties>
</file>