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9.png" ContentType="image/png"/>
  <Override PartName="/ppt/media/image7.png" ContentType="image/png"/>
  <Override PartName="/ppt/media/image32.png" ContentType="image/png"/>
  <Override PartName="/ppt/media/image28.png" ContentType="image/png"/>
  <Override PartName="/ppt/media/image10.jpeg" ContentType="image/jpeg"/>
  <Override PartName="/ppt/media/image8.jpeg" ContentType="image/jpeg"/>
  <Override PartName="/ppt/media/image30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36.wmf" ContentType="image/x-wmf"/>
  <Override PartName="/ppt/media/image16.jpeg" ContentType="image/jpeg"/>
  <Override PartName="/ppt/media/image6.png" ContentType="image/png"/>
  <Override PartName="/ppt/media/image29.png" ContentType="image/png"/>
  <Override PartName="/ppt/media/image4.jpeg" ContentType="image/jpeg"/>
  <Override PartName="/ppt/media/image25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5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83FF-DF4D-40E5-84FB-E32CB9BE9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6204-33B5-49FA-BBB8-F4835B4909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0616-1D50-4576-8058-ABE08D6FD3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2ADC-2324-4A2A-A753-26EFFCD711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DCA4-3344-40F9-A742-471ECEFB96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2A78-11E8-4921-823B-FC9F3758FC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202D-D4A8-4754-A5CA-2C9D144DCD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A24B-29C3-491E-AAF1-DF03BAB29C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B83F-D102-40A0-AB87-2EE938F1F4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5C66-EA9C-4D6E-80E5-61176326D8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1095-4CEA-4F36-A4E0-B3E546CED9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083E-D047-43E3-9F66-A3FE56193C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2164-2523-42DC-9E47-5BA2653296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43D3-7789-48A2-BF4F-E5FCBAC1C4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80B8-FC0D-49F4-9134-353076CE14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FC5B-FC66-4A18-B719-3B583E123E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62E1-2487-4FEF-9926-22DA49A717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C618-BFBD-4E2C-B2D2-B7636F3132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DAA8-57FD-4C5D-B0D1-155110BB5C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B592-B03A-40D5-8112-07823FCE51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4658-3C88-4395-BA7A-E512DEF7E7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C94A3-54D9-46F4-A9D6-EE61D08BCE3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1387C-0C11-4E47-A384-99990C0DC48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3C34B-120C-461D-9FD4-2BA632DC0C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92E6F-C6E2-439E-9FC2-1AD1F3F498A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9A5E0-3996-4500-9C77-F02A50F4AA5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1A195-8160-420A-A02B-54B0B0B748D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438BC-B9C9-433C-A71F-1A0F0F51E13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98576-BC51-4890-B0B6-9B6B48C49BB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F5EB7-0DD3-4723-931F-9F61DABA0F1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6AC9D-7F04-411C-8308-DDCC652022F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6B2BE-0E63-4807-9878-A85113660D6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C1C77-AF50-42A6-83BA-019D1834B0A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43EB-5325-40EE-9871-7E2BADBECC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E7C0-A867-4566-9E3D-89D9D5B9118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B0DE-5C03-43C8-A49D-804BA64852DB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26DF-5083-4615-947F-89792BDC99F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9706-DB01-4E88-A378-0938634D8CF2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6290-11CE-40A4-98F7-208ACBEA9C8A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1F6B-60B8-452D-96DC-277F72B24FF1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CC45-87D6-4A7A-AE54-35ACE38116A0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FDBA-57AC-4478-B6D3-C0878A4D50F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CBDA-72B6-4888-BC04-E5287AB70A4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F71D-88E7-40E9-8EC2-2AA2602342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4F10-BAB7-4373-86E9-41389404FF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4"/>
          <p:cNvSpPr/>
          <p:nvPr/>
        </p:nvSpPr>
        <p:spPr>
          <a:xfrm>
            <a:off x="0" y="271440"/>
            <a:ext cx="5005440" cy="766800"/>
          </a:xfrm>
          <a:prstGeom prst="rect">
            <a:avLst/>
          </a:prstGeom>
          <a:solidFill>
            <a:srgbClr val="197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4"/>
          <p:cNvSpPr/>
          <p:nvPr/>
        </p:nvSpPr>
        <p:spPr>
          <a:xfrm>
            <a:off x="0" y="271440"/>
            <a:ext cx="3579840" cy="766800"/>
          </a:xfrm>
          <a:prstGeom prst="rect">
            <a:avLst/>
          </a:prstGeom>
          <a:solidFill>
            <a:srgbClr val="197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4"/>
          <p:cNvSpPr/>
          <p:nvPr/>
        </p:nvSpPr>
        <p:spPr>
          <a:xfrm>
            <a:off x="0" y="271440"/>
            <a:ext cx="3579840" cy="766800"/>
          </a:xfrm>
          <a:prstGeom prst="rect">
            <a:avLst/>
          </a:prstGeom>
          <a:solidFill>
            <a:srgbClr val="197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sp>
        <p:nvSpPr>
          <p:cNvPr id="48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b3c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9" name="Picture 5" descr="Icon&#10;&#10;Description automatically generate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7" descr="Graphical user interface, text&#10;&#10;Description automatically generated"/>
          <p:cNvPicPr/>
          <p:nvPr/>
        </p:nvPicPr>
        <p:blipFill>
          <a:blip r:embed="rId4"/>
          <a:stretch/>
        </p:blipFill>
        <p:spPr>
          <a:xfrm>
            <a:off x="8370720" y="6175440"/>
            <a:ext cx="565200" cy="433440"/>
          </a:xfrm>
          <a:prstGeom prst="rect">
            <a:avLst/>
          </a:prstGeom>
          <a:ln w="0">
            <a:noFill/>
          </a:ln>
        </p:spPr>
      </p:pic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sldNum" idx="1"/>
          </p:nvPr>
        </p:nvSpPr>
        <p:spPr>
          <a:xfrm>
            <a:off x="480600" y="6335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4B55-5E50-4AE6-8B70-104D598E2E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ftr" idx="2"/>
          </p:nvPr>
        </p:nvSpPr>
        <p:spPr>
          <a:xfrm>
            <a:off x="3029040" y="633528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sldNum" idx="3"/>
          </p:nvPr>
        </p:nvSpPr>
        <p:spPr>
          <a:xfrm>
            <a:off x="480600" y="6335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293c61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25EE-2466-4CDC-9EAD-B6C6F92E4CCA}" type="slidenum">
              <a:rPr b="0" lang="en-US" sz="700" spc="-1" strike="noStrike">
                <a:solidFill>
                  <a:srgbClr val="293c61"/>
                </a:solidFill>
                <a:latin typeface="Arial"/>
                <a:ea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4" descr="A picture containing person, crowd&#10;&#10;Description automatically generated"/>
          <p:cNvPicPr/>
          <p:nvPr/>
        </p:nvPicPr>
        <p:blipFill>
          <a:blip r:embed="rId3"/>
          <a:stretch/>
        </p:blipFill>
        <p:spPr>
          <a:xfrm flipH="1"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5"/>
          <p:cNvSpPr/>
          <p:nvPr/>
        </p:nvSpPr>
        <p:spPr>
          <a:xfrm>
            <a:off x="0" y="739800"/>
            <a:ext cx="4457880" cy="3387600"/>
          </a:xfrm>
          <a:prstGeom prst="rect">
            <a:avLst/>
          </a:prstGeom>
          <a:solidFill>
            <a:srgbClr val="1b3c69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Placeholder 7" descr="Graphical user interface, text&#10;&#10;Description automatically generated"/>
          <p:cNvPicPr/>
          <p:nvPr/>
        </p:nvPicPr>
        <p:blipFill>
          <a:blip r:embed="rId4"/>
          <a:srcRect l="-3618" t="-5668" r="-2814" b="-6438"/>
          <a:stretch/>
        </p:blipFill>
        <p:spPr>
          <a:xfrm>
            <a:off x="411120" y="1101600"/>
            <a:ext cx="916200" cy="738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An aerial view of a city&#10;&#10;Description automatically generated with low confidence"/>
          <p:cNvPicPr/>
          <p:nvPr/>
        </p:nvPicPr>
        <p:blipFill>
          <a:blip r:embed="rId3"/>
          <a:stretch/>
        </p:blipFill>
        <p:spPr>
          <a:xfrm flipH="1">
            <a:off x="-360" y="0"/>
            <a:ext cx="98233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0" y="739800"/>
            <a:ext cx="4457880" cy="3387600"/>
          </a:xfrm>
          <a:prstGeom prst="rect">
            <a:avLst/>
          </a:prstGeom>
          <a:solidFill>
            <a:srgbClr val="1b3c69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Placeholder 7" descr="Graphical user interface, text&#10;&#10;Description automatically generated"/>
          <p:cNvPicPr/>
          <p:nvPr/>
        </p:nvPicPr>
        <p:blipFill>
          <a:blip r:embed="rId4"/>
          <a:srcRect l="-3618" t="-5668" r="-2814" b="-6438"/>
          <a:stretch/>
        </p:blipFill>
        <p:spPr>
          <a:xfrm>
            <a:off x="411120" y="1101600"/>
            <a:ext cx="916200" cy="7383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A group of people raising their hands&#10;&#10;Description automatically generate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0" y="739800"/>
            <a:ext cx="4457880" cy="3387600"/>
          </a:xfrm>
          <a:prstGeom prst="rect">
            <a:avLst/>
          </a:prstGeom>
          <a:solidFill>
            <a:srgbClr val="1b3c69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Placeholder 7" descr="Graphical user interface, text&#10;&#10;Description automatically generated"/>
          <p:cNvPicPr/>
          <p:nvPr/>
        </p:nvPicPr>
        <p:blipFill>
          <a:blip r:embed="rId4"/>
          <a:srcRect l="-3618" t="-5668" r="-2814" b="-6438"/>
          <a:stretch/>
        </p:blipFill>
        <p:spPr>
          <a:xfrm>
            <a:off x="411120" y="1101600"/>
            <a:ext cx="916200" cy="7383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4"/>
          <p:cNvSpPr/>
          <p:nvPr/>
        </p:nvSpPr>
        <p:spPr>
          <a:xfrm>
            <a:off x="0" y="271440"/>
            <a:ext cx="8271000" cy="766800"/>
          </a:xfrm>
          <a:prstGeom prst="rect">
            <a:avLst/>
          </a:prstGeom>
          <a:solidFill>
            <a:srgbClr val="197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5" descr="A picture containing text, sign&#10;&#10;Description automatically generated"/>
          <p:cNvPicPr/>
          <p:nvPr/>
        </p:nvPicPr>
        <p:blipFill>
          <a:blip r:embed="rId3"/>
          <a:stretch/>
        </p:blipFill>
        <p:spPr>
          <a:xfrm>
            <a:off x="8354880" y="6176880"/>
            <a:ext cx="565200" cy="432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4"/>
          <p:cNvSpPr/>
          <p:nvPr/>
        </p:nvSpPr>
        <p:spPr>
          <a:xfrm>
            <a:off x="0" y="271440"/>
            <a:ext cx="8271000" cy="766800"/>
          </a:xfrm>
          <a:prstGeom prst="rect">
            <a:avLst/>
          </a:prstGeom>
          <a:solidFill>
            <a:srgbClr val="197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4"/>
          <p:cNvSpPr/>
          <p:nvPr/>
        </p:nvSpPr>
        <p:spPr>
          <a:xfrm>
            <a:off x="0" y="271440"/>
            <a:ext cx="8271000" cy="766800"/>
          </a:xfrm>
          <a:prstGeom prst="rect">
            <a:avLst/>
          </a:prstGeom>
          <a:solidFill>
            <a:srgbClr val="197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4"/>
          <p:cNvSpPr/>
          <p:nvPr/>
        </p:nvSpPr>
        <p:spPr>
          <a:xfrm>
            <a:off x="0" y="271440"/>
            <a:ext cx="8271000" cy="766800"/>
          </a:xfrm>
          <a:prstGeom prst="rect">
            <a:avLst/>
          </a:prstGeom>
          <a:solidFill>
            <a:srgbClr val="197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sp>
        <p:nvSpPr>
          <p:cNvPr id="327" name="Slide Number Placeholder 5"/>
          <p:cNvSpPr/>
          <p:nvPr/>
        </p:nvSpPr>
        <p:spPr>
          <a:xfrm rot="16200000">
            <a:off x="8209800" y="611640"/>
            <a:ext cx="149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1b3c69"/>
                </a:solidFill>
                <a:latin typeface="Open Sans Condensed Light"/>
                <a:ea typeface="Open Sans Condensed Light"/>
              </a:rPr>
              <a:t>SLIDES 00</a:t>
            </a:r>
            <a:fld id="{6ADCC134-0090-45C1-8E93-A13E39C5BA5B}" type="slidenum">
              <a:rPr b="0" lang="id-ID" sz="700" spc="-1" strike="noStrike">
                <a:solidFill>
                  <a:srgbClr val="1b3c69"/>
                </a:solidFill>
                <a:latin typeface="Open Sans Condensed Light"/>
                <a:ea typeface="Open Sans Condensed Light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Picture 5" descr="A picture containing text, sign&#10;&#10;Description automatically generated"/>
          <p:cNvPicPr/>
          <p:nvPr/>
        </p:nvPicPr>
        <p:blipFill>
          <a:blip r:embed="rId3"/>
          <a:stretch/>
        </p:blipFill>
        <p:spPr>
          <a:xfrm>
            <a:off x="8280360" y="6154560"/>
            <a:ext cx="565200" cy="4320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" Target="slide18.xml"/><Relationship Id="rId4" Type="http://schemas.openxmlformats.org/officeDocument/2006/relationships/image" Target="../media/image21.png"/><Relationship Id="rId5" Type="http://schemas.openxmlformats.org/officeDocument/2006/relationships/slide" Target="slide19.xml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85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dol.gov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s://www.eeoc.gov/" TargetMode="External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7000" y="2895480"/>
            <a:ext cx="41148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ule 2: Understanding and Managing Equal Employment Opport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-1219680" y="1980720"/>
            <a:ext cx="57913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dergraduate Overview Cou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28560" y="27144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Tests Exercis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5028840" y="1904760"/>
            <a:ext cx="3886200" cy="33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ookkeep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dministrative Assista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rporate train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chani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ashi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ilo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Content Placeholder 2" descr="A picture containing text, table, person, indoor&#10;&#10;Description automatically generated"/>
          <p:cNvPicPr/>
          <p:nvPr/>
        </p:nvPicPr>
        <p:blipFill>
          <a:blip r:embed="rId1"/>
          <a:stretch/>
        </p:blipFill>
        <p:spPr>
          <a:xfrm>
            <a:off x="457200" y="2133720"/>
            <a:ext cx="38862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30000" y="271440"/>
            <a:ext cx="788652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Discrimination: Adverse Impact and Adverse Treat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30360" y="1204560"/>
            <a:ext cx="386856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erse (or disparate) impact: Uninten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28880" y="1204560"/>
            <a:ext cx="388764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erse (or disparate) treatment: Inten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Content Placeholder 8" descr="A picture containing person, clothing, person, standing&#10;&#10;Description automatically generated"/>
          <p:cNvPicPr/>
          <p:nvPr/>
        </p:nvPicPr>
        <p:blipFill>
          <a:blip r:embed="rId1"/>
          <a:stretch/>
        </p:blipFill>
        <p:spPr>
          <a:xfrm>
            <a:off x="4629240" y="2786040"/>
            <a:ext cx="3887640" cy="2589120"/>
          </a:xfrm>
          <a:prstGeom prst="rect">
            <a:avLst/>
          </a:prstGeom>
          <a:ln w="0">
            <a:noFill/>
          </a:ln>
        </p:spPr>
      </p:pic>
      <p:pic>
        <p:nvPicPr>
          <p:cNvPr id="648" name="Content Placeholder 9" descr="A person wearing a hard hat looking at a tablet&#10;&#10;Description automatically generated with low confidence"/>
          <p:cNvPicPr/>
          <p:nvPr/>
        </p:nvPicPr>
        <p:blipFill>
          <a:blip r:embed="rId2"/>
          <a:stretch/>
        </p:blipFill>
        <p:spPr>
          <a:xfrm>
            <a:off x="630360" y="2792520"/>
            <a:ext cx="3868560" cy="25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2" descr="A picture containing person, clothing, posing, standing&#10;&#10;Description automatically generated"/>
          <p:cNvPicPr/>
          <p:nvPr/>
        </p:nvPicPr>
        <p:blipFill>
          <a:blip r:embed="rId1"/>
          <a:stretch/>
        </p:blipFill>
        <p:spPr>
          <a:xfrm>
            <a:off x="3733920" y="1266840"/>
            <a:ext cx="5583240" cy="558468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28560" y="27144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rimination Exce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151920" y="1831680"/>
            <a:ext cx="52578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na fide occupational qualification (BFOQ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neces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28560" y="27144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IN" sz="3300" spc="-1" strike="noStrike">
                <a:solidFill>
                  <a:srgbClr val="ffffff"/>
                </a:solidFill>
                <a:latin typeface="Open Sans"/>
              </a:rPr>
              <a:t>BFOQ Gam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6"/>
          <p:cNvSpPr/>
          <p:nvPr/>
        </p:nvSpPr>
        <p:spPr>
          <a:xfrm>
            <a:off x="988920" y="2058840"/>
            <a:ext cx="3456000" cy="80964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ffc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7680" rIns="135000" tIns="89280" bIns="892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ooters of Amer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TextBox 10"/>
          <p:cNvSpPr/>
          <p:nvPr/>
        </p:nvSpPr>
        <p:spPr>
          <a:xfrm>
            <a:off x="1065960" y="2114280"/>
            <a:ext cx="7048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600" spc="-1" strike="noStrike">
                <a:solidFill>
                  <a:srgbClr val="ffffff"/>
                </a:solidFill>
                <a:latin typeface="Open Sans"/>
                <a:ea typeface="Arial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Rectangle 19"/>
          <p:cNvSpPr/>
          <p:nvPr/>
        </p:nvSpPr>
        <p:spPr>
          <a:xfrm>
            <a:off x="988920" y="3257640"/>
            <a:ext cx="3456000" cy="80964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ffc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7680" rIns="135000" tIns="89280" bIns="89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Wilson v Southwest airli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TextBox 20"/>
          <p:cNvSpPr/>
          <p:nvPr/>
        </p:nvSpPr>
        <p:spPr>
          <a:xfrm>
            <a:off x="1065960" y="3313080"/>
            <a:ext cx="7048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600" spc="-1" strike="noStrike">
                <a:solidFill>
                  <a:srgbClr val="ffffff"/>
                </a:solidFill>
                <a:latin typeface="Open Sans"/>
                <a:ea typeface="Arial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Rectangle 22"/>
          <p:cNvSpPr/>
          <p:nvPr/>
        </p:nvSpPr>
        <p:spPr>
          <a:xfrm>
            <a:off x="988920" y="4456080"/>
            <a:ext cx="3456000" cy="80964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ffc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7680" rIns="135000" tIns="89280" bIns="89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rkansas Buffalo Wild W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TextBox 23"/>
          <p:cNvSpPr/>
          <p:nvPr/>
        </p:nvSpPr>
        <p:spPr>
          <a:xfrm>
            <a:off x="1065960" y="4511520"/>
            <a:ext cx="7048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600" spc="-1" strike="noStrike">
                <a:solidFill>
                  <a:srgbClr val="ffffff"/>
                </a:solidFill>
                <a:latin typeface="Open Sans"/>
                <a:ea typeface="Arial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25"/>
          <p:cNvSpPr/>
          <p:nvPr/>
        </p:nvSpPr>
        <p:spPr>
          <a:xfrm>
            <a:off x="4699080" y="2058840"/>
            <a:ext cx="3456000" cy="809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7680" rIns="135000" tIns="89280" bIns="89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The Children's Home in Tampa, Florid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TextBox 26"/>
          <p:cNvSpPr/>
          <p:nvPr/>
        </p:nvSpPr>
        <p:spPr>
          <a:xfrm>
            <a:off x="4776840" y="2114280"/>
            <a:ext cx="7048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600" spc="-1" strike="noStrike">
                <a:solidFill>
                  <a:srgbClr val="ffffff"/>
                </a:solidFill>
                <a:latin typeface="Open Sans"/>
                <a:ea typeface="Arial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Rectangle 28"/>
          <p:cNvSpPr/>
          <p:nvPr/>
        </p:nvSpPr>
        <p:spPr>
          <a:xfrm>
            <a:off x="4699080" y="3257640"/>
            <a:ext cx="3456000" cy="809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7680" rIns="135000" tIns="89280" bIns="89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Borgata Casino in Atlantic City, N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Box 29"/>
          <p:cNvSpPr/>
          <p:nvPr/>
        </p:nvSpPr>
        <p:spPr>
          <a:xfrm>
            <a:off x="4776840" y="3313080"/>
            <a:ext cx="7048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600" spc="-1" strike="noStrike">
                <a:solidFill>
                  <a:srgbClr val="ffffff"/>
                </a:solidFill>
                <a:latin typeface="Open Sans"/>
                <a:ea typeface="Arial"/>
              </a:rPr>
              <a:t>0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Rectangle 31"/>
          <p:cNvSpPr/>
          <p:nvPr/>
        </p:nvSpPr>
        <p:spPr>
          <a:xfrm>
            <a:off x="4699080" y="4456080"/>
            <a:ext cx="3456000" cy="809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7680" rIns="135000" tIns="89280" bIns="89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BI agents need to retire at 5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Box 32"/>
          <p:cNvSpPr/>
          <p:nvPr/>
        </p:nvSpPr>
        <p:spPr>
          <a:xfrm>
            <a:off x="4776840" y="4511520"/>
            <a:ext cx="7048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600" spc="-1" strike="noStrike">
                <a:solidFill>
                  <a:srgbClr val="ffffff"/>
                </a:solidFill>
                <a:latin typeface="Open Sans"/>
                <a:ea typeface="Arial"/>
              </a:rPr>
              <a:t>0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28560" y="27144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ving Discrimi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Group 6"/>
          <p:cNvGrpSpPr/>
          <p:nvPr/>
        </p:nvGrpSpPr>
        <p:grpSpPr>
          <a:xfrm>
            <a:off x="4876920" y="1155600"/>
            <a:ext cx="3809880" cy="4081680"/>
            <a:chOff x="4876920" y="1155600"/>
            <a:chExt cx="3809880" cy="4081680"/>
          </a:xfrm>
        </p:grpSpPr>
        <p:sp>
          <p:nvSpPr>
            <p:cNvPr id="667" name="Rectangle 7"/>
            <p:cNvSpPr/>
            <p:nvPr/>
          </p:nvSpPr>
          <p:spPr>
            <a:xfrm>
              <a:off x="4951080" y="1155600"/>
              <a:ext cx="3723120" cy="182160"/>
            </a:xfrm>
            <a:prstGeom prst="rect">
              <a:avLst/>
            </a:prstGeom>
            <a:solidFill>
              <a:srgbClr val="f5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he McDonnel Douglas tes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68" name="Rectangle 8" descr=""/>
            <p:cNvPicPr/>
            <p:nvPr/>
          </p:nvPicPr>
          <p:blipFill>
            <a:blip r:embed="rId1"/>
            <a:stretch/>
          </p:blipFill>
          <p:spPr>
            <a:xfrm>
              <a:off x="4876920" y="1334160"/>
              <a:ext cx="3809880" cy="3903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9" name="Group 9"/>
          <p:cNvGrpSpPr/>
          <p:nvPr/>
        </p:nvGrpSpPr>
        <p:grpSpPr>
          <a:xfrm>
            <a:off x="476280" y="1155600"/>
            <a:ext cx="3657600" cy="4081680"/>
            <a:chOff x="476280" y="1155600"/>
            <a:chExt cx="3657600" cy="4081680"/>
          </a:xfrm>
        </p:grpSpPr>
        <p:sp>
          <p:nvSpPr>
            <p:cNvPr id="670" name="Rectangle 10"/>
            <p:cNvSpPr/>
            <p:nvPr/>
          </p:nvSpPr>
          <p:spPr>
            <a:xfrm>
              <a:off x="543960" y="1155600"/>
              <a:ext cx="3547080" cy="1821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he four-fifths rul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71" name="Rectangle 11" descr=""/>
            <p:cNvPicPr/>
            <p:nvPr/>
          </p:nvPicPr>
          <p:blipFill>
            <a:blip r:embed="rId2"/>
            <a:stretch/>
          </p:blipFill>
          <p:spPr>
            <a:xfrm>
              <a:off x="476280" y="1334160"/>
              <a:ext cx="3657600" cy="3903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72" name="Oval 1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96880" y="4406760"/>
            <a:ext cx="4114800" cy="2374920"/>
          </a:xfrm>
          <a:prstGeom prst="rect">
            <a:avLst/>
          </a:prstGeom>
          <a:ln w="0">
            <a:noFill/>
          </a:ln>
        </p:spPr>
      </p:pic>
      <p:pic>
        <p:nvPicPr>
          <p:cNvPr id="673" name="Oval 14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835440" y="5207040"/>
            <a:ext cx="377172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28560" y="27144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Definition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4"/>
          <p:cNvSpPr/>
          <p:nvPr/>
        </p:nvSpPr>
        <p:spPr>
          <a:xfrm>
            <a:off x="534960" y="3470400"/>
            <a:ext cx="2384280" cy="366480"/>
          </a:xfrm>
          <a:prstGeom prst="rect">
            <a:avLst/>
          </a:prstGeom>
          <a:solidFill>
            <a:srgbClr val="1dd9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ffirmative A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6" name="Rectangle 5" descr=""/>
          <p:cNvPicPr/>
          <p:nvPr/>
        </p:nvPicPr>
        <p:blipFill>
          <a:blip r:embed="rId1"/>
          <a:stretch/>
        </p:blipFill>
        <p:spPr>
          <a:xfrm>
            <a:off x="5511960" y="1295280"/>
            <a:ext cx="3289320" cy="2971800"/>
          </a:xfrm>
          <a:prstGeom prst="rect">
            <a:avLst/>
          </a:prstGeom>
          <a:ln w="0">
            <a:noFill/>
          </a:ln>
        </p:spPr>
      </p:pic>
      <p:sp>
        <p:nvSpPr>
          <p:cNvPr id="677" name="Rectangle 7"/>
          <p:cNvSpPr/>
          <p:nvPr/>
        </p:nvSpPr>
        <p:spPr>
          <a:xfrm>
            <a:off x="628560" y="4876920"/>
            <a:ext cx="2384640" cy="366480"/>
          </a:xfrm>
          <a:prstGeom prst="rect">
            <a:avLst/>
          </a:prstGeom>
          <a:solidFill>
            <a:srgbClr val="f553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iversity 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Rectangle 10"/>
          <p:cNvSpPr/>
          <p:nvPr/>
        </p:nvSpPr>
        <p:spPr>
          <a:xfrm>
            <a:off x="534960" y="2063880"/>
            <a:ext cx="2384280" cy="3650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E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9" name="Oval 12" descr=""/>
          <p:cNvPicPr/>
          <p:nvPr/>
        </p:nvPicPr>
        <p:blipFill>
          <a:blip r:embed="rId2"/>
          <a:stretch/>
        </p:blipFill>
        <p:spPr>
          <a:xfrm>
            <a:off x="3936960" y="3086280"/>
            <a:ext cx="1270080" cy="2387520"/>
          </a:xfrm>
          <a:prstGeom prst="rect">
            <a:avLst/>
          </a:prstGeom>
          <a:ln w="0">
            <a:noFill/>
          </a:ln>
        </p:spPr>
      </p:pic>
      <p:pic>
        <p:nvPicPr>
          <p:cNvPr id="680" name="Oval 13" descr=""/>
          <p:cNvPicPr/>
          <p:nvPr/>
        </p:nvPicPr>
        <p:blipFill>
          <a:blip r:embed="rId3"/>
          <a:stretch/>
        </p:blipFill>
        <p:spPr>
          <a:xfrm>
            <a:off x="50760" y="2844720"/>
            <a:ext cx="863640" cy="1524240"/>
          </a:xfrm>
          <a:prstGeom prst="rect">
            <a:avLst/>
          </a:prstGeom>
          <a:ln w="0">
            <a:noFill/>
          </a:ln>
        </p:spPr>
      </p:pic>
      <p:pic>
        <p:nvPicPr>
          <p:cNvPr id="681" name="Oval 14" descr=""/>
          <p:cNvPicPr/>
          <p:nvPr/>
        </p:nvPicPr>
        <p:blipFill>
          <a:blip r:embed="rId4"/>
          <a:stretch/>
        </p:blipFill>
        <p:spPr>
          <a:xfrm>
            <a:off x="3936960" y="1346040"/>
            <a:ext cx="1270080" cy="2387880"/>
          </a:xfrm>
          <a:prstGeom prst="rect">
            <a:avLst/>
          </a:prstGeom>
          <a:ln w="0">
            <a:noFill/>
          </a:ln>
        </p:spPr>
      </p:pic>
      <p:pic>
        <p:nvPicPr>
          <p:cNvPr id="682" name="Rectangle 17" descr=""/>
          <p:cNvPicPr/>
          <p:nvPr/>
        </p:nvPicPr>
        <p:blipFill>
          <a:blip r:embed="rId5"/>
          <a:stretch/>
        </p:blipFill>
        <p:spPr>
          <a:xfrm>
            <a:off x="5511960" y="2946240"/>
            <a:ext cx="3263760" cy="2971800"/>
          </a:xfrm>
          <a:prstGeom prst="rect">
            <a:avLst/>
          </a:prstGeom>
          <a:ln w="0">
            <a:noFill/>
          </a:ln>
        </p:spPr>
      </p:pic>
      <p:pic>
        <p:nvPicPr>
          <p:cNvPr id="683" name="Rectangle 18" descr=""/>
          <p:cNvPicPr/>
          <p:nvPr/>
        </p:nvPicPr>
        <p:blipFill>
          <a:blip r:embed="rId6"/>
          <a:stretch/>
        </p:blipFill>
        <p:spPr>
          <a:xfrm>
            <a:off x="5549760" y="4597560"/>
            <a:ext cx="3264120" cy="2971800"/>
          </a:xfrm>
          <a:prstGeom prst="rect">
            <a:avLst/>
          </a:prstGeom>
          <a:ln w="0">
            <a:noFill/>
          </a:ln>
        </p:spPr>
      </p:pic>
      <p:pic>
        <p:nvPicPr>
          <p:cNvPr id="684" name="Oval 19" descr=""/>
          <p:cNvPicPr/>
          <p:nvPr/>
        </p:nvPicPr>
        <p:blipFill>
          <a:blip r:embed="rId7"/>
          <a:stretch/>
        </p:blipFill>
        <p:spPr>
          <a:xfrm>
            <a:off x="76320" y="1422360"/>
            <a:ext cx="888840" cy="1549440"/>
          </a:xfrm>
          <a:prstGeom prst="rect">
            <a:avLst/>
          </a:prstGeom>
          <a:ln w="0">
            <a:noFill/>
          </a:ln>
        </p:spPr>
      </p:pic>
      <p:pic>
        <p:nvPicPr>
          <p:cNvPr id="685" name="Oval 20" descr=""/>
          <p:cNvPicPr/>
          <p:nvPr/>
        </p:nvPicPr>
        <p:blipFill>
          <a:blip r:embed="rId8"/>
          <a:stretch/>
        </p:blipFill>
        <p:spPr>
          <a:xfrm>
            <a:off x="3936960" y="4965840"/>
            <a:ext cx="1270080" cy="2374920"/>
          </a:xfrm>
          <a:prstGeom prst="rect">
            <a:avLst/>
          </a:prstGeom>
          <a:ln w="0">
            <a:noFill/>
          </a:ln>
        </p:spPr>
      </p:pic>
      <p:pic>
        <p:nvPicPr>
          <p:cNvPr id="686" name="Oval 21" descr=""/>
          <p:cNvPicPr/>
          <p:nvPr/>
        </p:nvPicPr>
        <p:blipFill>
          <a:blip r:embed="rId9"/>
          <a:stretch/>
        </p:blipFill>
        <p:spPr>
          <a:xfrm>
            <a:off x="88920" y="4229280"/>
            <a:ext cx="8510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Group 35"/>
          <p:cNvGrpSpPr/>
          <p:nvPr/>
        </p:nvGrpSpPr>
        <p:grpSpPr>
          <a:xfrm>
            <a:off x="0" y="1295280"/>
            <a:ext cx="9144000" cy="4800600"/>
            <a:chOff x="0" y="1295280"/>
            <a:chExt cx="9144000" cy="4800600"/>
          </a:xfrm>
        </p:grpSpPr>
        <p:sp>
          <p:nvSpPr>
            <p:cNvPr id="688" name="Freeform 6"/>
            <p:cNvSpPr/>
            <p:nvPr/>
          </p:nvSpPr>
          <p:spPr>
            <a:xfrm>
              <a:off x="1746000" y="1301400"/>
              <a:ext cx="1114200" cy="1311120"/>
            </a:xfrm>
            <a:custGeom>
              <a:avLst/>
              <a:gdLst/>
              <a:ahLst/>
              <a:rect l="l" t="t" r="r" b="b"/>
              <a:pathLst>
                <a:path w="813" h="917">
                  <a:moveTo>
                    <a:pt x="296" y="0"/>
                  </a:moveTo>
                  <a:lnTo>
                    <a:pt x="331" y="2"/>
                  </a:lnTo>
                  <a:lnTo>
                    <a:pt x="367" y="9"/>
                  </a:lnTo>
                  <a:lnTo>
                    <a:pt x="405" y="23"/>
                  </a:lnTo>
                  <a:lnTo>
                    <a:pt x="444" y="41"/>
                  </a:lnTo>
                  <a:lnTo>
                    <a:pt x="482" y="64"/>
                  </a:lnTo>
                  <a:lnTo>
                    <a:pt x="521" y="91"/>
                  </a:lnTo>
                  <a:lnTo>
                    <a:pt x="560" y="120"/>
                  </a:lnTo>
                  <a:lnTo>
                    <a:pt x="598" y="152"/>
                  </a:lnTo>
                  <a:lnTo>
                    <a:pt x="635" y="186"/>
                  </a:lnTo>
                  <a:lnTo>
                    <a:pt x="670" y="221"/>
                  </a:lnTo>
                  <a:lnTo>
                    <a:pt x="704" y="257"/>
                  </a:lnTo>
                  <a:lnTo>
                    <a:pt x="736" y="293"/>
                  </a:lnTo>
                  <a:lnTo>
                    <a:pt x="764" y="327"/>
                  </a:lnTo>
                  <a:lnTo>
                    <a:pt x="791" y="361"/>
                  </a:lnTo>
                  <a:lnTo>
                    <a:pt x="813" y="392"/>
                  </a:lnTo>
                  <a:lnTo>
                    <a:pt x="640" y="917"/>
                  </a:lnTo>
                  <a:lnTo>
                    <a:pt x="0" y="464"/>
                  </a:lnTo>
                  <a:lnTo>
                    <a:pt x="1" y="460"/>
                  </a:lnTo>
                  <a:lnTo>
                    <a:pt x="4" y="450"/>
                  </a:lnTo>
                  <a:lnTo>
                    <a:pt x="8" y="434"/>
                  </a:lnTo>
                  <a:lnTo>
                    <a:pt x="14" y="411"/>
                  </a:lnTo>
                  <a:lnTo>
                    <a:pt x="21" y="386"/>
                  </a:lnTo>
                  <a:lnTo>
                    <a:pt x="30" y="356"/>
                  </a:lnTo>
                  <a:lnTo>
                    <a:pt x="41" y="323"/>
                  </a:lnTo>
                  <a:lnTo>
                    <a:pt x="54" y="289"/>
                  </a:lnTo>
                  <a:lnTo>
                    <a:pt x="68" y="253"/>
                  </a:lnTo>
                  <a:lnTo>
                    <a:pt x="84" y="216"/>
                  </a:lnTo>
                  <a:lnTo>
                    <a:pt x="102" y="181"/>
                  </a:lnTo>
                  <a:lnTo>
                    <a:pt x="120" y="146"/>
                  </a:lnTo>
                  <a:lnTo>
                    <a:pt x="140" y="113"/>
                  </a:lnTo>
                  <a:lnTo>
                    <a:pt x="162" y="83"/>
                  </a:lnTo>
                  <a:lnTo>
                    <a:pt x="185" y="57"/>
                  </a:lnTo>
                  <a:lnTo>
                    <a:pt x="209" y="34"/>
                  </a:lnTo>
                  <a:lnTo>
                    <a:pt x="236" y="17"/>
                  </a:lnTo>
                  <a:lnTo>
                    <a:pt x="263" y="5"/>
                  </a:lnTo>
                  <a:lnTo>
                    <a:pt x="296" y="0"/>
                  </a:lnTo>
                  <a:close/>
                </a:path>
              </a:pathLst>
            </a:custGeom>
            <a:gradFill rotWithShape="0">
              <a:gsLst>
                <a:gs pos="0">
                  <a:srgbClr val="5f5f5f"/>
                </a:gs>
                <a:gs pos="100000">
                  <a:srgbClr val="a6a6a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9" name="Freeform 8"/>
            <p:cNvGrpSpPr/>
            <p:nvPr/>
          </p:nvGrpSpPr>
          <p:grpSpPr>
            <a:xfrm>
              <a:off x="6286680" y="1295280"/>
              <a:ext cx="1130040" cy="1320840"/>
              <a:chOff x="6286680" y="1295280"/>
              <a:chExt cx="1130040" cy="1320840"/>
            </a:xfrm>
          </p:grpSpPr>
          <p:pic>
            <p:nvPicPr>
              <p:cNvPr id="690" name="Freeform 8" descr=""/>
              <p:cNvPicPr/>
              <p:nvPr/>
            </p:nvPicPr>
            <p:blipFill>
              <a:blip r:embed="rId1"/>
              <a:stretch/>
            </p:blipFill>
            <p:spPr>
              <a:xfrm>
                <a:off x="6286680" y="1295280"/>
                <a:ext cx="1130040" cy="132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1" name=""/>
              <p:cNvSpPr/>
              <p:nvPr/>
            </p:nvSpPr>
            <p:spPr>
              <a:xfrm>
                <a:off x="6297480" y="1302120"/>
                <a:ext cx="111420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92" name="Freeform 10"/>
            <p:cNvSpPr/>
            <p:nvPr/>
          </p:nvSpPr>
          <p:spPr>
            <a:xfrm>
              <a:off x="1731960" y="4395600"/>
              <a:ext cx="1114200" cy="1309680"/>
            </a:xfrm>
            <a:custGeom>
              <a:avLst/>
              <a:gdLst/>
              <a:ahLst/>
              <a:rect l="l" t="t" r="r" b="b"/>
              <a:pathLst>
                <a:path w="813" h="917">
                  <a:moveTo>
                    <a:pt x="640" y="0"/>
                  </a:moveTo>
                  <a:lnTo>
                    <a:pt x="813" y="525"/>
                  </a:lnTo>
                  <a:lnTo>
                    <a:pt x="791" y="557"/>
                  </a:lnTo>
                  <a:lnTo>
                    <a:pt x="764" y="590"/>
                  </a:lnTo>
                  <a:lnTo>
                    <a:pt x="736" y="624"/>
                  </a:lnTo>
                  <a:lnTo>
                    <a:pt x="704" y="661"/>
                  </a:lnTo>
                  <a:lnTo>
                    <a:pt x="670" y="696"/>
                  </a:lnTo>
                  <a:lnTo>
                    <a:pt x="635" y="731"/>
                  </a:lnTo>
                  <a:lnTo>
                    <a:pt x="598" y="765"/>
                  </a:lnTo>
                  <a:lnTo>
                    <a:pt x="560" y="798"/>
                  </a:lnTo>
                  <a:lnTo>
                    <a:pt x="521" y="827"/>
                  </a:lnTo>
                  <a:lnTo>
                    <a:pt x="482" y="853"/>
                  </a:lnTo>
                  <a:lnTo>
                    <a:pt x="444" y="877"/>
                  </a:lnTo>
                  <a:lnTo>
                    <a:pt x="405" y="894"/>
                  </a:lnTo>
                  <a:lnTo>
                    <a:pt x="367" y="908"/>
                  </a:lnTo>
                  <a:lnTo>
                    <a:pt x="331" y="916"/>
                  </a:lnTo>
                  <a:lnTo>
                    <a:pt x="296" y="917"/>
                  </a:lnTo>
                  <a:lnTo>
                    <a:pt x="263" y="912"/>
                  </a:lnTo>
                  <a:lnTo>
                    <a:pt x="236" y="901"/>
                  </a:lnTo>
                  <a:lnTo>
                    <a:pt x="209" y="884"/>
                  </a:lnTo>
                  <a:lnTo>
                    <a:pt x="185" y="862"/>
                  </a:lnTo>
                  <a:lnTo>
                    <a:pt x="162" y="835"/>
                  </a:lnTo>
                  <a:lnTo>
                    <a:pt x="140" y="805"/>
                  </a:lnTo>
                  <a:lnTo>
                    <a:pt x="120" y="773"/>
                  </a:lnTo>
                  <a:lnTo>
                    <a:pt x="102" y="737"/>
                  </a:lnTo>
                  <a:lnTo>
                    <a:pt x="84" y="702"/>
                  </a:lnTo>
                  <a:lnTo>
                    <a:pt x="68" y="666"/>
                  </a:lnTo>
                  <a:lnTo>
                    <a:pt x="54" y="629"/>
                  </a:lnTo>
                  <a:lnTo>
                    <a:pt x="41" y="595"/>
                  </a:lnTo>
                  <a:lnTo>
                    <a:pt x="30" y="563"/>
                  </a:lnTo>
                  <a:lnTo>
                    <a:pt x="21" y="533"/>
                  </a:lnTo>
                  <a:lnTo>
                    <a:pt x="14" y="508"/>
                  </a:lnTo>
                  <a:lnTo>
                    <a:pt x="8" y="485"/>
                  </a:lnTo>
                  <a:lnTo>
                    <a:pt x="4" y="469"/>
                  </a:lnTo>
                  <a:lnTo>
                    <a:pt x="1" y="459"/>
                  </a:lnTo>
                  <a:lnTo>
                    <a:pt x="0" y="455"/>
                  </a:lnTo>
                  <a:lnTo>
                    <a:pt x="64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5f5f"/>
                </a:gs>
                <a:gs pos="100000">
                  <a:srgbClr val="a6a6a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12"/>
            <p:cNvSpPr/>
            <p:nvPr/>
          </p:nvSpPr>
          <p:spPr>
            <a:xfrm>
              <a:off x="6283440" y="4395600"/>
              <a:ext cx="1114200" cy="1309680"/>
            </a:xfrm>
            <a:custGeom>
              <a:avLst/>
              <a:gdLst/>
              <a:ahLst/>
              <a:rect l="l" t="t" r="r" b="b"/>
              <a:pathLst>
                <a:path w="813" h="917">
                  <a:moveTo>
                    <a:pt x="173" y="0"/>
                  </a:moveTo>
                  <a:lnTo>
                    <a:pt x="813" y="455"/>
                  </a:lnTo>
                  <a:lnTo>
                    <a:pt x="812" y="459"/>
                  </a:lnTo>
                  <a:lnTo>
                    <a:pt x="809" y="469"/>
                  </a:lnTo>
                  <a:lnTo>
                    <a:pt x="806" y="485"/>
                  </a:lnTo>
                  <a:lnTo>
                    <a:pt x="799" y="508"/>
                  </a:lnTo>
                  <a:lnTo>
                    <a:pt x="792" y="533"/>
                  </a:lnTo>
                  <a:lnTo>
                    <a:pt x="783" y="563"/>
                  </a:lnTo>
                  <a:lnTo>
                    <a:pt x="772" y="595"/>
                  </a:lnTo>
                  <a:lnTo>
                    <a:pt x="759" y="629"/>
                  </a:lnTo>
                  <a:lnTo>
                    <a:pt x="745" y="666"/>
                  </a:lnTo>
                  <a:lnTo>
                    <a:pt x="729" y="702"/>
                  </a:lnTo>
                  <a:lnTo>
                    <a:pt x="712" y="737"/>
                  </a:lnTo>
                  <a:lnTo>
                    <a:pt x="693" y="773"/>
                  </a:lnTo>
                  <a:lnTo>
                    <a:pt x="673" y="805"/>
                  </a:lnTo>
                  <a:lnTo>
                    <a:pt x="651" y="835"/>
                  </a:lnTo>
                  <a:lnTo>
                    <a:pt x="628" y="862"/>
                  </a:lnTo>
                  <a:lnTo>
                    <a:pt x="604" y="884"/>
                  </a:lnTo>
                  <a:lnTo>
                    <a:pt x="578" y="901"/>
                  </a:lnTo>
                  <a:lnTo>
                    <a:pt x="550" y="912"/>
                  </a:lnTo>
                  <a:lnTo>
                    <a:pt x="517" y="917"/>
                  </a:lnTo>
                  <a:lnTo>
                    <a:pt x="482" y="916"/>
                  </a:lnTo>
                  <a:lnTo>
                    <a:pt x="446" y="908"/>
                  </a:lnTo>
                  <a:lnTo>
                    <a:pt x="408" y="894"/>
                  </a:lnTo>
                  <a:lnTo>
                    <a:pt x="370" y="877"/>
                  </a:lnTo>
                  <a:lnTo>
                    <a:pt x="331" y="853"/>
                  </a:lnTo>
                  <a:lnTo>
                    <a:pt x="292" y="827"/>
                  </a:lnTo>
                  <a:lnTo>
                    <a:pt x="253" y="798"/>
                  </a:lnTo>
                  <a:lnTo>
                    <a:pt x="215" y="765"/>
                  </a:lnTo>
                  <a:lnTo>
                    <a:pt x="178" y="731"/>
                  </a:lnTo>
                  <a:lnTo>
                    <a:pt x="143" y="696"/>
                  </a:lnTo>
                  <a:lnTo>
                    <a:pt x="109" y="661"/>
                  </a:lnTo>
                  <a:lnTo>
                    <a:pt x="78" y="624"/>
                  </a:lnTo>
                  <a:lnTo>
                    <a:pt x="49" y="590"/>
                  </a:lnTo>
                  <a:lnTo>
                    <a:pt x="22" y="557"/>
                  </a:lnTo>
                  <a:lnTo>
                    <a:pt x="0" y="525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5f5f5f"/>
                </a:gs>
                <a:gs pos="100000">
                  <a:srgbClr val="a6a6a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Oval 17"/>
            <p:cNvSpPr/>
            <p:nvPr/>
          </p:nvSpPr>
          <p:spPr>
            <a:xfrm>
              <a:off x="164880" y="5186520"/>
              <a:ext cx="4011480" cy="331560"/>
            </a:xfrm>
            <a:prstGeom prst="ellipse">
              <a:avLst/>
            </a:prstGeom>
            <a:gradFill rotWithShape="0">
              <a:gsLst>
                <a:gs pos="0">
                  <a:srgbClr val="262626">
                    <a:alpha val="55294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Oval 18"/>
            <p:cNvSpPr/>
            <p:nvPr/>
          </p:nvSpPr>
          <p:spPr>
            <a:xfrm>
              <a:off x="164880" y="1545840"/>
              <a:ext cx="4341960" cy="268200"/>
            </a:xfrm>
            <a:prstGeom prst="ellipse">
              <a:avLst/>
            </a:prstGeom>
            <a:gradFill rotWithShape="0">
              <a:gsLst>
                <a:gs pos="0">
                  <a:srgbClr val="262626">
                    <a:alpha val="55294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Oval 19"/>
            <p:cNvSpPr/>
            <p:nvPr/>
          </p:nvSpPr>
          <p:spPr>
            <a:xfrm>
              <a:off x="4610160" y="1545840"/>
              <a:ext cx="4341960" cy="268200"/>
            </a:xfrm>
            <a:prstGeom prst="ellipse">
              <a:avLst/>
            </a:prstGeom>
            <a:gradFill rotWithShape="0">
              <a:gsLst>
                <a:gs pos="0">
                  <a:srgbClr val="262626">
                    <a:alpha val="55294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Oval 20"/>
            <p:cNvSpPr/>
            <p:nvPr/>
          </p:nvSpPr>
          <p:spPr>
            <a:xfrm>
              <a:off x="4984920" y="5186520"/>
              <a:ext cx="4011480" cy="331560"/>
            </a:xfrm>
            <a:prstGeom prst="ellipse">
              <a:avLst/>
            </a:prstGeom>
            <a:gradFill rotWithShape="0">
              <a:gsLst>
                <a:gs pos="0">
                  <a:srgbClr val="262626">
                    <a:alpha val="55294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Rectangle 15"/>
            <p:cNvSpPr/>
            <p:nvPr/>
          </p:nvSpPr>
          <p:spPr>
            <a:xfrm>
              <a:off x="0" y="1704600"/>
              <a:ext cx="9144000" cy="363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99" name="Group 14"/>
            <p:cNvGrpSpPr/>
            <p:nvPr/>
          </p:nvGrpSpPr>
          <p:grpSpPr>
            <a:xfrm>
              <a:off x="1977480" y="1295280"/>
              <a:ext cx="5175000" cy="4431960"/>
              <a:chOff x="1977480" y="1295280"/>
              <a:chExt cx="5175000" cy="4431960"/>
            </a:xfrm>
          </p:grpSpPr>
          <p:grpSp>
            <p:nvGrpSpPr>
              <p:cNvPr id="700" name="Freeform 7"/>
              <p:cNvGrpSpPr/>
              <p:nvPr/>
            </p:nvGrpSpPr>
            <p:grpSpPr>
              <a:xfrm>
                <a:off x="1977480" y="1295280"/>
                <a:ext cx="2568600" cy="1625760"/>
                <a:chOff x="1977480" y="1295280"/>
                <a:chExt cx="2568600" cy="1625760"/>
              </a:xfrm>
            </p:grpSpPr>
            <p:pic>
              <p:nvPicPr>
                <p:cNvPr id="701" name="Freeform 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977480" y="1295280"/>
                  <a:ext cx="2568600" cy="1625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02" name=""/>
                <p:cNvSpPr/>
                <p:nvPr/>
              </p:nvSpPr>
              <p:spPr>
                <a:xfrm>
                  <a:off x="1986480" y="1295280"/>
                  <a:ext cx="2552040" cy="161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03" name="Freeform 9"/>
              <p:cNvGrpSpPr/>
              <p:nvPr/>
            </p:nvGrpSpPr>
            <p:grpSpPr>
              <a:xfrm>
                <a:off x="4583880" y="1295280"/>
                <a:ext cx="2568600" cy="1625760"/>
                <a:chOff x="4583880" y="1295280"/>
                <a:chExt cx="2568600" cy="1625760"/>
              </a:xfrm>
            </p:grpSpPr>
            <p:pic>
              <p:nvPicPr>
                <p:cNvPr id="704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583880" y="1295280"/>
                  <a:ext cx="2568600" cy="1625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05" name=""/>
                <p:cNvSpPr/>
                <p:nvPr/>
              </p:nvSpPr>
              <p:spPr>
                <a:xfrm>
                  <a:off x="4590000" y="1295280"/>
                  <a:ext cx="2552040" cy="161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706" name="Freeform 11"/>
              <p:cNvSpPr/>
              <p:nvPr/>
            </p:nvSpPr>
            <p:spPr>
              <a:xfrm>
                <a:off x="1986480" y="4107960"/>
                <a:ext cx="2552040" cy="1619280"/>
              </a:xfrm>
              <a:custGeom>
                <a:avLst/>
                <a:gdLst/>
                <a:ahLst/>
                <a:rect l="l" t="t" r="r" b="b"/>
                <a:pathLst>
                  <a:path w="1869" h="1133">
                    <a:moveTo>
                      <a:pt x="1110" y="0"/>
                    </a:moveTo>
                    <a:lnTo>
                      <a:pt x="1798" y="0"/>
                    </a:lnTo>
                    <a:lnTo>
                      <a:pt x="1816" y="3"/>
                    </a:lnTo>
                    <a:lnTo>
                      <a:pt x="1831" y="8"/>
                    </a:lnTo>
                    <a:lnTo>
                      <a:pt x="1842" y="17"/>
                    </a:lnTo>
                    <a:lnTo>
                      <a:pt x="1851" y="27"/>
                    </a:lnTo>
                    <a:lnTo>
                      <a:pt x="1857" y="38"/>
                    </a:lnTo>
                    <a:lnTo>
                      <a:pt x="1862" y="49"/>
                    </a:lnTo>
                    <a:lnTo>
                      <a:pt x="1865" y="59"/>
                    </a:lnTo>
                    <a:lnTo>
                      <a:pt x="1866" y="68"/>
                    </a:lnTo>
                    <a:lnTo>
                      <a:pt x="1867" y="73"/>
                    </a:lnTo>
                    <a:lnTo>
                      <a:pt x="1867" y="216"/>
                    </a:lnTo>
                    <a:lnTo>
                      <a:pt x="1869" y="260"/>
                    </a:lnTo>
                    <a:lnTo>
                      <a:pt x="1869" y="706"/>
                    </a:lnTo>
                    <a:lnTo>
                      <a:pt x="1867" y="731"/>
                    </a:lnTo>
                    <a:lnTo>
                      <a:pt x="1867" y="749"/>
                    </a:lnTo>
                    <a:lnTo>
                      <a:pt x="1865" y="770"/>
                    </a:lnTo>
                    <a:lnTo>
                      <a:pt x="1860" y="786"/>
                    </a:lnTo>
                    <a:lnTo>
                      <a:pt x="1852" y="798"/>
                    </a:lnTo>
                    <a:lnTo>
                      <a:pt x="1842" y="805"/>
                    </a:lnTo>
                    <a:lnTo>
                      <a:pt x="1832" y="810"/>
                    </a:lnTo>
                    <a:lnTo>
                      <a:pt x="1822" y="813"/>
                    </a:lnTo>
                    <a:lnTo>
                      <a:pt x="1803" y="813"/>
                    </a:lnTo>
                    <a:lnTo>
                      <a:pt x="1796" y="810"/>
                    </a:lnTo>
                    <a:lnTo>
                      <a:pt x="1791" y="809"/>
                    </a:lnTo>
                    <a:lnTo>
                      <a:pt x="1790" y="809"/>
                    </a:lnTo>
                    <a:lnTo>
                      <a:pt x="1696" y="715"/>
                    </a:lnTo>
                    <a:lnTo>
                      <a:pt x="1677" y="734"/>
                    </a:lnTo>
                    <a:lnTo>
                      <a:pt x="1663" y="746"/>
                    </a:lnTo>
                    <a:lnTo>
                      <a:pt x="1647" y="763"/>
                    </a:lnTo>
                    <a:lnTo>
                      <a:pt x="1627" y="780"/>
                    </a:lnTo>
                    <a:lnTo>
                      <a:pt x="1607" y="802"/>
                    </a:lnTo>
                    <a:lnTo>
                      <a:pt x="1583" y="823"/>
                    </a:lnTo>
                    <a:lnTo>
                      <a:pt x="1559" y="847"/>
                    </a:lnTo>
                    <a:lnTo>
                      <a:pt x="1534" y="871"/>
                    </a:lnTo>
                    <a:lnTo>
                      <a:pt x="1509" y="896"/>
                    </a:lnTo>
                    <a:lnTo>
                      <a:pt x="1484" y="920"/>
                    </a:lnTo>
                    <a:lnTo>
                      <a:pt x="1435" y="969"/>
                    </a:lnTo>
                    <a:lnTo>
                      <a:pt x="1411" y="991"/>
                    </a:lnTo>
                    <a:lnTo>
                      <a:pt x="1391" y="1011"/>
                    </a:lnTo>
                    <a:lnTo>
                      <a:pt x="1372" y="1031"/>
                    </a:lnTo>
                    <a:lnTo>
                      <a:pt x="1342" y="1062"/>
                    </a:lnTo>
                    <a:lnTo>
                      <a:pt x="1319" y="1084"/>
                    </a:lnTo>
                    <a:lnTo>
                      <a:pt x="1298" y="1102"/>
                    </a:lnTo>
                    <a:lnTo>
                      <a:pt x="1280" y="1114"/>
                    </a:lnTo>
                    <a:lnTo>
                      <a:pt x="1263" y="1123"/>
                    </a:lnTo>
                    <a:lnTo>
                      <a:pt x="1251" y="1129"/>
                    </a:lnTo>
                    <a:lnTo>
                      <a:pt x="1241" y="1132"/>
                    </a:lnTo>
                    <a:lnTo>
                      <a:pt x="1233" y="1133"/>
                    </a:lnTo>
                    <a:lnTo>
                      <a:pt x="156" y="1133"/>
                    </a:lnTo>
                    <a:lnTo>
                      <a:pt x="128" y="1131"/>
                    </a:lnTo>
                    <a:lnTo>
                      <a:pt x="103" y="1123"/>
                    </a:lnTo>
                    <a:lnTo>
                      <a:pt x="80" y="1113"/>
                    </a:lnTo>
                    <a:lnTo>
                      <a:pt x="60" y="1102"/>
                    </a:lnTo>
                    <a:lnTo>
                      <a:pt x="42" y="1089"/>
                    </a:lnTo>
                    <a:lnTo>
                      <a:pt x="28" y="1077"/>
                    </a:lnTo>
                    <a:lnTo>
                      <a:pt x="15" y="1065"/>
                    </a:lnTo>
                    <a:lnTo>
                      <a:pt x="8" y="1055"/>
                    </a:lnTo>
                    <a:lnTo>
                      <a:pt x="1" y="1049"/>
                    </a:lnTo>
                    <a:lnTo>
                      <a:pt x="0" y="1046"/>
                    </a:lnTo>
                    <a:lnTo>
                      <a:pt x="29" y="1070"/>
                    </a:lnTo>
                    <a:lnTo>
                      <a:pt x="58" y="1088"/>
                    </a:lnTo>
                    <a:lnTo>
                      <a:pt x="87" y="1098"/>
                    </a:lnTo>
                    <a:lnTo>
                      <a:pt x="115" y="1102"/>
                    </a:lnTo>
                    <a:lnTo>
                      <a:pt x="142" y="1102"/>
                    </a:lnTo>
                    <a:lnTo>
                      <a:pt x="168" y="1098"/>
                    </a:lnTo>
                    <a:lnTo>
                      <a:pt x="191" y="1090"/>
                    </a:lnTo>
                    <a:lnTo>
                      <a:pt x="213" y="1082"/>
                    </a:lnTo>
                    <a:lnTo>
                      <a:pt x="232" y="1070"/>
                    </a:lnTo>
                    <a:lnTo>
                      <a:pt x="248" y="1060"/>
                    </a:lnTo>
                    <a:lnTo>
                      <a:pt x="262" y="1050"/>
                    </a:lnTo>
                    <a:lnTo>
                      <a:pt x="272" y="1043"/>
                    </a:lnTo>
                    <a:lnTo>
                      <a:pt x="278" y="1038"/>
                    </a:lnTo>
                    <a:lnTo>
                      <a:pt x="281" y="1035"/>
                    </a:lnTo>
                    <a:lnTo>
                      <a:pt x="1151" y="170"/>
                    </a:lnTo>
                    <a:lnTo>
                      <a:pt x="1060" y="83"/>
                    </a:lnTo>
                    <a:lnTo>
                      <a:pt x="1054" y="63"/>
                    </a:lnTo>
                    <a:lnTo>
                      <a:pt x="1053" y="48"/>
                    </a:lnTo>
                    <a:lnTo>
                      <a:pt x="1055" y="34"/>
                    </a:lnTo>
                    <a:lnTo>
                      <a:pt x="1062" y="24"/>
                    </a:lnTo>
                    <a:lnTo>
                      <a:pt x="1070" y="15"/>
                    </a:lnTo>
                    <a:lnTo>
                      <a:pt x="1079" y="10"/>
                    </a:lnTo>
                    <a:lnTo>
                      <a:pt x="1089" y="5"/>
                    </a:lnTo>
                    <a:lnTo>
                      <a:pt x="1098" y="3"/>
                    </a:lnTo>
                    <a:lnTo>
                      <a:pt x="1105" y="2"/>
                    </a:lnTo>
                    <a:lnTo>
                      <a:pt x="111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96"/>
                  </a:gs>
                  <a:gs pos="100000">
                    <a:srgbClr val="00b8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7" name="Freeform 13"/>
              <p:cNvSpPr/>
              <p:nvPr/>
            </p:nvSpPr>
            <p:spPr>
              <a:xfrm>
                <a:off x="4590360" y="4107960"/>
                <a:ext cx="2552040" cy="1619280"/>
              </a:xfrm>
              <a:custGeom>
                <a:avLst/>
                <a:gdLst/>
                <a:ahLst/>
                <a:rect l="l" t="t" r="r" b="b"/>
                <a:pathLst>
                  <a:path w="1869" h="1133">
                    <a:moveTo>
                      <a:pt x="71" y="0"/>
                    </a:moveTo>
                    <a:lnTo>
                      <a:pt x="759" y="0"/>
                    </a:lnTo>
                    <a:lnTo>
                      <a:pt x="764" y="2"/>
                    </a:lnTo>
                    <a:lnTo>
                      <a:pt x="771" y="3"/>
                    </a:lnTo>
                    <a:lnTo>
                      <a:pt x="780" y="5"/>
                    </a:lnTo>
                    <a:lnTo>
                      <a:pt x="790" y="10"/>
                    </a:lnTo>
                    <a:lnTo>
                      <a:pt x="799" y="15"/>
                    </a:lnTo>
                    <a:lnTo>
                      <a:pt x="808" y="24"/>
                    </a:lnTo>
                    <a:lnTo>
                      <a:pt x="814" y="34"/>
                    </a:lnTo>
                    <a:lnTo>
                      <a:pt x="816" y="48"/>
                    </a:lnTo>
                    <a:lnTo>
                      <a:pt x="815" y="63"/>
                    </a:lnTo>
                    <a:lnTo>
                      <a:pt x="809" y="83"/>
                    </a:lnTo>
                    <a:lnTo>
                      <a:pt x="720" y="170"/>
                    </a:lnTo>
                    <a:lnTo>
                      <a:pt x="1588" y="1035"/>
                    </a:lnTo>
                    <a:lnTo>
                      <a:pt x="1591" y="1038"/>
                    </a:lnTo>
                    <a:lnTo>
                      <a:pt x="1597" y="1043"/>
                    </a:lnTo>
                    <a:lnTo>
                      <a:pt x="1607" y="1050"/>
                    </a:lnTo>
                    <a:lnTo>
                      <a:pt x="1621" y="1060"/>
                    </a:lnTo>
                    <a:lnTo>
                      <a:pt x="1637" y="1070"/>
                    </a:lnTo>
                    <a:lnTo>
                      <a:pt x="1656" y="1082"/>
                    </a:lnTo>
                    <a:lnTo>
                      <a:pt x="1678" y="1090"/>
                    </a:lnTo>
                    <a:lnTo>
                      <a:pt x="1702" y="1098"/>
                    </a:lnTo>
                    <a:lnTo>
                      <a:pt x="1727" y="1102"/>
                    </a:lnTo>
                    <a:lnTo>
                      <a:pt x="1755" y="1102"/>
                    </a:lnTo>
                    <a:lnTo>
                      <a:pt x="1782" y="1098"/>
                    </a:lnTo>
                    <a:lnTo>
                      <a:pt x="1811" y="1088"/>
                    </a:lnTo>
                    <a:lnTo>
                      <a:pt x="1840" y="1070"/>
                    </a:lnTo>
                    <a:lnTo>
                      <a:pt x="1869" y="1046"/>
                    </a:lnTo>
                    <a:lnTo>
                      <a:pt x="1868" y="1049"/>
                    </a:lnTo>
                    <a:lnTo>
                      <a:pt x="1861" y="1055"/>
                    </a:lnTo>
                    <a:lnTo>
                      <a:pt x="1854" y="1065"/>
                    </a:lnTo>
                    <a:lnTo>
                      <a:pt x="1841" y="1077"/>
                    </a:lnTo>
                    <a:lnTo>
                      <a:pt x="1828" y="1089"/>
                    </a:lnTo>
                    <a:lnTo>
                      <a:pt x="1809" y="1102"/>
                    </a:lnTo>
                    <a:lnTo>
                      <a:pt x="1789" y="1113"/>
                    </a:lnTo>
                    <a:lnTo>
                      <a:pt x="1766" y="1123"/>
                    </a:lnTo>
                    <a:lnTo>
                      <a:pt x="1741" y="1131"/>
                    </a:lnTo>
                    <a:lnTo>
                      <a:pt x="1714" y="1133"/>
                    </a:lnTo>
                    <a:lnTo>
                      <a:pt x="636" y="1133"/>
                    </a:lnTo>
                    <a:lnTo>
                      <a:pt x="628" y="1132"/>
                    </a:lnTo>
                    <a:lnTo>
                      <a:pt x="618" y="1129"/>
                    </a:lnTo>
                    <a:lnTo>
                      <a:pt x="606" y="1123"/>
                    </a:lnTo>
                    <a:lnTo>
                      <a:pt x="589" y="1114"/>
                    </a:lnTo>
                    <a:lnTo>
                      <a:pt x="571" y="1102"/>
                    </a:lnTo>
                    <a:lnTo>
                      <a:pt x="551" y="1084"/>
                    </a:lnTo>
                    <a:lnTo>
                      <a:pt x="527" y="1062"/>
                    </a:lnTo>
                    <a:lnTo>
                      <a:pt x="497" y="1031"/>
                    </a:lnTo>
                    <a:lnTo>
                      <a:pt x="478" y="1011"/>
                    </a:lnTo>
                    <a:lnTo>
                      <a:pt x="458" y="991"/>
                    </a:lnTo>
                    <a:lnTo>
                      <a:pt x="434" y="969"/>
                    </a:lnTo>
                    <a:lnTo>
                      <a:pt x="385" y="920"/>
                    </a:lnTo>
                    <a:lnTo>
                      <a:pt x="360" y="896"/>
                    </a:lnTo>
                    <a:lnTo>
                      <a:pt x="335" y="871"/>
                    </a:lnTo>
                    <a:lnTo>
                      <a:pt x="310" y="847"/>
                    </a:lnTo>
                    <a:lnTo>
                      <a:pt x="286" y="823"/>
                    </a:lnTo>
                    <a:lnTo>
                      <a:pt x="262" y="802"/>
                    </a:lnTo>
                    <a:lnTo>
                      <a:pt x="242" y="780"/>
                    </a:lnTo>
                    <a:lnTo>
                      <a:pt x="222" y="763"/>
                    </a:lnTo>
                    <a:lnTo>
                      <a:pt x="206" y="746"/>
                    </a:lnTo>
                    <a:lnTo>
                      <a:pt x="192" y="734"/>
                    </a:lnTo>
                    <a:lnTo>
                      <a:pt x="173" y="715"/>
                    </a:lnTo>
                    <a:lnTo>
                      <a:pt x="79" y="809"/>
                    </a:lnTo>
                    <a:lnTo>
                      <a:pt x="78" y="809"/>
                    </a:lnTo>
                    <a:lnTo>
                      <a:pt x="73" y="810"/>
                    </a:lnTo>
                    <a:lnTo>
                      <a:pt x="66" y="813"/>
                    </a:lnTo>
                    <a:lnTo>
                      <a:pt x="47" y="813"/>
                    </a:lnTo>
                    <a:lnTo>
                      <a:pt x="37" y="810"/>
                    </a:lnTo>
                    <a:lnTo>
                      <a:pt x="27" y="805"/>
                    </a:lnTo>
                    <a:lnTo>
                      <a:pt x="17" y="798"/>
                    </a:lnTo>
                    <a:lnTo>
                      <a:pt x="9" y="786"/>
                    </a:lnTo>
                    <a:lnTo>
                      <a:pt x="4" y="770"/>
                    </a:lnTo>
                    <a:lnTo>
                      <a:pt x="2" y="749"/>
                    </a:lnTo>
                    <a:lnTo>
                      <a:pt x="2" y="731"/>
                    </a:lnTo>
                    <a:lnTo>
                      <a:pt x="0" y="706"/>
                    </a:lnTo>
                    <a:lnTo>
                      <a:pt x="0" y="260"/>
                    </a:lnTo>
                    <a:lnTo>
                      <a:pt x="2" y="216"/>
                    </a:lnTo>
                    <a:lnTo>
                      <a:pt x="2" y="73"/>
                    </a:lnTo>
                    <a:lnTo>
                      <a:pt x="3" y="68"/>
                    </a:lnTo>
                    <a:lnTo>
                      <a:pt x="4" y="59"/>
                    </a:lnTo>
                    <a:lnTo>
                      <a:pt x="7" y="49"/>
                    </a:lnTo>
                    <a:lnTo>
                      <a:pt x="12" y="38"/>
                    </a:lnTo>
                    <a:lnTo>
                      <a:pt x="18" y="27"/>
                    </a:lnTo>
                    <a:lnTo>
                      <a:pt x="27" y="17"/>
                    </a:lnTo>
                    <a:lnTo>
                      <a:pt x="38" y="8"/>
                    </a:lnTo>
                    <a:lnTo>
                      <a:pt x="53" y="3"/>
                    </a:lnTo>
                    <a:lnTo>
                      <a:pt x="7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07400"/>
                  </a:gs>
                  <a:gs pos="100000">
                    <a:srgbClr val="ffca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08" name="Oval 21"/>
            <p:cNvSpPr/>
            <p:nvPr/>
          </p:nvSpPr>
          <p:spPr>
            <a:xfrm>
              <a:off x="263520" y="5753160"/>
              <a:ext cx="8616960" cy="342720"/>
            </a:xfrm>
            <a:prstGeom prst="ellipse">
              <a:avLst/>
            </a:prstGeom>
            <a:gradFill rotWithShape="0">
              <a:gsLst>
                <a:gs pos="0">
                  <a:srgbClr val="262626">
                    <a:alpha val="31372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TextBox 27"/>
            <p:cNvSpPr/>
            <p:nvPr/>
          </p:nvSpPr>
          <p:spPr>
            <a:xfrm>
              <a:off x="772920" y="2070000"/>
              <a:ext cx="289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versity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TextBox 28"/>
            <p:cNvSpPr/>
            <p:nvPr/>
          </p:nvSpPr>
          <p:spPr>
            <a:xfrm>
              <a:off x="763560" y="434808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quity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TextBox 29"/>
            <p:cNvSpPr/>
            <p:nvPr/>
          </p:nvSpPr>
          <p:spPr>
            <a:xfrm>
              <a:off x="5334120" y="2195280"/>
              <a:ext cx="289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clusio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TextBox 30"/>
            <p:cNvSpPr/>
            <p:nvPr/>
          </p:nvSpPr>
          <p:spPr>
            <a:xfrm>
              <a:off x="5797440" y="434808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der Pay Gap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28560" y="27144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Trends in EEO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5" descr="Text&#10;&#10;Description automatically generated"/>
          <p:cNvPicPr/>
          <p:nvPr/>
        </p:nvPicPr>
        <p:blipFill>
          <a:blip r:embed="rId1"/>
          <a:stretch/>
        </p:blipFill>
        <p:spPr>
          <a:xfrm>
            <a:off x="380880" y="522360"/>
            <a:ext cx="838224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Can 14"/>
          <p:cNvSpPr/>
          <p:nvPr/>
        </p:nvSpPr>
        <p:spPr>
          <a:xfrm rot="2931600">
            <a:off x="3853800" y="435600"/>
            <a:ext cx="336600" cy="4929120"/>
          </a:xfrm>
          <a:prstGeom prst="can">
            <a:avLst>
              <a:gd name="adj" fmla="val 1708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entagon 6"/>
          <p:cNvSpPr/>
          <p:nvPr/>
        </p:nvSpPr>
        <p:spPr>
          <a:xfrm>
            <a:off x="2935440" y="3862440"/>
            <a:ext cx="4284360" cy="515880"/>
          </a:xfrm>
          <a:custGeom>
            <a:avLst/>
            <a:gdLst>
              <a:gd name="textAreaLeft" fmla="*/ 0 w 4284360"/>
              <a:gd name="textAreaRight" fmla="*/ 4284360 w 428436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61" y="0"/>
                </a:lnTo>
                <a:lnTo>
                  <a:pt x="21600" y="10800"/>
                </a:lnTo>
                <a:lnTo>
                  <a:pt x="2046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80% of the selection rate of the majority: 67% * .80 = 53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entagon 7"/>
          <p:cNvSpPr/>
          <p:nvPr/>
        </p:nvSpPr>
        <p:spPr>
          <a:xfrm>
            <a:off x="4000680" y="3029040"/>
            <a:ext cx="3890880" cy="517320"/>
          </a:xfrm>
          <a:custGeom>
            <a:avLst/>
            <a:gdLst>
              <a:gd name="textAreaLeft" fmla="*/ 0 w 3890880"/>
              <a:gd name="textAreaRight" fmla="*/ 3890880 w 3890880"/>
              <a:gd name="textAreaTop" fmla="*/ 0 h 517320"/>
              <a:gd name="textAreaBottom" fmla="*/ 517680 h 51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41" y="0"/>
                </a:lnTo>
                <a:lnTo>
                  <a:pt x="21600" y="10800"/>
                </a:lnTo>
                <a:lnTo>
                  <a:pt x="203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lection rate of the majority (men): 40/60 or 67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entagon 8"/>
          <p:cNvSpPr/>
          <p:nvPr/>
        </p:nvSpPr>
        <p:spPr>
          <a:xfrm>
            <a:off x="4994280" y="2163600"/>
            <a:ext cx="2360520" cy="517680"/>
          </a:xfrm>
          <a:custGeom>
            <a:avLst/>
            <a:gdLst>
              <a:gd name="textAreaLeft" fmla="*/ 0 w 2360520"/>
              <a:gd name="textAreaRight" fmla="*/ 2360880 w 2360520"/>
              <a:gd name="textAreaTop" fmla="*/ 0 h 517680"/>
              <a:gd name="textAreaBottom" fmla="*/ 518040 h 51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25" y="0"/>
                </a:lnTo>
                <a:lnTo>
                  <a:pt x="21600" y="10800"/>
                </a:lnTo>
                <a:lnTo>
                  <a:pt x="1952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bb4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ires: 40 m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entagon 9"/>
          <p:cNvSpPr/>
          <p:nvPr/>
        </p:nvSpPr>
        <p:spPr>
          <a:xfrm>
            <a:off x="5707080" y="1174680"/>
            <a:ext cx="3056040" cy="874800"/>
          </a:xfrm>
          <a:custGeom>
            <a:avLst/>
            <a:gdLst>
              <a:gd name="textAreaLeft" fmla="*/ 0 w 3056040"/>
              <a:gd name="textAreaRight" fmla="*/ 3056400 w 3056040"/>
              <a:gd name="textAreaTop" fmla="*/ 0 h 874800"/>
              <a:gd name="textAreaBottom" fmla="*/ 875160 h 87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92" y="0"/>
                </a:lnTo>
                <a:lnTo>
                  <a:pt x="21600" y="10800"/>
                </a:lnTo>
                <a:lnTo>
                  <a:pt x="1889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itial applicant pool of 100, consisting of 60 men and 40 wom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Rectangle 2"/>
          <p:cNvSpPr/>
          <p:nvPr/>
        </p:nvSpPr>
        <p:spPr>
          <a:xfrm rot="2956800">
            <a:off x="2270520" y="4680720"/>
            <a:ext cx="704880" cy="21456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Oval 4"/>
          <p:cNvSpPr/>
          <p:nvPr/>
        </p:nvSpPr>
        <p:spPr>
          <a:xfrm>
            <a:off x="441360" y="3863880"/>
            <a:ext cx="2751120" cy="2749680"/>
          </a:xfrm>
          <a:prstGeom prst="ellipse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refore, out of the 40 women, 53% selection rate of the majority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0 * .53 = 21.33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r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22 wom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Rectangle 11"/>
          <p:cNvSpPr/>
          <p:nvPr/>
        </p:nvSpPr>
        <p:spPr>
          <a:xfrm>
            <a:off x="152280" y="1623960"/>
            <a:ext cx="3476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/5th rule example: How many women would need to be hired to ensure there is no violation of the 4/5 Rul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28560" y="27144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/5th Rule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15">
            <a:hlinkClick r:id="rId1" action="ppaction://hlinksldjump"/>
          </p:cNvPr>
          <p:cNvSpPr/>
          <p:nvPr/>
        </p:nvSpPr>
        <p:spPr>
          <a:xfrm>
            <a:off x="0" y="6400800"/>
            <a:ext cx="838080" cy="457200"/>
          </a:xfrm>
          <a:prstGeom prst="rect">
            <a:avLst/>
          </a:prstGeom>
          <a:solidFill>
            <a:srgbClr val="ff000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28560" y="27144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6" name=""/>
          <p:cNvGraphicFramePr/>
          <p:nvPr/>
        </p:nvGraphicFramePr>
        <p:xfrm>
          <a:off x="1143000" y="1905120"/>
          <a:ext cx="6858000" cy="3508200"/>
        </p:xfrm>
        <a:graphic>
          <a:graphicData uri="http://schemas.openxmlformats.org/drawingml/2006/table">
            <a:tbl>
              <a:tblPr/>
              <a:tblGrid>
                <a:gridCol w="2805120"/>
                <a:gridCol w="1434960"/>
                <a:gridCol w="1371600"/>
                <a:gridCol w="1246320"/>
              </a:tblGrid>
              <a:tr h="923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mploye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lack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ispanic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it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52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Given Ra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606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ection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923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ority Selection Ratio/ Majority Selection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52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verse Imp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727" name="Rectangle 7">
            <a:hlinkClick r:id="rId1" action="ppaction://hlinksldjump"/>
          </p:cNvPr>
          <p:cNvSpPr/>
          <p:nvPr/>
        </p:nvSpPr>
        <p:spPr>
          <a:xfrm>
            <a:off x="0" y="6400800"/>
            <a:ext cx="838080" cy="457200"/>
          </a:xfrm>
          <a:prstGeom prst="rect">
            <a:avLst/>
          </a:prstGeom>
          <a:solidFill>
            <a:srgbClr val="ff000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28560" y="27144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ing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628560" y="1162080"/>
            <a:ext cx="788688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iscuss the background for EEO law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ist major federal EEO legisl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fine adverse impact and adverse treat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scribe the methods of proving discrimin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iscuss the exceptions to discrimin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istinguish among EEO, AA and diversity manage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scribe the trends in EE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28560" y="27144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Content Placeholder 5" descr=""/>
          <p:cNvPicPr/>
          <p:nvPr/>
        </p:nvPicPr>
        <p:blipFill>
          <a:blip r:embed="rId1"/>
          <a:stretch/>
        </p:blipFill>
        <p:spPr>
          <a:xfrm>
            <a:off x="628560" y="2487600"/>
            <a:ext cx="788688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5" descr="A sign outside of a building&#10;&#10;Description automatically generated with medium confidenc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0920" y="2887560"/>
            <a:ext cx="4267440" cy="284508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080" y="1338120"/>
            <a:ext cx="6693120" cy="1549440"/>
          </a:xfrm>
          <a:prstGeom prst="rect">
            <a:avLst/>
          </a:prstGeom>
          <a:ln w="0">
            <a:noFill/>
          </a:ln>
        </p:spPr>
      </p:pic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27144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ground/History of EEO Legi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Content Placeholder 3" descr="A picture containing text&#10;&#10;Description automatically generated"/>
          <p:cNvPicPr/>
          <p:nvPr/>
        </p:nvPicPr>
        <p:blipFill>
          <a:blip r:embed="rId5"/>
          <a:stretch/>
        </p:blipFill>
        <p:spPr>
          <a:xfrm>
            <a:off x="628560" y="1201680"/>
            <a:ext cx="7375680" cy="488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27144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ederal Legislation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itle VII of the Civil Rights Act of 196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228240" y="1446120"/>
            <a:ext cx="3886200" cy="39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ment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ir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ai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ward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ayoff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Content Placeholder 5" descr="A picture containing person, indoor&#10;&#10;Description automatically generated"/>
          <p:cNvPicPr/>
          <p:nvPr/>
        </p:nvPicPr>
        <p:blipFill>
          <a:blip r:embed="rId1"/>
          <a:stretch/>
        </p:blipFill>
        <p:spPr>
          <a:xfrm>
            <a:off x="3505320" y="2440080"/>
            <a:ext cx="56386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28560" y="27144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Federal Legislation Activity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57200" y="1523880"/>
            <a:ext cx="788688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itle VII of the Civil Rights Act of 1964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Equal Pay Act (EPA) of 1963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egnancy Discrimination Act of 1978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ivil Rights Act of 199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ge Discrimination in Employment Act (ADEA) of 1967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Rehabilitation Act of 197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Americans with Disabilities Act (ADA) of 199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Uniformed Services Employment and Reemployment Rights Act (USERRA) of 199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Genetic Information Nondiscrimination Act (GINA) of 2008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Americans with Disabilities Act Amendment Act (ADAAA) of 2008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27144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Equal Pay Act (EPA) of 1963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295280" y="1676520"/>
            <a:ext cx="676296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dbetter v. Goodyear Tire &amp; Rubber Co.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10" descr="Close-up of a tire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1857240" y="3319560"/>
            <a:ext cx="533412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27144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Federal Legislation Storytelling Activity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7200" y="1523880"/>
            <a:ext cx="788688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egnancy Discrimination Act of 1978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ivil Rights Act of 199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ge Discrimination in Employment Act (ADEA) of 1967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Rehabilitation Act of 197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Americans with Disabilities Act (ADA) of 199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Uniformed Services Employment and Reemployment Rights Act (USERRA) of 199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Genetic Information Nondiscrimination Act (GINA) of 2008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Americans with Disabilities Act Amendment Act (ADAAA) of 2008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28560" y="27144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EEO Policy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981080" y="1190160"/>
            <a:ext cx="7886880" cy="15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air Employment Practice (FEP) law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te and local law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2" descr="A picture containing outdoor, sky, building, government building&#10;&#10;Description automatically generated"/>
          <p:cNvPicPr/>
          <p:nvPr/>
        </p:nvPicPr>
        <p:blipFill>
          <a:blip r:embed="rId1"/>
          <a:stretch/>
        </p:blipFill>
        <p:spPr>
          <a:xfrm>
            <a:off x="1295280" y="2793960"/>
            <a:ext cx="60962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28560" y="27144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Retaliat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151920" y="2277720"/>
            <a:ext cx="3333960" cy="26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dverse ac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bstantial penalt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2" descr="A person wearing a headset and sitting at a desk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3943440" y="2079720"/>
            <a:ext cx="457200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6T20:42:03Z</dcterms:created>
  <dc:creator>ddwyer</dc:creator>
  <dc:description/>
  <cp:keywords/>
  <dc:language>en-US</dc:language>
  <cp:lastModifiedBy>Lori Roth</cp:lastModifiedBy>
  <cp:lastPrinted>2021-07-09T19:39:33Z</cp:lastPrinted>
  <dcterms:modified xsi:type="dcterms:W3CDTF">2021-07-21T18:30:57Z</dcterms:modified>
  <cp:revision>234</cp:revision>
  <dc:subject/>
  <dc:title>Understanding and Managing Equal Employment Opportun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utoledo.edu/~ddwyer/mgmt3220/mgmt3220.htm</vt:lpwstr>
  </property>
  <property fmtid="{D5CDD505-2E9C-101B-9397-08002B2CF9AE}" pid="9" name="LinkColor">
    <vt:r8>16711680</vt:r8>
  </property>
  <property fmtid="{D5CDD505-2E9C-101B-9397-08002B2CF9AE}" pid="10" name="MailAddress">
    <vt:lpwstr>ddwyer@utnet.utoledo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DATA\NETSCAPE\MGMT3220\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2105376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  <property fmtid="{D5CDD505-2E9C-101B-9397-08002B2CF9AE}" pid="22" name="_dlc_DocId">
    <vt:lpwstr>UC5APVKEY7YA-445657348-547</vt:lpwstr>
  </property>
  <property fmtid="{D5CDD505-2E9C-101B-9397-08002B2CF9AE}" pid="23" name="_dlc_DocIdItemGuid">
    <vt:lpwstr>280eea0b-95cb-4846-9dfe-b13fe82f28f1</vt:lpwstr>
  </property>
  <property fmtid="{D5CDD505-2E9C-101B-9397-08002B2CF9AE}" pid="24" name="_dlc_DocIdUrl">
    <vt:lpwstr>https://edit.shrm.org/certification/educators/_layouts/15/DocIdRedir.aspx?ID=UC5APVKEY7YA-445657348-547, UC5APVKEY7YA-445657348-547</vt:lpwstr>
  </property>
</Properties>
</file>