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13.png" ContentType="image/png"/>
  <Override PartName="/ppt/media/image54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2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"/>
          <p:cNvSpPr/>
          <p:nvPr/>
        </p:nvSpPr>
        <p:spPr>
          <a:xfrm>
            <a:off x="749160" y="8667720"/>
            <a:ext cx="5334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DEC1-72C0-44E0-A2E4-65D9721AE6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284-7D3D-4A90-871C-AF8CB6B3AB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FB89-A0A4-4A2C-A29B-CD5C59C8ECC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EBB4-C4EC-4C91-A6CA-658A1CF7FE2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A382-D259-4239-B9DB-53DCB3B91D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0584-56CD-4B48-85E4-9C4DCD7B68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3595-6C34-44FE-9813-D3DBCC2B6E8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6245-12B0-47A8-BC7F-3ABF3D4EEAF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E706-1284-472E-807A-02C516DAAA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57CA-7670-4808-8A04-7DE25E96E2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0CFA-D8BD-41B1-A5EA-A48B490B82F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BA15-D87D-486B-B8AA-DAFFF4ACE16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56C-BE88-4713-AF43-9FDE2B4B47F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5A71-C435-4CA1-AF23-FE7CACB355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0" y="271440"/>
            <a:ext cx="50054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b3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5" descr="Icon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Graphical user interface, text&#10;&#10;Description automatically generated"/>
          <p:cNvPicPr/>
          <p:nvPr/>
        </p:nvPicPr>
        <p:blipFill>
          <a:blip r:embed="rId4"/>
          <a:stretch/>
        </p:blipFill>
        <p:spPr>
          <a:xfrm>
            <a:off x="8370720" y="617544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ED3-7747-49D5-8842-42E814C94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A picture containing person, crowd&#10;&#10;Description automatically generated"/>
          <p:cNvPicPr/>
          <p:nvPr/>
        </p:nvPicPr>
        <p:blipFill>
          <a:blip r:embed="rId3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n aerial view of a city&#10;&#10;Description automatically generated with low confidence"/>
          <p:cNvPicPr/>
          <p:nvPr/>
        </p:nvPicPr>
        <p:blipFill>
          <a:blip r:embed="rId3"/>
          <a:stretch/>
        </p:blipFill>
        <p:spPr>
          <a:xfrm flipH="1">
            <a:off x="-360" y="0"/>
            <a:ext cx="982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 group of people raising their hands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35488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5"/>
          <p:cNvSpPr/>
          <p:nvPr/>
        </p:nvSpPr>
        <p:spPr>
          <a:xfrm rot="16200000">
            <a:off x="8209800" y="6116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SLIDES 00</a:t>
            </a:r>
            <a:fld id="{2D06231B-0DB4-446C-8DDD-C5B0B352B809}" type="slidenum">
              <a:rPr b="0" lang="id-ID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280360" y="615456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240" y="25156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Module 3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Human Resour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-457200" y="20304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graduate Overview Cour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upply: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28560" y="1217520"/>
            <a:ext cx="752472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aches to Identify Potential Tal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kills inventories/ skills ban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lacement cha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son/position promot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Content Placeholder 6" descr="Two people shaking hand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4629240" y="2378160"/>
            <a:ext cx="388620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(External) Supply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7200" y="1219320"/>
            <a:ext cx="7886880" cy="55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es the environmental factors that affect the available labo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ging of labor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available workers between the ages of 16 and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ual career co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orking women with young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orking people with older parents to car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ical advances (especially robotics and A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gulations must be monitored for their impact on the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" descr="A group of people sitting around a table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2735280" y="1038240"/>
            <a:ext cx="3816360" cy="254304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3"/>
          <p:cNvSpPr/>
          <p:nvPr/>
        </p:nvSpPr>
        <p:spPr>
          <a:xfrm>
            <a:off x="1185840" y="3394080"/>
            <a:ext cx="6915240" cy="266688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ions for Case St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on the board of your university or colle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n your tr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 implications for the staffing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you begin planning for future HR needs for faculty?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actors would you conside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ethods would you u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9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Closing the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628560" y="1447920"/>
            <a:ext cx="3276720" cy="417240"/>
          </a:xfrm>
          <a:prstGeom prst="rect">
            <a:avLst/>
          </a:prstGeom>
          <a:solidFill>
            <a:srgbClr val="e8b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hor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2" name="Rectangle 5" descr=""/>
          <p:cNvPicPr/>
          <p:nvPr/>
        </p:nvPicPr>
        <p:blipFill>
          <a:blip r:embed="rId1"/>
          <a:stretch/>
        </p:blipFill>
        <p:spPr>
          <a:xfrm>
            <a:off x="609480" y="1854360"/>
            <a:ext cx="3314880" cy="895320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5208480" y="1447920"/>
            <a:ext cx="3276720" cy="374400"/>
          </a:xfrm>
          <a:prstGeom prst="rect">
            <a:avLst/>
          </a:prstGeom>
          <a:solidFill>
            <a:srgbClr val="0070c0"/>
          </a:solidFill>
          <a:ln w="190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urp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Rectangle 11" descr=""/>
          <p:cNvPicPr/>
          <p:nvPr/>
        </p:nvPicPr>
        <p:blipFill>
          <a:blip r:embed="rId2"/>
          <a:stretch/>
        </p:blipFill>
        <p:spPr>
          <a:xfrm>
            <a:off x="5168880" y="1854360"/>
            <a:ext cx="3340080" cy="89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se Study: Superior Products 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28560" y="1161720"/>
            <a:ext cx="7886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you say about layoffs as an HR decis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ole of organizational strategy in making layoff decis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nagerial consequences of downsizing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downsizing be done most effectively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mes after downsiz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hat suggestions would you make to top management of Superior Products Company about the role of HR planning and forecasting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6"/>
          <p:cNvSpPr/>
          <p:nvPr/>
        </p:nvSpPr>
        <p:spPr>
          <a:xfrm>
            <a:off x="1746360" y="1301760"/>
            <a:ext cx="1114200" cy="1311120"/>
          </a:xfrm>
          <a:custGeom>
            <a:avLst/>
            <a:gdLst/>
            <a:ahLst/>
            <a:rect l="l" t="t" r="r" b="b"/>
            <a:pathLst>
              <a:path w="813" h="917">
                <a:moveTo>
                  <a:pt x="296" y="0"/>
                </a:moveTo>
                <a:lnTo>
                  <a:pt x="331" y="2"/>
                </a:lnTo>
                <a:lnTo>
                  <a:pt x="367" y="9"/>
                </a:lnTo>
                <a:lnTo>
                  <a:pt x="405" y="23"/>
                </a:lnTo>
                <a:lnTo>
                  <a:pt x="444" y="41"/>
                </a:lnTo>
                <a:lnTo>
                  <a:pt x="482" y="64"/>
                </a:lnTo>
                <a:lnTo>
                  <a:pt x="521" y="91"/>
                </a:lnTo>
                <a:lnTo>
                  <a:pt x="560" y="120"/>
                </a:lnTo>
                <a:lnTo>
                  <a:pt x="598" y="152"/>
                </a:lnTo>
                <a:lnTo>
                  <a:pt x="635" y="186"/>
                </a:lnTo>
                <a:lnTo>
                  <a:pt x="670" y="221"/>
                </a:lnTo>
                <a:lnTo>
                  <a:pt x="704" y="257"/>
                </a:lnTo>
                <a:lnTo>
                  <a:pt x="736" y="293"/>
                </a:lnTo>
                <a:lnTo>
                  <a:pt x="764" y="327"/>
                </a:lnTo>
                <a:lnTo>
                  <a:pt x="791" y="361"/>
                </a:lnTo>
                <a:lnTo>
                  <a:pt x="813" y="392"/>
                </a:lnTo>
                <a:lnTo>
                  <a:pt x="640" y="917"/>
                </a:lnTo>
                <a:lnTo>
                  <a:pt x="0" y="464"/>
                </a:lnTo>
                <a:lnTo>
                  <a:pt x="1" y="460"/>
                </a:lnTo>
                <a:lnTo>
                  <a:pt x="4" y="450"/>
                </a:lnTo>
                <a:lnTo>
                  <a:pt x="8" y="434"/>
                </a:lnTo>
                <a:lnTo>
                  <a:pt x="14" y="411"/>
                </a:lnTo>
                <a:lnTo>
                  <a:pt x="21" y="386"/>
                </a:lnTo>
                <a:lnTo>
                  <a:pt x="30" y="356"/>
                </a:lnTo>
                <a:lnTo>
                  <a:pt x="41" y="323"/>
                </a:lnTo>
                <a:lnTo>
                  <a:pt x="54" y="289"/>
                </a:lnTo>
                <a:lnTo>
                  <a:pt x="68" y="253"/>
                </a:lnTo>
                <a:lnTo>
                  <a:pt x="84" y="216"/>
                </a:lnTo>
                <a:lnTo>
                  <a:pt x="102" y="181"/>
                </a:lnTo>
                <a:lnTo>
                  <a:pt x="120" y="146"/>
                </a:lnTo>
                <a:lnTo>
                  <a:pt x="140" y="113"/>
                </a:lnTo>
                <a:lnTo>
                  <a:pt x="162" y="83"/>
                </a:lnTo>
                <a:lnTo>
                  <a:pt x="185" y="57"/>
                </a:lnTo>
                <a:lnTo>
                  <a:pt x="209" y="34"/>
                </a:lnTo>
                <a:lnTo>
                  <a:pt x="236" y="17"/>
                </a:lnTo>
                <a:lnTo>
                  <a:pt x="263" y="5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a6a6a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8" name="Freeform 8"/>
          <p:cNvGrpSpPr/>
          <p:nvPr/>
        </p:nvGrpSpPr>
        <p:grpSpPr>
          <a:xfrm>
            <a:off x="6286680" y="1295280"/>
            <a:ext cx="1130040" cy="1320840"/>
            <a:chOff x="6286680" y="1295280"/>
            <a:chExt cx="1130040" cy="1320840"/>
          </a:xfrm>
        </p:grpSpPr>
        <p:pic>
          <p:nvPicPr>
            <p:cNvPr id="929" name="Freeform 8" descr=""/>
            <p:cNvPicPr/>
            <p:nvPr/>
          </p:nvPicPr>
          <p:blipFill>
            <a:blip r:embed="rId1"/>
            <a:stretch/>
          </p:blipFill>
          <p:spPr>
            <a:xfrm>
              <a:off x="6286680" y="1295280"/>
              <a:ext cx="11300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6297480" y="1301760"/>
              <a:ext cx="111456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1" name="Oval 17"/>
          <p:cNvSpPr/>
          <p:nvPr/>
        </p:nvSpPr>
        <p:spPr>
          <a:xfrm>
            <a:off x="165240" y="5186520"/>
            <a:ext cx="4011480" cy="33156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Oval 18"/>
          <p:cNvSpPr/>
          <p:nvPr/>
        </p:nvSpPr>
        <p:spPr>
          <a:xfrm>
            <a:off x="165240" y="1546200"/>
            <a:ext cx="4341600" cy="26820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Oval 19"/>
          <p:cNvSpPr/>
          <p:nvPr/>
        </p:nvSpPr>
        <p:spPr>
          <a:xfrm>
            <a:off x="4610160" y="1546200"/>
            <a:ext cx="4341600" cy="26820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Oval 20"/>
          <p:cNvSpPr/>
          <p:nvPr/>
        </p:nvSpPr>
        <p:spPr>
          <a:xfrm>
            <a:off x="4984920" y="5186520"/>
            <a:ext cx="4011480" cy="331560"/>
          </a:xfrm>
          <a:prstGeom prst="ellipse">
            <a:avLst/>
          </a:prstGeom>
          <a:gradFill rotWithShape="0">
            <a:gsLst>
              <a:gs pos="0">
                <a:srgbClr val="262626">
                  <a:alpha val="5529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0" y="1704960"/>
            <a:ext cx="9144000" cy="36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7"/>
          <p:cNvSpPr/>
          <p:nvPr/>
        </p:nvSpPr>
        <p:spPr>
          <a:xfrm>
            <a:off x="1978200" y="1295280"/>
            <a:ext cx="2560320" cy="1619280"/>
          </a:xfrm>
          <a:custGeom>
            <a:avLst/>
            <a:gdLst/>
            <a:ahLst/>
            <a:rect l="l" t="t" r="r" b="b"/>
            <a:pathLst>
              <a:path w="1869" h="1133">
                <a:moveTo>
                  <a:pt x="156" y="0"/>
                </a:moveTo>
                <a:lnTo>
                  <a:pt x="1233" y="0"/>
                </a:lnTo>
                <a:lnTo>
                  <a:pt x="1241" y="2"/>
                </a:lnTo>
                <a:lnTo>
                  <a:pt x="1251" y="4"/>
                </a:lnTo>
                <a:lnTo>
                  <a:pt x="1263" y="10"/>
                </a:lnTo>
                <a:lnTo>
                  <a:pt x="1280" y="19"/>
                </a:lnTo>
                <a:lnTo>
                  <a:pt x="1298" y="32"/>
                </a:lnTo>
                <a:lnTo>
                  <a:pt x="1319" y="49"/>
                </a:lnTo>
                <a:lnTo>
                  <a:pt x="1391" y="122"/>
                </a:lnTo>
                <a:lnTo>
                  <a:pt x="1411" y="143"/>
                </a:lnTo>
                <a:lnTo>
                  <a:pt x="1435" y="166"/>
                </a:lnTo>
                <a:lnTo>
                  <a:pt x="1459" y="190"/>
                </a:lnTo>
                <a:lnTo>
                  <a:pt x="1484" y="214"/>
                </a:lnTo>
                <a:lnTo>
                  <a:pt x="1534" y="264"/>
                </a:lnTo>
                <a:lnTo>
                  <a:pt x="1559" y="288"/>
                </a:lnTo>
                <a:lnTo>
                  <a:pt x="1583" y="312"/>
                </a:lnTo>
                <a:lnTo>
                  <a:pt x="1607" y="333"/>
                </a:lnTo>
                <a:lnTo>
                  <a:pt x="1627" y="354"/>
                </a:lnTo>
                <a:lnTo>
                  <a:pt x="1647" y="372"/>
                </a:lnTo>
                <a:lnTo>
                  <a:pt x="1663" y="388"/>
                </a:lnTo>
                <a:lnTo>
                  <a:pt x="1677" y="401"/>
                </a:lnTo>
                <a:lnTo>
                  <a:pt x="1696" y="420"/>
                </a:lnTo>
                <a:lnTo>
                  <a:pt x="1790" y="324"/>
                </a:lnTo>
                <a:lnTo>
                  <a:pt x="1791" y="324"/>
                </a:lnTo>
                <a:lnTo>
                  <a:pt x="1796" y="323"/>
                </a:lnTo>
                <a:lnTo>
                  <a:pt x="1803" y="322"/>
                </a:lnTo>
                <a:lnTo>
                  <a:pt x="1812" y="321"/>
                </a:lnTo>
                <a:lnTo>
                  <a:pt x="1822" y="321"/>
                </a:lnTo>
                <a:lnTo>
                  <a:pt x="1832" y="323"/>
                </a:lnTo>
                <a:lnTo>
                  <a:pt x="1842" y="328"/>
                </a:lnTo>
                <a:lnTo>
                  <a:pt x="1852" y="336"/>
                </a:lnTo>
                <a:lnTo>
                  <a:pt x="1860" y="348"/>
                </a:lnTo>
                <a:lnTo>
                  <a:pt x="1865" y="363"/>
                </a:lnTo>
                <a:lnTo>
                  <a:pt x="1867" y="385"/>
                </a:lnTo>
                <a:lnTo>
                  <a:pt x="1867" y="402"/>
                </a:lnTo>
                <a:lnTo>
                  <a:pt x="1869" y="427"/>
                </a:lnTo>
                <a:lnTo>
                  <a:pt x="1869" y="873"/>
                </a:lnTo>
                <a:lnTo>
                  <a:pt x="1867" y="917"/>
                </a:lnTo>
                <a:lnTo>
                  <a:pt x="1867" y="1060"/>
                </a:lnTo>
                <a:lnTo>
                  <a:pt x="1866" y="1065"/>
                </a:lnTo>
                <a:lnTo>
                  <a:pt x="1865" y="1074"/>
                </a:lnTo>
                <a:lnTo>
                  <a:pt x="1862" y="1084"/>
                </a:lnTo>
                <a:lnTo>
                  <a:pt x="1857" y="1095"/>
                </a:lnTo>
                <a:lnTo>
                  <a:pt x="1851" y="1107"/>
                </a:lnTo>
                <a:lnTo>
                  <a:pt x="1842" y="1117"/>
                </a:lnTo>
                <a:lnTo>
                  <a:pt x="1831" y="1126"/>
                </a:lnTo>
                <a:lnTo>
                  <a:pt x="1816" y="1131"/>
                </a:lnTo>
                <a:lnTo>
                  <a:pt x="1798" y="1133"/>
                </a:lnTo>
                <a:lnTo>
                  <a:pt x="1110" y="1133"/>
                </a:lnTo>
                <a:lnTo>
                  <a:pt x="1105" y="1132"/>
                </a:lnTo>
                <a:lnTo>
                  <a:pt x="1098" y="1131"/>
                </a:lnTo>
                <a:lnTo>
                  <a:pt x="1089" y="1128"/>
                </a:lnTo>
                <a:lnTo>
                  <a:pt x="1079" y="1123"/>
                </a:lnTo>
                <a:lnTo>
                  <a:pt x="1070" y="1118"/>
                </a:lnTo>
                <a:lnTo>
                  <a:pt x="1062" y="1109"/>
                </a:lnTo>
                <a:lnTo>
                  <a:pt x="1055" y="1099"/>
                </a:lnTo>
                <a:lnTo>
                  <a:pt x="1053" y="1085"/>
                </a:lnTo>
                <a:lnTo>
                  <a:pt x="1054" y="1070"/>
                </a:lnTo>
                <a:lnTo>
                  <a:pt x="1060" y="1050"/>
                </a:lnTo>
                <a:lnTo>
                  <a:pt x="1151" y="964"/>
                </a:lnTo>
                <a:lnTo>
                  <a:pt x="281" y="98"/>
                </a:lnTo>
                <a:lnTo>
                  <a:pt x="278" y="96"/>
                </a:lnTo>
                <a:lnTo>
                  <a:pt x="272" y="91"/>
                </a:lnTo>
                <a:lnTo>
                  <a:pt x="262" y="83"/>
                </a:lnTo>
                <a:lnTo>
                  <a:pt x="248" y="73"/>
                </a:lnTo>
                <a:lnTo>
                  <a:pt x="232" y="63"/>
                </a:lnTo>
                <a:lnTo>
                  <a:pt x="213" y="52"/>
                </a:lnTo>
                <a:lnTo>
                  <a:pt x="191" y="43"/>
                </a:lnTo>
                <a:lnTo>
                  <a:pt x="168" y="35"/>
                </a:lnTo>
                <a:lnTo>
                  <a:pt x="142" y="32"/>
                </a:lnTo>
                <a:lnTo>
                  <a:pt x="115" y="32"/>
                </a:lnTo>
                <a:lnTo>
                  <a:pt x="87" y="35"/>
                </a:lnTo>
                <a:lnTo>
                  <a:pt x="58" y="45"/>
                </a:lnTo>
                <a:lnTo>
                  <a:pt x="29" y="63"/>
                </a:lnTo>
                <a:lnTo>
                  <a:pt x="0" y="87"/>
                </a:lnTo>
                <a:lnTo>
                  <a:pt x="1" y="84"/>
                </a:lnTo>
                <a:lnTo>
                  <a:pt x="8" y="78"/>
                </a:lnTo>
                <a:lnTo>
                  <a:pt x="15" y="68"/>
                </a:lnTo>
                <a:lnTo>
                  <a:pt x="28" y="57"/>
                </a:lnTo>
                <a:lnTo>
                  <a:pt x="42" y="44"/>
                </a:lnTo>
                <a:lnTo>
                  <a:pt x="60" y="32"/>
                </a:lnTo>
                <a:lnTo>
                  <a:pt x="80" y="20"/>
                </a:lnTo>
                <a:lnTo>
                  <a:pt x="103" y="10"/>
                </a:lnTo>
                <a:lnTo>
                  <a:pt x="128" y="3"/>
                </a:lnTo>
                <a:lnTo>
                  <a:pt x="15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9"/>
          <p:cNvSpPr/>
          <p:nvPr/>
        </p:nvSpPr>
        <p:spPr>
          <a:xfrm>
            <a:off x="4591080" y="1295280"/>
            <a:ext cx="2562120" cy="1619280"/>
          </a:xfrm>
          <a:custGeom>
            <a:avLst/>
            <a:gdLst/>
            <a:ahLst/>
            <a:rect l="l" t="t" r="r" b="b"/>
            <a:pathLst>
              <a:path w="1869" h="1133">
                <a:moveTo>
                  <a:pt x="636" y="0"/>
                </a:moveTo>
                <a:lnTo>
                  <a:pt x="1714" y="0"/>
                </a:lnTo>
                <a:lnTo>
                  <a:pt x="1741" y="3"/>
                </a:lnTo>
                <a:lnTo>
                  <a:pt x="1766" y="10"/>
                </a:lnTo>
                <a:lnTo>
                  <a:pt x="1789" y="20"/>
                </a:lnTo>
                <a:lnTo>
                  <a:pt x="1809" y="32"/>
                </a:lnTo>
                <a:lnTo>
                  <a:pt x="1828" y="44"/>
                </a:lnTo>
                <a:lnTo>
                  <a:pt x="1841" y="57"/>
                </a:lnTo>
                <a:lnTo>
                  <a:pt x="1854" y="68"/>
                </a:lnTo>
                <a:lnTo>
                  <a:pt x="1861" y="78"/>
                </a:lnTo>
                <a:lnTo>
                  <a:pt x="1868" y="84"/>
                </a:lnTo>
                <a:lnTo>
                  <a:pt x="1869" y="87"/>
                </a:lnTo>
                <a:lnTo>
                  <a:pt x="1840" y="63"/>
                </a:lnTo>
                <a:lnTo>
                  <a:pt x="1811" y="45"/>
                </a:lnTo>
                <a:lnTo>
                  <a:pt x="1782" y="35"/>
                </a:lnTo>
                <a:lnTo>
                  <a:pt x="1755" y="32"/>
                </a:lnTo>
                <a:lnTo>
                  <a:pt x="1727" y="32"/>
                </a:lnTo>
                <a:lnTo>
                  <a:pt x="1702" y="35"/>
                </a:lnTo>
                <a:lnTo>
                  <a:pt x="1678" y="43"/>
                </a:lnTo>
                <a:lnTo>
                  <a:pt x="1656" y="52"/>
                </a:lnTo>
                <a:lnTo>
                  <a:pt x="1637" y="63"/>
                </a:lnTo>
                <a:lnTo>
                  <a:pt x="1621" y="73"/>
                </a:lnTo>
                <a:lnTo>
                  <a:pt x="1607" y="83"/>
                </a:lnTo>
                <a:lnTo>
                  <a:pt x="1597" y="91"/>
                </a:lnTo>
                <a:lnTo>
                  <a:pt x="1591" y="96"/>
                </a:lnTo>
                <a:lnTo>
                  <a:pt x="1588" y="98"/>
                </a:lnTo>
                <a:lnTo>
                  <a:pt x="720" y="964"/>
                </a:lnTo>
                <a:lnTo>
                  <a:pt x="809" y="1050"/>
                </a:lnTo>
                <a:lnTo>
                  <a:pt x="815" y="1070"/>
                </a:lnTo>
                <a:lnTo>
                  <a:pt x="816" y="1085"/>
                </a:lnTo>
                <a:lnTo>
                  <a:pt x="814" y="1099"/>
                </a:lnTo>
                <a:lnTo>
                  <a:pt x="808" y="1109"/>
                </a:lnTo>
                <a:lnTo>
                  <a:pt x="799" y="1118"/>
                </a:lnTo>
                <a:lnTo>
                  <a:pt x="790" y="1123"/>
                </a:lnTo>
                <a:lnTo>
                  <a:pt x="780" y="1128"/>
                </a:lnTo>
                <a:lnTo>
                  <a:pt x="771" y="1131"/>
                </a:lnTo>
                <a:lnTo>
                  <a:pt x="764" y="1132"/>
                </a:lnTo>
                <a:lnTo>
                  <a:pt x="759" y="1133"/>
                </a:lnTo>
                <a:lnTo>
                  <a:pt x="71" y="1133"/>
                </a:lnTo>
                <a:lnTo>
                  <a:pt x="53" y="1131"/>
                </a:lnTo>
                <a:lnTo>
                  <a:pt x="38" y="1126"/>
                </a:lnTo>
                <a:lnTo>
                  <a:pt x="27" y="1117"/>
                </a:lnTo>
                <a:lnTo>
                  <a:pt x="18" y="1107"/>
                </a:lnTo>
                <a:lnTo>
                  <a:pt x="12" y="1095"/>
                </a:lnTo>
                <a:lnTo>
                  <a:pt x="7" y="1084"/>
                </a:lnTo>
                <a:lnTo>
                  <a:pt x="4" y="1074"/>
                </a:lnTo>
                <a:lnTo>
                  <a:pt x="3" y="1065"/>
                </a:lnTo>
                <a:lnTo>
                  <a:pt x="2" y="1060"/>
                </a:lnTo>
                <a:lnTo>
                  <a:pt x="2" y="917"/>
                </a:lnTo>
                <a:lnTo>
                  <a:pt x="0" y="873"/>
                </a:lnTo>
                <a:lnTo>
                  <a:pt x="0" y="427"/>
                </a:lnTo>
                <a:lnTo>
                  <a:pt x="2" y="402"/>
                </a:lnTo>
                <a:lnTo>
                  <a:pt x="2" y="385"/>
                </a:lnTo>
                <a:lnTo>
                  <a:pt x="4" y="363"/>
                </a:lnTo>
                <a:lnTo>
                  <a:pt x="9" y="348"/>
                </a:lnTo>
                <a:lnTo>
                  <a:pt x="17" y="336"/>
                </a:lnTo>
                <a:lnTo>
                  <a:pt x="27" y="328"/>
                </a:lnTo>
                <a:lnTo>
                  <a:pt x="37" y="323"/>
                </a:lnTo>
                <a:lnTo>
                  <a:pt x="47" y="321"/>
                </a:lnTo>
                <a:lnTo>
                  <a:pt x="57" y="321"/>
                </a:lnTo>
                <a:lnTo>
                  <a:pt x="66" y="322"/>
                </a:lnTo>
                <a:lnTo>
                  <a:pt x="73" y="323"/>
                </a:lnTo>
                <a:lnTo>
                  <a:pt x="78" y="324"/>
                </a:lnTo>
                <a:lnTo>
                  <a:pt x="79" y="324"/>
                </a:lnTo>
                <a:lnTo>
                  <a:pt x="173" y="420"/>
                </a:lnTo>
                <a:lnTo>
                  <a:pt x="192" y="401"/>
                </a:lnTo>
                <a:lnTo>
                  <a:pt x="206" y="388"/>
                </a:lnTo>
                <a:lnTo>
                  <a:pt x="222" y="372"/>
                </a:lnTo>
                <a:lnTo>
                  <a:pt x="242" y="354"/>
                </a:lnTo>
                <a:lnTo>
                  <a:pt x="262" y="333"/>
                </a:lnTo>
                <a:lnTo>
                  <a:pt x="286" y="312"/>
                </a:lnTo>
                <a:lnTo>
                  <a:pt x="310" y="288"/>
                </a:lnTo>
                <a:lnTo>
                  <a:pt x="335" y="264"/>
                </a:lnTo>
                <a:lnTo>
                  <a:pt x="385" y="214"/>
                </a:lnTo>
                <a:lnTo>
                  <a:pt x="410" y="190"/>
                </a:lnTo>
                <a:lnTo>
                  <a:pt x="434" y="166"/>
                </a:lnTo>
                <a:lnTo>
                  <a:pt x="458" y="143"/>
                </a:lnTo>
                <a:lnTo>
                  <a:pt x="478" y="122"/>
                </a:lnTo>
                <a:lnTo>
                  <a:pt x="551" y="49"/>
                </a:lnTo>
                <a:lnTo>
                  <a:pt x="571" y="32"/>
                </a:lnTo>
                <a:lnTo>
                  <a:pt x="589" y="19"/>
                </a:lnTo>
                <a:lnTo>
                  <a:pt x="606" y="10"/>
                </a:lnTo>
                <a:lnTo>
                  <a:pt x="618" y="4"/>
                </a:lnTo>
                <a:lnTo>
                  <a:pt x="628" y="2"/>
                </a:lnTo>
                <a:lnTo>
                  <a:pt x="636" y="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1"/>
          <p:cNvSpPr/>
          <p:nvPr/>
        </p:nvSpPr>
        <p:spPr>
          <a:xfrm>
            <a:off x="263520" y="5753160"/>
            <a:ext cx="8616960" cy="342720"/>
          </a:xfrm>
          <a:prstGeom prst="ellipse">
            <a:avLst/>
          </a:prstGeom>
          <a:gradFill rotWithShape="0">
            <a:gsLst>
              <a:gs pos="0">
                <a:srgbClr val="262626">
                  <a:alpha val="3137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27"/>
          <p:cNvSpPr/>
          <p:nvPr/>
        </p:nvSpPr>
        <p:spPr>
          <a:xfrm>
            <a:off x="1311120" y="3214800"/>
            <a:ext cx="28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29"/>
          <p:cNvSpPr/>
          <p:nvPr/>
        </p:nvSpPr>
        <p:spPr>
          <a:xfrm>
            <a:off x="4538520" y="3214800"/>
            <a:ext cx="28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o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HR Plann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S PGothic"/>
              </a:rPr>
              <a:t>The Bottom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28200" y="1217520"/>
            <a:ext cx="3886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in remaining competitive in the market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an organization achieve its goals by making sure there are employees who are ready, willing and able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Content Placeholder 4" descr="A group of people raising their hands&#10;&#10;Description automatically generated"/>
          <p:cNvPicPr/>
          <p:nvPr/>
        </p:nvPicPr>
        <p:blipFill>
          <a:blip r:embed="rId1"/>
          <a:stretch/>
        </p:blipFill>
        <p:spPr>
          <a:xfrm>
            <a:off x="4629240" y="1752480"/>
            <a:ext cx="3886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182520" y="316080"/>
            <a:ext cx="8961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5"/>
          <p:cNvGrpSpPr/>
          <p:nvPr/>
        </p:nvGrpSpPr>
        <p:grpSpPr>
          <a:xfrm>
            <a:off x="2162160" y="1641600"/>
            <a:ext cx="4819680" cy="4254480"/>
            <a:chOff x="2162160" y="1641600"/>
            <a:chExt cx="4819680" cy="4254480"/>
          </a:xfrm>
        </p:grpSpPr>
        <p:sp>
          <p:nvSpPr>
            <p:cNvPr id="948" name="Rectangle 6"/>
            <p:cNvSpPr/>
            <p:nvPr/>
          </p:nvSpPr>
          <p:spPr>
            <a:xfrm>
              <a:off x="4579920" y="1641600"/>
              <a:ext cx="33120" cy="4254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Rectangle 7"/>
            <p:cNvSpPr/>
            <p:nvPr/>
          </p:nvSpPr>
          <p:spPr>
            <a:xfrm rot="5400000">
              <a:off x="4553640" y="1364400"/>
              <a:ext cx="36360" cy="4819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Rectangle: Rounded Corners 4"/>
            <p:cNvSpPr/>
            <p:nvPr/>
          </p:nvSpPr>
          <p:spPr>
            <a:xfrm>
              <a:off x="2247840" y="1738440"/>
              <a:ext cx="2071800" cy="1884240"/>
            </a:xfrm>
            <a:prstGeom prst="roundRect">
              <a:avLst>
                <a:gd name="adj" fmla="val 8912"/>
              </a:avLst>
            </a:prstGeom>
            <a:gradFill rotWithShape="0">
              <a:gsLst>
                <a:gs pos="0">
                  <a:srgbClr val="f6f8fc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  <a:effectLst>
              <a:outerShdw dist="101451" dir="2397705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Rectangle: Rounded Corners 22"/>
            <p:cNvSpPr/>
            <p:nvPr/>
          </p:nvSpPr>
          <p:spPr>
            <a:xfrm>
              <a:off x="2247840" y="3932280"/>
              <a:ext cx="2071800" cy="1886040"/>
            </a:xfrm>
            <a:prstGeom prst="roundRect">
              <a:avLst>
                <a:gd name="adj" fmla="val 8912"/>
              </a:avLst>
            </a:prstGeom>
            <a:gradFill rotWithShape="0">
              <a:gsLst>
                <a:gs pos="0">
                  <a:srgbClr val="f6f8fc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  <a:effectLst>
              <a:outerShdw dist="101451" dir="2397705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Freeform: Shape 45"/>
            <p:cNvGrpSpPr/>
            <p:nvPr/>
          </p:nvGrpSpPr>
          <p:grpSpPr>
            <a:xfrm>
              <a:off x="2247840" y="1727280"/>
              <a:ext cx="1206360" cy="1244520"/>
              <a:chOff x="2247840" y="1727280"/>
              <a:chExt cx="1206360" cy="1244520"/>
            </a:xfrm>
          </p:grpSpPr>
          <p:pic>
            <p:nvPicPr>
              <p:cNvPr id="953" name="Freeform: Shap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7840" y="1727280"/>
                <a:ext cx="12063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"/>
              <p:cNvSpPr/>
              <p:nvPr/>
            </p:nvSpPr>
            <p:spPr>
              <a:xfrm>
                <a:off x="2247840" y="1737720"/>
                <a:ext cx="1201320" cy="12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5" name="TextBox 11"/>
            <p:cNvSpPr/>
            <p:nvPr/>
          </p:nvSpPr>
          <p:spPr>
            <a:xfrm>
              <a:off x="2327040" y="1806480"/>
              <a:ext cx="10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ength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TextBox 12"/>
            <p:cNvSpPr/>
            <p:nvPr/>
          </p:nvSpPr>
          <p:spPr>
            <a:xfrm>
              <a:off x="2517480" y="2127600"/>
              <a:ext cx="60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7" name="Freeform: Shape 67"/>
            <p:cNvGrpSpPr/>
            <p:nvPr/>
          </p:nvGrpSpPr>
          <p:grpSpPr>
            <a:xfrm>
              <a:off x="2247840" y="3924360"/>
              <a:ext cx="1206360" cy="1244520"/>
              <a:chOff x="2247840" y="3924360"/>
              <a:chExt cx="1206360" cy="1244520"/>
            </a:xfrm>
          </p:grpSpPr>
          <p:pic>
            <p:nvPicPr>
              <p:cNvPr id="958" name="Freeform: Shape 6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47840" y="3924360"/>
                <a:ext cx="12063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>
                <a:off x="2247840" y="3931920"/>
                <a:ext cx="1201320" cy="12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0" name="TextBox 14"/>
            <p:cNvSpPr/>
            <p:nvPr/>
          </p:nvSpPr>
          <p:spPr>
            <a:xfrm>
              <a:off x="2327040" y="4000320"/>
              <a:ext cx="10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portunitie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TextBox 15"/>
            <p:cNvSpPr/>
            <p:nvPr/>
          </p:nvSpPr>
          <p:spPr>
            <a:xfrm>
              <a:off x="2517480" y="4321440"/>
              <a:ext cx="60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56"/>
            <p:cNvSpPr/>
            <p:nvPr/>
          </p:nvSpPr>
          <p:spPr>
            <a:xfrm>
              <a:off x="3593880" y="1809720"/>
              <a:ext cx="520560" cy="5220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83" y="0"/>
                  </a:moveTo>
                  <a:lnTo>
                    <a:pt x="119" y="0"/>
                  </a:lnTo>
                  <a:lnTo>
                    <a:pt x="119" y="83"/>
                  </a:lnTo>
                  <a:lnTo>
                    <a:pt x="204" y="83"/>
                  </a:lnTo>
                  <a:lnTo>
                    <a:pt x="204" y="119"/>
                  </a:lnTo>
                  <a:lnTo>
                    <a:pt x="119" y="119"/>
                  </a:lnTo>
                  <a:lnTo>
                    <a:pt x="119" y="204"/>
                  </a:lnTo>
                  <a:lnTo>
                    <a:pt x="83" y="204"/>
                  </a:lnTo>
                  <a:lnTo>
                    <a:pt x="83" y="119"/>
                  </a:lnTo>
                  <a:lnTo>
                    <a:pt x="0" y="119"/>
                  </a:lnTo>
                  <a:lnTo>
                    <a:pt x="0" y="83"/>
                  </a:lnTo>
                  <a:lnTo>
                    <a:pt x="83" y="8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472c4"/>
            </a:solidFill>
            <a:ln w="648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17"/>
            <p:cNvSpPr/>
            <p:nvPr/>
          </p:nvSpPr>
          <p:spPr>
            <a:xfrm>
              <a:off x="2334960" y="3032280"/>
              <a:ext cx="18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Arial"/>
                </a:rPr>
                <a:t>What are your assets? Which one of those assets is the strongest?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TextBox 18"/>
            <p:cNvSpPr/>
            <p:nvPr/>
          </p:nvSpPr>
          <p:spPr>
            <a:xfrm>
              <a:off x="2334960" y="5220000"/>
              <a:ext cx="18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Arial"/>
                </a:rPr>
                <a:t>What external changes will bring your opportunities? What are the current ongoing trends?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Rectangle: Rounded Corners 23"/>
            <p:cNvSpPr/>
            <p:nvPr/>
          </p:nvSpPr>
          <p:spPr>
            <a:xfrm>
              <a:off x="4824360" y="1738440"/>
              <a:ext cx="2071800" cy="1884240"/>
            </a:xfrm>
            <a:prstGeom prst="roundRect">
              <a:avLst>
                <a:gd name="adj" fmla="val 8912"/>
              </a:avLst>
            </a:prstGeom>
            <a:gradFill rotWithShape="0">
              <a:gsLst>
                <a:gs pos="0">
                  <a:srgbClr val="f6f8fc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  <a:effectLst>
              <a:outerShdw dist="101451" dir="2397705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Rectangle: Rounded Corners 24"/>
            <p:cNvSpPr/>
            <p:nvPr/>
          </p:nvSpPr>
          <p:spPr>
            <a:xfrm>
              <a:off x="4824360" y="3932280"/>
              <a:ext cx="2071800" cy="1886040"/>
            </a:xfrm>
            <a:prstGeom prst="roundRect">
              <a:avLst>
                <a:gd name="adj" fmla="val 8912"/>
              </a:avLst>
            </a:prstGeom>
            <a:gradFill rotWithShape="0">
              <a:gsLst>
                <a:gs pos="0">
                  <a:srgbClr val="f6f8fc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  <a:effectLst>
              <a:outerShdw dist="101451" dir="2397705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7" name="Freeform: Shape 59"/>
            <p:cNvGrpSpPr/>
            <p:nvPr/>
          </p:nvGrpSpPr>
          <p:grpSpPr>
            <a:xfrm>
              <a:off x="4813200" y="1727280"/>
              <a:ext cx="1218960" cy="1244520"/>
              <a:chOff x="4813200" y="1727280"/>
              <a:chExt cx="1218960" cy="1244520"/>
            </a:xfrm>
          </p:grpSpPr>
          <p:pic>
            <p:nvPicPr>
              <p:cNvPr id="968" name="Freeform: Shape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3200" y="1727280"/>
                <a:ext cx="12189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"/>
              <p:cNvSpPr/>
              <p:nvPr/>
            </p:nvSpPr>
            <p:spPr>
              <a:xfrm>
                <a:off x="4823280" y="1737720"/>
                <a:ext cx="1201320" cy="12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0" name="TextBox 22"/>
            <p:cNvSpPr/>
            <p:nvPr/>
          </p:nvSpPr>
          <p:spPr>
            <a:xfrm>
              <a:off x="4903920" y="1806480"/>
              <a:ext cx="10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aknesse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TextBox 23"/>
            <p:cNvSpPr/>
            <p:nvPr/>
          </p:nvSpPr>
          <p:spPr>
            <a:xfrm>
              <a:off x="5092920" y="2127600"/>
              <a:ext cx="60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72" name="Freeform: Shape 64"/>
            <p:cNvGrpSpPr/>
            <p:nvPr/>
          </p:nvGrpSpPr>
          <p:grpSpPr>
            <a:xfrm>
              <a:off x="4813200" y="3924360"/>
              <a:ext cx="1218960" cy="1244520"/>
              <a:chOff x="4813200" y="3924360"/>
              <a:chExt cx="1218960" cy="1244520"/>
            </a:xfrm>
          </p:grpSpPr>
          <p:pic>
            <p:nvPicPr>
              <p:cNvPr id="973" name="Freeform: Shap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4813200" y="3924360"/>
                <a:ext cx="1218960" cy="12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"/>
              <p:cNvSpPr/>
              <p:nvPr/>
            </p:nvSpPr>
            <p:spPr>
              <a:xfrm>
                <a:off x="4823280" y="3931920"/>
                <a:ext cx="1201320" cy="12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5" name="TextBox 25"/>
            <p:cNvSpPr/>
            <p:nvPr/>
          </p:nvSpPr>
          <p:spPr>
            <a:xfrm>
              <a:off x="4903920" y="4000320"/>
              <a:ext cx="10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reat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TextBox 26"/>
            <p:cNvSpPr/>
            <p:nvPr/>
          </p:nvSpPr>
          <p:spPr>
            <a:xfrm>
              <a:off x="5092920" y="4321440"/>
              <a:ext cx="60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Rectangle 66"/>
            <p:cNvSpPr/>
            <p:nvPr/>
          </p:nvSpPr>
          <p:spPr>
            <a:xfrm>
              <a:off x="6201000" y="2023920"/>
              <a:ext cx="520560" cy="87120"/>
            </a:xfrm>
            <a:prstGeom prst="rect">
              <a:avLst/>
            </a:prstGeom>
            <a:solidFill>
              <a:srgbClr val="a5a5a5"/>
            </a:solidFill>
            <a:ln cap="rnd" w="1260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TextBox 28"/>
            <p:cNvSpPr/>
            <p:nvPr/>
          </p:nvSpPr>
          <p:spPr>
            <a:xfrm>
              <a:off x="4915080" y="3032280"/>
              <a:ext cx="18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Arial"/>
                </a:rPr>
                <a:t>What areas do you need improvement on? What are the things you need to avoid?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TextBox 29"/>
            <p:cNvSpPr/>
            <p:nvPr/>
          </p:nvSpPr>
          <p:spPr>
            <a:xfrm>
              <a:off x="4915080" y="5220000"/>
              <a:ext cx="18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Arial"/>
                </a:rPr>
                <a:t>What are the negative tendencies in play today? What obstacles do you face?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3"/>
            <p:cNvSpPr/>
            <p:nvPr/>
          </p:nvSpPr>
          <p:spPr>
            <a:xfrm rot="5400000">
              <a:off x="3384360" y="3898800"/>
              <a:ext cx="647640" cy="923760"/>
            </a:xfrm>
            <a:custGeom>
              <a:avLst/>
              <a:gdLst/>
              <a:ahLst/>
              <a:rect l="l" t="t" r="r" b="b"/>
              <a:pathLst>
                <a:path w="697" h="1024">
                  <a:moveTo>
                    <a:pt x="225" y="0"/>
                  </a:moveTo>
                  <a:lnTo>
                    <a:pt x="0" y="279"/>
                  </a:lnTo>
                  <a:lnTo>
                    <a:pt x="225" y="560"/>
                  </a:lnTo>
                  <a:lnTo>
                    <a:pt x="225" y="405"/>
                  </a:lnTo>
                  <a:lnTo>
                    <a:pt x="264" y="409"/>
                  </a:lnTo>
                  <a:lnTo>
                    <a:pt x="303" y="416"/>
                  </a:lnTo>
                  <a:lnTo>
                    <a:pt x="341" y="428"/>
                  </a:lnTo>
                  <a:lnTo>
                    <a:pt x="378" y="443"/>
                  </a:lnTo>
                  <a:lnTo>
                    <a:pt x="414" y="461"/>
                  </a:lnTo>
                  <a:lnTo>
                    <a:pt x="449" y="485"/>
                  </a:lnTo>
                  <a:lnTo>
                    <a:pt x="483" y="511"/>
                  </a:lnTo>
                  <a:lnTo>
                    <a:pt x="514" y="541"/>
                  </a:lnTo>
                  <a:lnTo>
                    <a:pt x="543" y="574"/>
                  </a:lnTo>
                  <a:lnTo>
                    <a:pt x="571" y="609"/>
                  </a:lnTo>
                  <a:lnTo>
                    <a:pt x="596" y="648"/>
                  </a:lnTo>
                  <a:lnTo>
                    <a:pt x="619" y="689"/>
                  </a:lnTo>
                  <a:lnTo>
                    <a:pt x="638" y="732"/>
                  </a:lnTo>
                  <a:lnTo>
                    <a:pt x="655" y="778"/>
                  </a:lnTo>
                  <a:lnTo>
                    <a:pt x="669" y="825"/>
                  </a:lnTo>
                  <a:lnTo>
                    <a:pt x="681" y="873"/>
                  </a:lnTo>
                  <a:lnTo>
                    <a:pt x="689" y="922"/>
                  </a:lnTo>
                  <a:lnTo>
                    <a:pt x="694" y="972"/>
                  </a:lnTo>
                  <a:lnTo>
                    <a:pt x="696" y="1023"/>
                  </a:lnTo>
                  <a:lnTo>
                    <a:pt x="695" y="963"/>
                  </a:lnTo>
                  <a:lnTo>
                    <a:pt x="692" y="904"/>
                  </a:lnTo>
                  <a:lnTo>
                    <a:pt x="687" y="846"/>
                  </a:lnTo>
                  <a:lnTo>
                    <a:pt x="679" y="788"/>
                  </a:lnTo>
                  <a:lnTo>
                    <a:pt x="669" y="732"/>
                  </a:lnTo>
                  <a:lnTo>
                    <a:pt x="658" y="677"/>
                  </a:lnTo>
                  <a:lnTo>
                    <a:pt x="643" y="623"/>
                  </a:lnTo>
                  <a:lnTo>
                    <a:pt x="628" y="571"/>
                  </a:lnTo>
                  <a:lnTo>
                    <a:pt x="610" y="522"/>
                  </a:lnTo>
                  <a:lnTo>
                    <a:pt x="591" y="474"/>
                  </a:lnTo>
                  <a:lnTo>
                    <a:pt x="570" y="429"/>
                  </a:lnTo>
                  <a:lnTo>
                    <a:pt x="547" y="387"/>
                  </a:lnTo>
                  <a:lnTo>
                    <a:pt x="524" y="348"/>
                  </a:lnTo>
                  <a:lnTo>
                    <a:pt x="498" y="311"/>
                  </a:lnTo>
                  <a:lnTo>
                    <a:pt x="471" y="278"/>
                  </a:lnTo>
                  <a:lnTo>
                    <a:pt x="443" y="248"/>
                  </a:lnTo>
                  <a:lnTo>
                    <a:pt x="413" y="222"/>
                  </a:lnTo>
                  <a:lnTo>
                    <a:pt x="384" y="199"/>
                  </a:lnTo>
                  <a:lnTo>
                    <a:pt x="353" y="180"/>
                  </a:lnTo>
                  <a:lnTo>
                    <a:pt x="322" y="165"/>
                  </a:lnTo>
                  <a:lnTo>
                    <a:pt x="290" y="154"/>
                  </a:lnTo>
                  <a:lnTo>
                    <a:pt x="258" y="146"/>
                  </a:lnTo>
                  <a:lnTo>
                    <a:pt x="225" y="142"/>
                  </a:lnTo>
                  <a:lnTo>
                    <a:pt x="225" y="0"/>
                  </a:lnTo>
                </a:path>
              </a:pathLst>
            </a:custGeom>
            <a:solidFill>
              <a:srgbClr val="ffc000">
                <a:alpha val="68000"/>
              </a:srgbClr>
            </a:solidFill>
            <a:ln cap="rnd" w="1260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3"/>
            <p:cNvSpPr/>
            <p:nvPr/>
          </p:nvSpPr>
          <p:spPr>
            <a:xfrm rot="16200000">
              <a:off x="6065640" y="3898440"/>
              <a:ext cx="647640" cy="923760"/>
            </a:xfrm>
            <a:custGeom>
              <a:avLst/>
              <a:gdLst/>
              <a:ahLst/>
              <a:rect l="l" t="t" r="r" b="b"/>
              <a:pathLst>
                <a:path w="697" h="1024">
                  <a:moveTo>
                    <a:pt x="225" y="0"/>
                  </a:moveTo>
                  <a:lnTo>
                    <a:pt x="0" y="279"/>
                  </a:lnTo>
                  <a:lnTo>
                    <a:pt x="225" y="560"/>
                  </a:lnTo>
                  <a:lnTo>
                    <a:pt x="225" y="405"/>
                  </a:lnTo>
                  <a:lnTo>
                    <a:pt x="264" y="409"/>
                  </a:lnTo>
                  <a:lnTo>
                    <a:pt x="303" y="416"/>
                  </a:lnTo>
                  <a:lnTo>
                    <a:pt x="341" y="428"/>
                  </a:lnTo>
                  <a:lnTo>
                    <a:pt x="378" y="443"/>
                  </a:lnTo>
                  <a:lnTo>
                    <a:pt x="414" y="461"/>
                  </a:lnTo>
                  <a:lnTo>
                    <a:pt x="449" y="485"/>
                  </a:lnTo>
                  <a:lnTo>
                    <a:pt x="483" y="511"/>
                  </a:lnTo>
                  <a:lnTo>
                    <a:pt x="514" y="541"/>
                  </a:lnTo>
                  <a:lnTo>
                    <a:pt x="543" y="574"/>
                  </a:lnTo>
                  <a:lnTo>
                    <a:pt x="571" y="609"/>
                  </a:lnTo>
                  <a:lnTo>
                    <a:pt x="596" y="648"/>
                  </a:lnTo>
                  <a:lnTo>
                    <a:pt x="619" y="689"/>
                  </a:lnTo>
                  <a:lnTo>
                    <a:pt x="638" y="732"/>
                  </a:lnTo>
                  <a:lnTo>
                    <a:pt x="655" y="778"/>
                  </a:lnTo>
                  <a:lnTo>
                    <a:pt x="669" y="825"/>
                  </a:lnTo>
                  <a:lnTo>
                    <a:pt x="681" y="873"/>
                  </a:lnTo>
                  <a:lnTo>
                    <a:pt x="689" y="922"/>
                  </a:lnTo>
                  <a:lnTo>
                    <a:pt x="694" y="972"/>
                  </a:lnTo>
                  <a:lnTo>
                    <a:pt x="696" y="1023"/>
                  </a:lnTo>
                  <a:lnTo>
                    <a:pt x="695" y="963"/>
                  </a:lnTo>
                  <a:lnTo>
                    <a:pt x="692" y="904"/>
                  </a:lnTo>
                  <a:lnTo>
                    <a:pt x="687" y="846"/>
                  </a:lnTo>
                  <a:lnTo>
                    <a:pt x="679" y="788"/>
                  </a:lnTo>
                  <a:lnTo>
                    <a:pt x="669" y="732"/>
                  </a:lnTo>
                  <a:lnTo>
                    <a:pt x="658" y="677"/>
                  </a:lnTo>
                  <a:lnTo>
                    <a:pt x="643" y="623"/>
                  </a:lnTo>
                  <a:lnTo>
                    <a:pt x="628" y="571"/>
                  </a:lnTo>
                  <a:lnTo>
                    <a:pt x="610" y="522"/>
                  </a:lnTo>
                  <a:lnTo>
                    <a:pt x="591" y="474"/>
                  </a:lnTo>
                  <a:lnTo>
                    <a:pt x="570" y="429"/>
                  </a:lnTo>
                  <a:lnTo>
                    <a:pt x="547" y="387"/>
                  </a:lnTo>
                  <a:lnTo>
                    <a:pt x="524" y="348"/>
                  </a:lnTo>
                  <a:lnTo>
                    <a:pt x="498" y="311"/>
                  </a:lnTo>
                  <a:lnTo>
                    <a:pt x="471" y="278"/>
                  </a:lnTo>
                  <a:lnTo>
                    <a:pt x="443" y="248"/>
                  </a:lnTo>
                  <a:lnTo>
                    <a:pt x="413" y="222"/>
                  </a:lnTo>
                  <a:lnTo>
                    <a:pt x="384" y="199"/>
                  </a:lnTo>
                  <a:lnTo>
                    <a:pt x="353" y="180"/>
                  </a:lnTo>
                  <a:lnTo>
                    <a:pt x="322" y="165"/>
                  </a:lnTo>
                  <a:lnTo>
                    <a:pt x="290" y="154"/>
                  </a:lnTo>
                  <a:lnTo>
                    <a:pt x="258" y="146"/>
                  </a:lnTo>
                  <a:lnTo>
                    <a:pt x="225" y="142"/>
                  </a:lnTo>
                  <a:lnTo>
                    <a:pt x="225" y="0"/>
                  </a:lnTo>
                </a:path>
              </a:pathLst>
            </a:custGeom>
            <a:solidFill>
              <a:srgbClr val="ed7d31"/>
            </a:solidFill>
            <a:ln w="64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28560" y="11620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strategic planning process as the context for HR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mportance of planning for future employe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the HR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ques to forecast the demand and supply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8040" y="30492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The Importance of HR Forecasting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3"/>
          <p:cNvGrpSpPr/>
          <p:nvPr/>
        </p:nvGrpSpPr>
        <p:grpSpPr>
          <a:xfrm>
            <a:off x="3102120" y="2209680"/>
            <a:ext cx="2939760" cy="2876760"/>
            <a:chOff x="3102120" y="2209680"/>
            <a:chExt cx="2939760" cy="2876760"/>
          </a:xfrm>
        </p:grpSpPr>
        <p:grpSp>
          <p:nvGrpSpPr>
            <p:cNvPr id="579" name="Group 7"/>
            <p:cNvGrpSpPr/>
            <p:nvPr/>
          </p:nvGrpSpPr>
          <p:grpSpPr>
            <a:xfrm>
              <a:off x="3102120" y="2209680"/>
              <a:ext cx="1274760" cy="1275840"/>
              <a:chOff x="3102120" y="2209680"/>
              <a:chExt cx="1274760" cy="1275840"/>
            </a:xfrm>
          </p:grpSpPr>
          <p:grpSp>
            <p:nvGrpSpPr>
              <p:cNvPr id="580" name="Group 6"/>
              <p:cNvGrpSpPr/>
              <p:nvPr/>
            </p:nvGrpSpPr>
            <p:grpSpPr>
              <a:xfrm>
                <a:off x="3102120" y="2209680"/>
                <a:ext cx="1274760" cy="1275840"/>
                <a:chOff x="3102120" y="2209680"/>
                <a:chExt cx="1274760" cy="1275840"/>
              </a:xfrm>
            </p:grpSpPr>
            <p:sp>
              <p:nvSpPr>
                <p:cNvPr id="581" name="Rounded Rectangle 5"/>
                <p:cNvSpPr/>
                <p:nvPr/>
              </p:nvSpPr>
              <p:spPr>
                <a:xfrm>
                  <a:off x="3102120" y="2209680"/>
                  <a:ext cx="1274760" cy="1275840"/>
                </a:xfrm>
                <a:custGeom>
                  <a:avLst/>
                  <a:gdLst>
                    <a:gd name="textAreaLeft" fmla="*/ 72360 w 1274760"/>
                    <a:gd name="textAreaRight" fmla="*/ 1202400 w 1274760"/>
                    <a:gd name="textAreaTop" fmla="*/ 72360 h 1275840"/>
                    <a:gd name="textAreaBottom" fmla="*/ 1203480 h 127584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4185" y="0"/>
                      </a:moveTo>
                      <a:arcTo wR="4185" hR="4185" stAng="16200000" swAng="-5400000"/>
                      <a:lnTo>
                        <a:pt x="0" y="17433"/>
                      </a:lnTo>
                      <a:arcTo wR="4185" hR="4185" stAng="10800000" swAng="-5400000"/>
                      <a:lnTo>
                        <a:pt x="17415" y="21618"/>
                      </a:lnTo>
                      <a:arcTo wR="4185" hR="4185" stAng="5400000" swAng="-5400000"/>
                      <a:lnTo>
                        <a:pt x="21600" y="4185"/>
                      </a:lnTo>
                      <a:arcTo wR="4185" hR="418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adb9ca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2" name="Rounded Rectangle 4"/>
                <p:cNvGrpSpPr/>
                <p:nvPr/>
              </p:nvGrpSpPr>
              <p:grpSpPr>
                <a:xfrm>
                  <a:off x="3187800" y="2298240"/>
                  <a:ext cx="1092240" cy="1091880"/>
                  <a:chOff x="3187800" y="2298240"/>
                  <a:chExt cx="1092240" cy="1091880"/>
                </a:xfrm>
              </p:grpSpPr>
              <p:pic>
                <p:nvPicPr>
                  <p:cNvPr id="583" name="Rounded Rectangle 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87800" y="2298240"/>
                    <a:ext cx="109224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4" name=""/>
                  <p:cNvSpPr/>
                  <p:nvPr/>
                </p:nvSpPr>
                <p:spPr>
                  <a:xfrm>
                    <a:off x="3258360" y="2365560"/>
                    <a:ext cx="962640" cy="96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85" name="Freeform 3"/>
              <p:cNvGrpSpPr/>
              <p:nvPr/>
            </p:nvGrpSpPr>
            <p:grpSpPr>
              <a:xfrm>
                <a:off x="3429000" y="2590560"/>
                <a:ext cx="622080" cy="520560"/>
                <a:chOff x="3429000" y="2590560"/>
                <a:chExt cx="622080" cy="520560"/>
              </a:xfrm>
            </p:grpSpPr>
            <p:pic>
              <p:nvPicPr>
                <p:cNvPr id="586" name="Freeform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30800" y="2601720"/>
                  <a:ext cx="59040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" name=""/>
                <p:cNvSpPr/>
                <p:nvPr/>
              </p:nvSpPr>
              <p:spPr>
                <a:xfrm>
                  <a:off x="3429000" y="2590560"/>
                  <a:ext cx="6220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8" name="Group 8"/>
            <p:cNvGrpSpPr/>
            <p:nvPr/>
          </p:nvGrpSpPr>
          <p:grpSpPr>
            <a:xfrm>
              <a:off x="3102120" y="3810600"/>
              <a:ext cx="1274760" cy="1275840"/>
              <a:chOff x="3102120" y="3810600"/>
              <a:chExt cx="1274760" cy="1275840"/>
            </a:xfrm>
          </p:grpSpPr>
          <p:grpSp>
            <p:nvGrpSpPr>
              <p:cNvPr id="589" name="Group 9"/>
              <p:cNvGrpSpPr/>
              <p:nvPr/>
            </p:nvGrpSpPr>
            <p:grpSpPr>
              <a:xfrm>
                <a:off x="3102120" y="3810600"/>
                <a:ext cx="1274760" cy="1275840"/>
                <a:chOff x="3102120" y="3810600"/>
                <a:chExt cx="1274760" cy="1275840"/>
              </a:xfrm>
            </p:grpSpPr>
            <p:sp>
              <p:nvSpPr>
                <p:cNvPr id="590" name="Rounded Rectangle 11"/>
                <p:cNvSpPr/>
                <p:nvPr/>
              </p:nvSpPr>
              <p:spPr>
                <a:xfrm>
                  <a:off x="3102120" y="3810600"/>
                  <a:ext cx="1274760" cy="1275840"/>
                </a:xfrm>
                <a:custGeom>
                  <a:avLst/>
                  <a:gdLst>
                    <a:gd name="textAreaLeft" fmla="*/ 72360 w 1274760"/>
                    <a:gd name="textAreaRight" fmla="*/ 1202400 w 1274760"/>
                    <a:gd name="textAreaTop" fmla="*/ 72360 h 1275840"/>
                    <a:gd name="textAreaBottom" fmla="*/ 1203480 h 127584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4185" y="0"/>
                      </a:moveTo>
                      <a:arcTo wR="4185" hR="4185" stAng="16200000" swAng="-5400000"/>
                      <a:lnTo>
                        <a:pt x="0" y="17433"/>
                      </a:lnTo>
                      <a:arcTo wR="4185" hR="4185" stAng="10800000" swAng="-5400000"/>
                      <a:lnTo>
                        <a:pt x="17415" y="21618"/>
                      </a:lnTo>
                      <a:arcTo wR="4185" hR="4185" stAng="5400000" swAng="-5400000"/>
                      <a:lnTo>
                        <a:pt x="21600" y="4185"/>
                      </a:lnTo>
                      <a:arcTo wR="4185" hR="418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e0b4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91" name="Rounded Rectangle 12"/>
                <p:cNvGrpSpPr/>
                <p:nvPr/>
              </p:nvGrpSpPr>
              <p:grpSpPr>
                <a:xfrm>
                  <a:off x="3187800" y="3899160"/>
                  <a:ext cx="1092240" cy="1104480"/>
                  <a:chOff x="3187800" y="3899160"/>
                  <a:chExt cx="1092240" cy="1104480"/>
                </a:xfrm>
              </p:grpSpPr>
              <p:pic>
                <p:nvPicPr>
                  <p:cNvPr id="592" name="Rounded Rectangle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7800" y="3899160"/>
                    <a:ext cx="1092240" cy="11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3" name=""/>
                  <p:cNvSpPr/>
                  <p:nvPr/>
                </p:nvSpPr>
                <p:spPr>
                  <a:xfrm>
                    <a:off x="3258360" y="3967200"/>
                    <a:ext cx="962640" cy="96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94" name="Freeform 10"/>
              <p:cNvGrpSpPr/>
              <p:nvPr/>
            </p:nvGrpSpPr>
            <p:grpSpPr>
              <a:xfrm>
                <a:off x="3429000" y="4191120"/>
                <a:ext cx="622080" cy="533520"/>
                <a:chOff x="3429000" y="4191120"/>
                <a:chExt cx="622080" cy="533520"/>
              </a:xfrm>
            </p:grpSpPr>
            <p:pic>
              <p:nvPicPr>
                <p:cNvPr id="59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30800" y="4201560"/>
                  <a:ext cx="59040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"/>
                <p:cNvSpPr/>
                <p:nvPr/>
              </p:nvSpPr>
              <p:spPr>
                <a:xfrm>
                  <a:off x="3429000" y="4191120"/>
                  <a:ext cx="622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97" name="Group 13"/>
            <p:cNvGrpSpPr/>
            <p:nvPr/>
          </p:nvGrpSpPr>
          <p:grpSpPr>
            <a:xfrm>
              <a:off x="4767120" y="2209680"/>
              <a:ext cx="1274760" cy="1275840"/>
              <a:chOff x="4767120" y="2209680"/>
              <a:chExt cx="1274760" cy="1275840"/>
            </a:xfrm>
          </p:grpSpPr>
          <p:grpSp>
            <p:nvGrpSpPr>
              <p:cNvPr id="598" name="Group 14"/>
              <p:cNvGrpSpPr/>
              <p:nvPr/>
            </p:nvGrpSpPr>
            <p:grpSpPr>
              <a:xfrm>
                <a:off x="4767120" y="2209680"/>
                <a:ext cx="1274760" cy="1275840"/>
                <a:chOff x="4767120" y="2209680"/>
                <a:chExt cx="1274760" cy="1275840"/>
              </a:xfrm>
            </p:grpSpPr>
            <p:sp>
              <p:nvSpPr>
                <p:cNvPr id="599" name="Rounded Rectangle 16"/>
                <p:cNvSpPr/>
                <p:nvPr/>
              </p:nvSpPr>
              <p:spPr>
                <a:xfrm>
                  <a:off x="4767120" y="2209680"/>
                  <a:ext cx="1274760" cy="1275840"/>
                </a:xfrm>
                <a:custGeom>
                  <a:avLst/>
                  <a:gdLst>
                    <a:gd name="textAreaLeft" fmla="*/ 72360 w 1274760"/>
                    <a:gd name="textAreaRight" fmla="*/ 1202400 w 1274760"/>
                    <a:gd name="textAreaTop" fmla="*/ 72360 h 1275840"/>
                    <a:gd name="textAreaBottom" fmla="*/ 1203480 h 127584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4185" y="0"/>
                      </a:moveTo>
                      <a:arcTo wR="4185" hR="4185" stAng="16200000" swAng="-5400000"/>
                      <a:lnTo>
                        <a:pt x="0" y="17433"/>
                      </a:lnTo>
                      <a:arcTo wR="4185" hR="4185" stAng="10800000" swAng="-5400000"/>
                      <a:lnTo>
                        <a:pt x="17415" y="21618"/>
                      </a:lnTo>
                      <a:arcTo wR="4185" hR="4185" stAng="5400000" swAng="-5400000"/>
                      <a:lnTo>
                        <a:pt x="21600" y="4185"/>
                      </a:lnTo>
                      <a:arcTo wR="4185" hR="418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d9d9d9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0" name="Rounded Rectangle 17"/>
                <p:cNvGrpSpPr/>
                <p:nvPr/>
              </p:nvGrpSpPr>
              <p:grpSpPr>
                <a:xfrm>
                  <a:off x="4863960" y="2298240"/>
                  <a:ext cx="1092240" cy="1091880"/>
                  <a:chOff x="4863960" y="2298240"/>
                  <a:chExt cx="1092240" cy="1091880"/>
                </a:xfrm>
              </p:grpSpPr>
              <p:pic>
                <p:nvPicPr>
                  <p:cNvPr id="601" name="Rounded Rectangl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3960" y="2298240"/>
                    <a:ext cx="109224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4923000" y="2365560"/>
                    <a:ext cx="962640" cy="96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03" name="Freeform 15"/>
              <p:cNvGrpSpPr/>
              <p:nvPr/>
            </p:nvGrpSpPr>
            <p:grpSpPr>
              <a:xfrm>
                <a:off x="5092560" y="2590560"/>
                <a:ext cx="622080" cy="520560"/>
                <a:chOff x="5092560" y="2590560"/>
                <a:chExt cx="622080" cy="520560"/>
              </a:xfrm>
            </p:grpSpPr>
            <p:pic>
              <p:nvPicPr>
                <p:cNvPr id="604" name="Freeform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92920" y="2601720"/>
                  <a:ext cx="59040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"/>
                <p:cNvSpPr/>
                <p:nvPr/>
              </p:nvSpPr>
              <p:spPr>
                <a:xfrm>
                  <a:off x="5092560" y="2590560"/>
                  <a:ext cx="6220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06" name="Group 18"/>
            <p:cNvGrpSpPr/>
            <p:nvPr/>
          </p:nvGrpSpPr>
          <p:grpSpPr>
            <a:xfrm>
              <a:off x="4767120" y="3810600"/>
              <a:ext cx="1274760" cy="1275840"/>
              <a:chOff x="4767120" y="3810600"/>
              <a:chExt cx="1274760" cy="1275840"/>
            </a:xfrm>
          </p:grpSpPr>
          <p:grpSp>
            <p:nvGrpSpPr>
              <p:cNvPr id="607" name="Group 19"/>
              <p:cNvGrpSpPr/>
              <p:nvPr/>
            </p:nvGrpSpPr>
            <p:grpSpPr>
              <a:xfrm>
                <a:off x="4767120" y="3810600"/>
                <a:ext cx="1274760" cy="1275840"/>
                <a:chOff x="4767120" y="3810600"/>
                <a:chExt cx="1274760" cy="1275840"/>
              </a:xfrm>
            </p:grpSpPr>
            <p:sp>
              <p:nvSpPr>
                <p:cNvPr id="608" name="Rounded Rectangle 21"/>
                <p:cNvSpPr/>
                <p:nvPr/>
              </p:nvSpPr>
              <p:spPr>
                <a:xfrm>
                  <a:off x="4767120" y="3810600"/>
                  <a:ext cx="1274760" cy="1275840"/>
                </a:xfrm>
                <a:custGeom>
                  <a:avLst/>
                  <a:gdLst>
                    <a:gd name="textAreaLeft" fmla="*/ 72360 w 1274760"/>
                    <a:gd name="textAreaRight" fmla="*/ 1202400 w 1274760"/>
                    <a:gd name="textAreaTop" fmla="*/ 72360 h 1275840"/>
                    <a:gd name="textAreaBottom" fmla="*/ 1203480 h 127584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4185" y="0"/>
                      </a:moveTo>
                      <a:arcTo wR="4185" hR="4185" stAng="16200000" swAng="-5400000"/>
                      <a:lnTo>
                        <a:pt x="0" y="17433"/>
                      </a:lnTo>
                      <a:arcTo wR="4185" hR="4185" stAng="10800000" swAng="-5400000"/>
                      <a:lnTo>
                        <a:pt x="17415" y="21618"/>
                      </a:lnTo>
                      <a:arcTo wR="4185" hR="4185" stAng="5400000" swAng="-5400000"/>
                      <a:lnTo>
                        <a:pt x="21600" y="4185"/>
                      </a:lnTo>
                      <a:arcTo wR="4185" hR="418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4b183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9" name="Rounded Rectangle 22"/>
                <p:cNvGrpSpPr/>
                <p:nvPr/>
              </p:nvGrpSpPr>
              <p:grpSpPr>
                <a:xfrm>
                  <a:off x="4863960" y="3899160"/>
                  <a:ext cx="1092240" cy="1104480"/>
                  <a:chOff x="4863960" y="3899160"/>
                  <a:chExt cx="1092240" cy="1104480"/>
                </a:xfrm>
              </p:grpSpPr>
              <p:pic>
                <p:nvPicPr>
                  <p:cNvPr id="610" name="Rounded Rectangle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3960" y="3899160"/>
                    <a:ext cx="1092240" cy="11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1" name=""/>
                  <p:cNvSpPr/>
                  <p:nvPr/>
                </p:nvSpPr>
                <p:spPr>
                  <a:xfrm>
                    <a:off x="4923000" y="3967200"/>
                    <a:ext cx="962640" cy="96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12" name="Freeform 20"/>
              <p:cNvGrpSpPr/>
              <p:nvPr/>
            </p:nvGrpSpPr>
            <p:grpSpPr>
              <a:xfrm>
                <a:off x="5092560" y="4191120"/>
                <a:ext cx="622080" cy="533520"/>
                <a:chOff x="5092560" y="4191120"/>
                <a:chExt cx="622080" cy="533520"/>
              </a:xfrm>
            </p:grpSpPr>
            <p:pic>
              <p:nvPicPr>
                <p:cNvPr id="6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92920" y="4201560"/>
                  <a:ext cx="59040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"/>
                <p:cNvSpPr/>
                <p:nvPr/>
              </p:nvSpPr>
              <p:spPr>
                <a:xfrm>
                  <a:off x="5092560" y="4191120"/>
                  <a:ext cx="622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15" name="TextBox 24"/>
          <p:cNvSpPr/>
          <p:nvPr/>
        </p:nvSpPr>
        <p:spPr>
          <a:xfrm flipH="1">
            <a:off x="457200" y="2457360"/>
            <a:ext cx="24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he future needs for skilled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25"/>
          <p:cNvSpPr/>
          <p:nvPr/>
        </p:nvSpPr>
        <p:spPr>
          <a:xfrm flipH="1">
            <a:off x="6267600" y="245736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gn the organizatio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游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游ゴシック"/>
              </a:rPr>
              <a:t>s go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27"/>
          <p:cNvSpPr/>
          <p:nvPr/>
        </p:nvSpPr>
        <p:spPr>
          <a:xfrm flipH="1">
            <a:off x="457200" y="4084560"/>
            <a:ext cx="24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y with laws and regul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28"/>
          <p:cNvSpPr/>
          <p:nvPr/>
        </p:nvSpPr>
        <p:spPr>
          <a:xfrm flipH="1">
            <a:off x="6266880" y="4084560"/>
            <a:ext cx="257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 HR programs to recognize resource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30"/>
          <p:cNvGrpSpPr/>
          <p:nvPr/>
        </p:nvGrpSpPr>
        <p:grpSpPr>
          <a:xfrm>
            <a:off x="574560" y="1714680"/>
            <a:ext cx="2214720" cy="4257360"/>
            <a:chOff x="574560" y="1714680"/>
            <a:chExt cx="2214720" cy="4257360"/>
          </a:xfrm>
        </p:grpSpPr>
        <p:grpSp>
          <p:nvGrpSpPr>
            <p:cNvPr id="620" name="Rectangle 2"/>
            <p:cNvGrpSpPr/>
            <p:nvPr/>
          </p:nvGrpSpPr>
          <p:grpSpPr>
            <a:xfrm>
              <a:off x="599760" y="2804400"/>
              <a:ext cx="1623600" cy="3167640"/>
              <a:chOff x="599760" y="2804400"/>
              <a:chExt cx="1623600" cy="3167640"/>
            </a:xfrm>
          </p:grpSpPr>
          <p:pic>
            <p:nvPicPr>
              <p:cNvPr id="62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599760" y="2804400"/>
                <a:ext cx="1623600" cy="31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608760" y="2814120"/>
                <a:ext cx="1613160" cy="31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72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Current situ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3" name="Isosceles Triangle 11"/>
            <p:cNvSpPr/>
            <p:nvPr/>
          </p:nvSpPr>
          <p:spPr>
            <a:xfrm rot="5400000">
              <a:off x="486360" y="1805040"/>
              <a:ext cx="2393280" cy="221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  <a:effectLst>
              <a:outerShdw dist="139851" dir="660125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4" name="Rectangle: Top Corners Rounded 12"/>
            <p:cNvGrpSpPr/>
            <p:nvPr/>
          </p:nvGrpSpPr>
          <p:grpSpPr>
            <a:xfrm>
              <a:off x="574560" y="2550960"/>
              <a:ext cx="951120" cy="722160"/>
              <a:chOff x="574560" y="2550960"/>
              <a:chExt cx="951120" cy="722160"/>
            </a:xfrm>
          </p:grpSpPr>
          <p:pic>
            <p:nvPicPr>
              <p:cNvPr id="625" name="Rectangle: Top Corners Rounded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560" y="2550960"/>
                <a:ext cx="951120" cy="7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 rot="5400000">
                <a:off x="717120" y="2459520"/>
                <a:ext cx="622800" cy="9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TextBox 18"/>
            <p:cNvSpPr/>
            <p:nvPr/>
          </p:nvSpPr>
          <p:spPr>
            <a:xfrm>
              <a:off x="875880" y="270504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Group 32"/>
          <p:cNvGrpSpPr/>
          <p:nvPr/>
        </p:nvGrpSpPr>
        <p:grpSpPr>
          <a:xfrm>
            <a:off x="2038320" y="1714680"/>
            <a:ext cx="2215800" cy="4257360"/>
            <a:chOff x="2038320" y="1714680"/>
            <a:chExt cx="2215800" cy="4257360"/>
          </a:xfrm>
        </p:grpSpPr>
        <p:grpSp>
          <p:nvGrpSpPr>
            <p:cNvPr id="629" name="Rectangle 3"/>
            <p:cNvGrpSpPr/>
            <p:nvPr/>
          </p:nvGrpSpPr>
          <p:grpSpPr>
            <a:xfrm>
              <a:off x="2114280" y="2804400"/>
              <a:ext cx="1633680" cy="3167640"/>
              <a:chOff x="2114280" y="2804400"/>
              <a:chExt cx="1633680" cy="3167640"/>
            </a:xfrm>
          </p:grpSpPr>
          <p:pic>
            <p:nvPicPr>
              <p:cNvPr id="630" name="Rectangl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14280" y="2804400"/>
                <a:ext cx="1633680" cy="31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2123640" y="2814120"/>
                <a:ext cx="1611720" cy="31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72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Environmental scannin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2" name="Isosceles Triangle 10"/>
            <p:cNvSpPr/>
            <p:nvPr/>
          </p:nvSpPr>
          <p:spPr>
            <a:xfrm rot="5400000">
              <a:off x="1952280" y="1806120"/>
              <a:ext cx="2393280" cy="2210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  <a:effectLst>
              <a:outerShdw dist="139851" dir="660125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3" name="Rectangle: Top Corners Rounded 13"/>
            <p:cNvGrpSpPr/>
            <p:nvPr/>
          </p:nvGrpSpPr>
          <p:grpSpPr>
            <a:xfrm>
              <a:off x="2038320" y="2550960"/>
              <a:ext cx="962280" cy="722160"/>
              <a:chOff x="2038320" y="2550960"/>
              <a:chExt cx="962280" cy="722160"/>
            </a:xfrm>
          </p:grpSpPr>
          <p:pic>
            <p:nvPicPr>
              <p:cNvPr id="634" name="Rectangle: Top Corners Rounded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038320" y="2550960"/>
                <a:ext cx="962280" cy="7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5400000">
                <a:off x="2183760" y="2459880"/>
                <a:ext cx="622800" cy="90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TextBox 19"/>
            <p:cNvSpPr/>
            <p:nvPr/>
          </p:nvSpPr>
          <p:spPr>
            <a:xfrm>
              <a:off x="2341800" y="270504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Group 33"/>
          <p:cNvGrpSpPr/>
          <p:nvPr/>
        </p:nvGrpSpPr>
        <p:grpSpPr>
          <a:xfrm>
            <a:off x="3554280" y="1744560"/>
            <a:ext cx="2216160" cy="4256280"/>
            <a:chOff x="3554280" y="1744560"/>
            <a:chExt cx="2216160" cy="4256280"/>
          </a:xfrm>
        </p:grpSpPr>
        <p:grpSp>
          <p:nvGrpSpPr>
            <p:cNvPr id="638" name="Rectangle 4"/>
            <p:cNvGrpSpPr/>
            <p:nvPr/>
          </p:nvGrpSpPr>
          <p:grpSpPr>
            <a:xfrm>
              <a:off x="3680640" y="2842920"/>
              <a:ext cx="1630080" cy="3157920"/>
              <a:chOff x="3680640" y="2842920"/>
              <a:chExt cx="1630080" cy="3157920"/>
            </a:xfrm>
          </p:grpSpPr>
          <p:pic>
            <p:nvPicPr>
              <p:cNvPr id="639" name="Rectangl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3680640" y="2842920"/>
                <a:ext cx="1630080" cy="315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3692160" y="2844360"/>
                <a:ext cx="1608120" cy="31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72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trategy formul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Isosceles Triangle 9"/>
            <p:cNvSpPr/>
            <p:nvPr/>
          </p:nvSpPr>
          <p:spPr>
            <a:xfrm rot="5400000">
              <a:off x="3470760" y="1838520"/>
              <a:ext cx="2393640" cy="2205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  <a:effectLst>
              <a:outerShdw dist="139851" dir="660125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2" name="Rectangle: Top Corners Rounded 14"/>
            <p:cNvGrpSpPr/>
            <p:nvPr/>
          </p:nvGrpSpPr>
          <p:grpSpPr>
            <a:xfrm>
              <a:off x="3554280" y="2589480"/>
              <a:ext cx="960480" cy="709920"/>
              <a:chOff x="3554280" y="2589480"/>
              <a:chExt cx="960480" cy="709920"/>
            </a:xfrm>
          </p:grpSpPr>
          <p:pic>
            <p:nvPicPr>
              <p:cNvPr id="643" name="Rectangle: Top Corners Rounded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3554280" y="2589480"/>
                <a:ext cx="960480" cy="7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5400000">
                <a:off x="3704040" y="2491200"/>
                <a:ext cx="622800" cy="90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TextBox 20"/>
            <p:cNvSpPr/>
            <p:nvPr/>
          </p:nvSpPr>
          <p:spPr>
            <a:xfrm>
              <a:off x="3861720" y="273492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Group 34"/>
          <p:cNvGrpSpPr/>
          <p:nvPr/>
        </p:nvGrpSpPr>
        <p:grpSpPr>
          <a:xfrm>
            <a:off x="5075280" y="1714680"/>
            <a:ext cx="2214360" cy="4257360"/>
            <a:chOff x="5075280" y="1714680"/>
            <a:chExt cx="2214360" cy="4257360"/>
          </a:xfrm>
        </p:grpSpPr>
        <p:grpSp>
          <p:nvGrpSpPr>
            <p:cNvPr id="647" name="Rectangle 5"/>
            <p:cNvGrpSpPr/>
            <p:nvPr/>
          </p:nvGrpSpPr>
          <p:grpSpPr>
            <a:xfrm>
              <a:off x="5252400" y="2804400"/>
              <a:ext cx="1619640" cy="3167640"/>
              <a:chOff x="5252400" y="2804400"/>
              <a:chExt cx="1619640" cy="3167640"/>
            </a:xfrm>
          </p:grpSpPr>
          <p:pic>
            <p:nvPicPr>
              <p:cNvPr id="648" name="Rectangle 5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2400" y="2804400"/>
                <a:ext cx="1619640" cy="31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5257080" y="2814120"/>
                <a:ext cx="1609200" cy="31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72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Strategy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</a:rPr>
                  <a:t>implement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Isosceles Triangle 8"/>
            <p:cNvSpPr/>
            <p:nvPr/>
          </p:nvSpPr>
          <p:spPr>
            <a:xfrm rot="5400000">
              <a:off x="4989600" y="1807920"/>
              <a:ext cx="2393280" cy="22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  <a:effectLst>
              <a:outerShdw dist="139851" dir="660125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1" name="Rectangle: Top Corners Rounded 15"/>
            <p:cNvGrpSpPr/>
            <p:nvPr/>
          </p:nvGrpSpPr>
          <p:grpSpPr>
            <a:xfrm>
              <a:off x="5075280" y="2550960"/>
              <a:ext cx="961560" cy="722160"/>
              <a:chOff x="5075280" y="2550960"/>
              <a:chExt cx="961560" cy="722160"/>
            </a:xfrm>
          </p:grpSpPr>
          <p:pic>
            <p:nvPicPr>
              <p:cNvPr id="652" name="Rectangle: Top Corners Rounded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075280" y="2550960"/>
                <a:ext cx="961560" cy="7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5400000">
                <a:off x="5221440" y="2460600"/>
                <a:ext cx="62280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54280" bIns="-539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4" name="TextBox 21"/>
            <p:cNvSpPr/>
            <p:nvPr/>
          </p:nvSpPr>
          <p:spPr>
            <a:xfrm>
              <a:off x="5380200" y="270504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Group 35"/>
          <p:cNvGrpSpPr/>
          <p:nvPr/>
        </p:nvGrpSpPr>
        <p:grpSpPr>
          <a:xfrm>
            <a:off x="6600960" y="1744560"/>
            <a:ext cx="2214000" cy="4256280"/>
            <a:chOff x="6600960" y="1744560"/>
            <a:chExt cx="2214000" cy="4256280"/>
          </a:xfrm>
        </p:grpSpPr>
        <p:sp>
          <p:nvSpPr>
            <p:cNvPr id="656" name="Rectangle 6"/>
            <p:cNvSpPr/>
            <p:nvPr/>
          </p:nvSpPr>
          <p:spPr>
            <a:xfrm>
              <a:off x="6826680" y="2846160"/>
              <a:ext cx="1607400" cy="315468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72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Isosceles Triangle 7"/>
            <p:cNvSpPr/>
            <p:nvPr/>
          </p:nvSpPr>
          <p:spPr>
            <a:xfrm rot="5400000">
              <a:off x="6513840" y="1840680"/>
              <a:ext cx="2397240" cy="22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  <a:effectLst>
              <a:outerShdw dist="139851" dir="660125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8" name="Rectangle: Top Corners Rounded 16"/>
            <p:cNvGrpSpPr/>
            <p:nvPr/>
          </p:nvGrpSpPr>
          <p:grpSpPr>
            <a:xfrm>
              <a:off x="6600960" y="2590560"/>
              <a:ext cx="960840" cy="711000"/>
              <a:chOff x="6600960" y="2590560"/>
              <a:chExt cx="960840" cy="711000"/>
            </a:xfrm>
          </p:grpSpPr>
          <p:pic>
            <p:nvPicPr>
              <p:cNvPr id="659" name="Rectangle: Top Corners Rounded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600960" y="2590560"/>
                <a:ext cx="96084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5400000">
                <a:off x="6748200" y="2493000"/>
                <a:ext cx="6238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1" name="TextBox 22"/>
            <p:cNvSpPr/>
            <p:nvPr/>
          </p:nvSpPr>
          <p:spPr>
            <a:xfrm>
              <a:off x="6906960" y="2737080"/>
              <a:ext cx="34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Rectangle 17"/>
          <p:cNvGrpSpPr/>
          <p:nvPr/>
        </p:nvGrpSpPr>
        <p:grpSpPr>
          <a:xfrm>
            <a:off x="0" y="5791320"/>
            <a:ext cx="9144000" cy="215640"/>
            <a:chOff x="0" y="5791320"/>
            <a:chExt cx="9144000" cy="215640"/>
          </a:xfrm>
        </p:grpSpPr>
        <p:pic>
          <p:nvPicPr>
            <p:cNvPr id="663" name="Rectangle 17" descr=""/>
            <p:cNvPicPr/>
            <p:nvPr/>
          </p:nvPicPr>
          <p:blipFill>
            <a:blip r:embed="rId10"/>
            <a:stretch/>
          </p:blipFill>
          <p:spPr>
            <a:xfrm>
              <a:off x="0" y="5791320"/>
              <a:ext cx="91440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0" y="5791320"/>
              <a:ext cx="9144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eps in the strategic planning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3"/>
          <p:cNvGrpSpPr/>
          <p:nvPr/>
        </p:nvGrpSpPr>
        <p:grpSpPr>
          <a:xfrm>
            <a:off x="257040" y="3048120"/>
            <a:ext cx="3586320" cy="3625560"/>
            <a:chOff x="257040" y="3048120"/>
            <a:chExt cx="3586320" cy="3625560"/>
          </a:xfrm>
        </p:grpSpPr>
        <p:sp>
          <p:nvSpPr>
            <p:cNvPr id="667" name="Rounded Rectangle 1"/>
            <p:cNvSpPr/>
            <p:nvPr/>
          </p:nvSpPr>
          <p:spPr>
            <a:xfrm>
              <a:off x="566640" y="5835600"/>
              <a:ext cx="3276720" cy="838080"/>
            </a:xfrm>
            <a:prstGeom prst="roundRect">
              <a:avLst>
                <a:gd name="adj" fmla="val 16667"/>
              </a:avLst>
            </a:prstGeom>
            <a:solidFill>
              <a:srgbClr val="afaba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dividual Departm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7"/>
            <p:cNvGrpSpPr/>
            <p:nvPr/>
          </p:nvGrpSpPr>
          <p:grpSpPr>
            <a:xfrm>
              <a:off x="257040" y="5101920"/>
              <a:ext cx="3508560" cy="830160"/>
              <a:chOff x="257040" y="5101920"/>
              <a:chExt cx="3508560" cy="830160"/>
            </a:xfrm>
          </p:grpSpPr>
          <p:sp>
            <p:nvSpPr>
              <p:cNvPr id="669" name="Rectangle 8"/>
              <p:cNvSpPr/>
              <p:nvPr/>
            </p:nvSpPr>
            <p:spPr>
              <a:xfrm>
                <a:off x="257040" y="5320800"/>
                <a:ext cx="3508560" cy="611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Trapezoid 9"/>
              <p:cNvSpPr/>
              <p:nvPr/>
            </p:nvSpPr>
            <p:spPr>
              <a:xfrm>
                <a:off x="257040" y="5101920"/>
                <a:ext cx="3508560" cy="218880"/>
              </a:xfrm>
              <a:custGeom>
                <a:avLst/>
                <a:gdLst/>
                <a:ahLst/>
                <a:rect l="l" t="t" r="r" b="b"/>
                <a:pathLst>
                  <a:path w="2756766" h="255494">
                    <a:moveTo>
                      <a:pt x="0" y="255494"/>
                    </a:moveTo>
                    <a:lnTo>
                      <a:pt x="223557" y="0"/>
                    </a:lnTo>
                    <a:lnTo>
                      <a:pt x="2533209" y="0"/>
                    </a:lnTo>
                    <a:lnTo>
                      <a:pt x="2756766" y="255494"/>
                    </a:lnTo>
                    <a:lnTo>
                      <a:pt x="0" y="255494"/>
                    </a:lnTo>
                    <a:close/>
                  </a:path>
                </a:pathLst>
              </a:custGeom>
              <a:solidFill>
                <a:srgbClr val="bf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71" name="Picture 18" descr=""/>
            <p:cNvPicPr/>
            <p:nvPr/>
          </p:nvPicPr>
          <p:blipFill>
            <a:blip r:embed="rId1"/>
            <a:stretch/>
          </p:blipFill>
          <p:spPr>
            <a:xfrm>
              <a:off x="257040" y="5932080"/>
              <a:ext cx="3535200" cy="19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Group 24"/>
            <p:cNvGrpSpPr/>
            <p:nvPr/>
          </p:nvGrpSpPr>
          <p:grpSpPr>
            <a:xfrm>
              <a:off x="966600" y="3048120"/>
              <a:ext cx="577800" cy="2317320"/>
              <a:chOff x="966600" y="3048120"/>
              <a:chExt cx="577800" cy="2317320"/>
            </a:xfrm>
          </p:grpSpPr>
          <p:sp>
            <p:nvSpPr>
              <p:cNvPr id="673" name="Freeform 25"/>
              <p:cNvSpPr/>
              <p:nvPr/>
            </p:nvSpPr>
            <p:spPr>
              <a:xfrm>
                <a:off x="966600" y="3048120"/>
                <a:ext cx="577800" cy="2317320"/>
              </a:xfrm>
              <a:custGeom>
                <a:avLst/>
                <a:gdLst/>
                <a:ahLst/>
                <a:rect l="l" t="t" r="r" b="b"/>
                <a:pathLst>
                  <a:path w="255" h="1034">
                    <a:moveTo>
                      <a:pt x="122" y="0"/>
                    </a:moveTo>
                    <a:cubicBezTo>
                      <a:pt x="145" y="0"/>
                      <a:pt x="164" y="21"/>
                      <a:pt x="168" y="41"/>
                    </a:cubicBezTo>
                    <a:cubicBezTo>
                      <a:pt x="173" y="61"/>
                      <a:pt x="176" y="60"/>
                      <a:pt x="176" y="71"/>
                    </a:cubicBezTo>
                    <a:cubicBezTo>
                      <a:pt x="176" y="82"/>
                      <a:pt x="181" y="94"/>
                      <a:pt x="183" y="111"/>
                    </a:cubicBezTo>
                    <a:cubicBezTo>
                      <a:pt x="185" y="129"/>
                      <a:pt x="187" y="141"/>
                      <a:pt x="196" y="152"/>
                    </a:cubicBezTo>
                    <a:cubicBezTo>
                      <a:pt x="205" y="162"/>
                      <a:pt x="203" y="172"/>
                      <a:pt x="203" y="172"/>
                    </a:cubicBezTo>
                    <a:cubicBezTo>
                      <a:pt x="203" y="172"/>
                      <a:pt x="233" y="174"/>
                      <a:pt x="240" y="194"/>
                    </a:cubicBezTo>
                    <a:cubicBezTo>
                      <a:pt x="248" y="214"/>
                      <a:pt x="249" y="248"/>
                      <a:pt x="252" y="271"/>
                    </a:cubicBezTo>
                    <a:cubicBezTo>
                      <a:pt x="255" y="294"/>
                      <a:pt x="253" y="321"/>
                      <a:pt x="245" y="338"/>
                    </a:cubicBezTo>
                    <a:cubicBezTo>
                      <a:pt x="236" y="355"/>
                      <a:pt x="219" y="357"/>
                      <a:pt x="219" y="357"/>
                    </a:cubicBezTo>
                    <a:cubicBezTo>
                      <a:pt x="219" y="357"/>
                      <a:pt x="216" y="393"/>
                      <a:pt x="226" y="424"/>
                    </a:cubicBezTo>
                    <a:cubicBezTo>
                      <a:pt x="236" y="455"/>
                      <a:pt x="244" y="471"/>
                      <a:pt x="235" y="473"/>
                    </a:cubicBezTo>
                    <a:cubicBezTo>
                      <a:pt x="226" y="474"/>
                      <a:pt x="222" y="475"/>
                      <a:pt x="222" y="475"/>
                    </a:cubicBezTo>
                    <a:cubicBezTo>
                      <a:pt x="222" y="475"/>
                      <a:pt x="222" y="515"/>
                      <a:pt x="216" y="541"/>
                    </a:cubicBezTo>
                    <a:cubicBezTo>
                      <a:pt x="210" y="567"/>
                      <a:pt x="196" y="634"/>
                      <a:pt x="196" y="650"/>
                    </a:cubicBezTo>
                    <a:cubicBezTo>
                      <a:pt x="196" y="667"/>
                      <a:pt x="195" y="664"/>
                      <a:pt x="189" y="664"/>
                    </a:cubicBezTo>
                    <a:cubicBezTo>
                      <a:pt x="183" y="664"/>
                      <a:pt x="179" y="664"/>
                      <a:pt x="179" y="664"/>
                    </a:cubicBezTo>
                    <a:cubicBezTo>
                      <a:pt x="179" y="664"/>
                      <a:pt x="180" y="691"/>
                      <a:pt x="177" y="697"/>
                    </a:cubicBezTo>
                    <a:cubicBezTo>
                      <a:pt x="174" y="704"/>
                      <a:pt x="179" y="733"/>
                      <a:pt x="170" y="765"/>
                    </a:cubicBezTo>
                    <a:cubicBezTo>
                      <a:pt x="160" y="796"/>
                      <a:pt x="141" y="849"/>
                      <a:pt x="141" y="872"/>
                    </a:cubicBezTo>
                    <a:cubicBezTo>
                      <a:pt x="141" y="894"/>
                      <a:pt x="150" y="922"/>
                      <a:pt x="161" y="933"/>
                    </a:cubicBezTo>
                    <a:cubicBezTo>
                      <a:pt x="171" y="944"/>
                      <a:pt x="187" y="967"/>
                      <a:pt x="179" y="973"/>
                    </a:cubicBezTo>
                    <a:cubicBezTo>
                      <a:pt x="170" y="978"/>
                      <a:pt x="159" y="977"/>
                      <a:pt x="152" y="975"/>
                    </a:cubicBezTo>
                    <a:cubicBezTo>
                      <a:pt x="145" y="973"/>
                      <a:pt x="139" y="966"/>
                      <a:pt x="139" y="966"/>
                    </a:cubicBezTo>
                    <a:cubicBezTo>
                      <a:pt x="139" y="966"/>
                      <a:pt x="140" y="977"/>
                      <a:pt x="143" y="986"/>
                    </a:cubicBezTo>
                    <a:cubicBezTo>
                      <a:pt x="146" y="995"/>
                      <a:pt x="143" y="1034"/>
                      <a:pt x="128" y="1034"/>
                    </a:cubicBezTo>
                    <a:cubicBezTo>
                      <a:pt x="126" y="1034"/>
                      <a:pt x="124" y="1033"/>
                      <a:pt x="122" y="1033"/>
                    </a:cubicBezTo>
                    <a:cubicBezTo>
                      <a:pt x="122" y="726"/>
                      <a:pt x="122" y="726"/>
                      <a:pt x="122" y="726"/>
                    </a:cubicBezTo>
                    <a:cubicBezTo>
                      <a:pt x="122" y="720"/>
                      <a:pt x="123" y="713"/>
                      <a:pt x="125" y="709"/>
                    </a:cubicBezTo>
                    <a:cubicBezTo>
                      <a:pt x="128" y="701"/>
                      <a:pt x="125" y="685"/>
                      <a:pt x="125" y="662"/>
                    </a:cubicBezTo>
                    <a:cubicBezTo>
                      <a:pt x="125" y="662"/>
                      <a:pt x="124" y="671"/>
                      <a:pt x="122" y="680"/>
                    </a:cubicBezTo>
                    <a:lnTo>
                      <a:pt x="122" y="0"/>
                    </a:lnTo>
                    <a:close/>
                    <a:moveTo>
                      <a:pt x="121" y="0"/>
                    </a:moveTo>
                    <a:cubicBezTo>
                      <a:pt x="122" y="0"/>
                      <a:pt x="122" y="0"/>
                      <a:pt x="122" y="0"/>
                    </a:cubicBezTo>
                    <a:cubicBezTo>
                      <a:pt x="122" y="680"/>
                      <a:pt x="122" y="680"/>
                      <a:pt x="122" y="680"/>
                    </a:cubicBezTo>
                    <a:cubicBezTo>
                      <a:pt x="121" y="687"/>
                      <a:pt x="120" y="694"/>
                      <a:pt x="119" y="698"/>
                    </a:cubicBezTo>
                    <a:cubicBezTo>
                      <a:pt x="116" y="708"/>
                      <a:pt x="120" y="714"/>
                      <a:pt x="120" y="721"/>
                    </a:cubicBezTo>
                    <a:cubicBezTo>
                      <a:pt x="120" y="728"/>
                      <a:pt x="121" y="737"/>
                      <a:pt x="121" y="737"/>
                    </a:cubicBezTo>
                    <a:cubicBezTo>
                      <a:pt x="121" y="737"/>
                      <a:pt x="122" y="732"/>
                      <a:pt x="122" y="726"/>
                    </a:cubicBezTo>
                    <a:cubicBezTo>
                      <a:pt x="122" y="1033"/>
                      <a:pt x="122" y="1033"/>
                      <a:pt x="122" y="1033"/>
                    </a:cubicBezTo>
                    <a:cubicBezTo>
                      <a:pt x="110" y="1029"/>
                      <a:pt x="101" y="1014"/>
                      <a:pt x="101" y="992"/>
                    </a:cubicBezTo>
                    <a:cubicBezTo>
                      <a:pt x="102" y="967"/>
                      <a:pt x="96" y="963"/>
                      <a:pt x="100" y="948"/>
                    </a:cubicBezTo>
                    <a:cubicBezTo>
                      <a:pt x="104" y="934"/>
                      <a:pt x="100" y="923"/>
                      <a:pt x="92" y="901"/>
                    </a:cubicBezTo>
                    <a:cubicBezTo>
                      <a:pt x="85" y="878"/>
                      <a:pt x="58" y="781"/>
                      <a:pt x="59" y="756"/>
                    </a:cubicBezTo>
                    <a:cubicBezTo>
                      <a:pt x="61" y="731"/>
                      <a:pt x="63" y="709"/>
                      <a:pt x="61" y="692"/>
                    </a:cubicBezTo>
                    <a:cubicBezTo>
                      <a:pt x="59" y="675"/>
                      <a:pt x="57" y="661"/>
                      <a:pt x="57" y="661"/>
                    </a:cubicBezTo>
                    <a:cubicBezTo>
                      <a:pt x="57" y="661"/>
                      <a:pt x="39" y="669"/>
                      <a:pt x="39" y="645"/>
                    </a:cubicBezTo>
                    <a:cubicBezTo>
                      <a:pt x="39" y="621"/>
                      <a:pt x="35" y="551"/>
                      <a:pt x="34" y="530"/>
                    </a:cubicBezTo>
                    <a:cubicBezTo>
                      <a:pt x="32" y="509"/>
                      <a:pt x="35" y="468"/>
                      <a:pt x="35" y="468"/>
                    </a:cubicBezTo>
                    <a:cubicBezTo>
                      <a:pt x="35" y="468"/>
                      <a:pt x="18" y="467"/>
                      <a:pt x="13" y="464"/>
                    </a:cubicBezTo>
                    <a:cubicBezTo>
                      <a:pt x="7" y="462"/>
                      <a:pt x="27" y="426"/>
                      <a:pt x="31" y="411"/>
                    </a:cubicBezTo>
                    <a:cubicBezTo>
                      <a:pt x="35" y="397"/>
                      <a:pt x="34" y="372"/>
                      <a:pt x="34" y="372"/>
                    </a:cubicBezTo>
                    <a:cubicBezTo>
                      <a:pt x="34" y="372"/>
                      <a:pt x="4" y="370"/>
                      <a:pt x="2" y="344"/>
                    </a:cubicBezTo>
                    <a:cubicBezTo>
                      <a:pt x="1" y="319"/>
                      <a:pt x="0" y="282"/>
                      <a:pt x="2" y="266"/>
                    </a:cubicBezTo>
                    <a:cubicBezTo>
                      <a:pt x="5" y="251"/>
                      <a:pt x="5" y="253"/>
                      <a:pt x="8" y="232"/>
                    </a:cubicBezTo>
                    <a:cubicBezTo>
                      <a:pt x="10" y="212"/>
                      <a:pt x="21" y="177"/>
                      <a:pt x="31" y="175"/>
                    </a:cubicBezTo>
                    <a:cubicBezTo>
                      <a:pt x="42" y="174"/>
                      <a:pt x="55" y="166"/>
                      <a:pt x="55" y="166"/>
                    </a:cubicBezTo>
                    <a:cubicBezTo>
                      <a:pt x="55" y="166"/>
                      <a:pt x="44" y="154"/>
                      <a:pt x="57" y="143"/>
                    </a:cubicBezTo>
                    <a:cubicBezTo>
                      <a:pt x="70" y="133"/>
                      <a:pt x="77" y="129"/>
                      <a:pt x="71" y="115"/>
                    </a:cubicBezTo>
                    <a:cubicBezTo>
                      <a:pt x="66" y="101"/>
                      <a:pt x="70" y="91"/>
                      <a:pt x="73" y="73"/>
                    </a:cubicBezTo>
                    <a:cubicBezTo>
                      <a:pt x="76" y="55"/>
                      <a:pt x="85" y="1"/>
                      <a:pt x="121" y="0"/>
                    </a:cubicBez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26"/>
              <p:cNvSpPr/>
              <p:nvPr/>
            </p:nvSpPr>
            <p:spPr>
              <a:xfrm>
                <a:off x="1199520" y="3375360"/>
                <a:ext cx="138240" cy="263880"/>
              </a:xfrm>
              <a:custGeom>
                <a:avLst/>
                <a:gdLst/>
                <a:ahLst/>
                <a:rect l="l" t="t" r="r" b="b"/>
                <a:pathLst>
                  <a:path w="61" h="118">
                    <a:moveTo>
                      <a:pt x="1" y="3"/>
                    </a:moveTo>
                    <a:cubicBezTo>
                      <a:pt x="1" y="3"/>
                      <a:pt x="17" y="16"/>
                      <a:pt x="17" y="27"/>
                    </a:cubicBezTo>
                    <a:cubicBezTo>
                      <a:pt x="17" y="37"/>
                      <a:pt x="24" y="72"/>
                      <a:pt x="27" y="82"/>
                    </a:cubicBezTo>
                    <a:cubicBezTo>
                      <a:pt x="30" y="93"/>
                      <a:pt x="32" y="70"/>
                      <a:pt x="38" y="59"/>
                    </a:cubicBezTo>
                    <a:cubicBezTo>
                      <a:pt x="43" y="49"/>
                      <a:pt x="46" y="40"/>
                      <a:pt x="43" y="32"/>
                    </a:cubicBezTo>
                    <a:cubicBezTo>
                      <a:pt x="39" y="24"/>
                      <a:pt x="52" y="20"/>
                      <a:pt x="60" y="0"/>
                    </a:cubicBezTo>
                    <a:cubicBezTo>
                      <a:pt x="61" y="8"/>
                      <a:pt x="60" y="14"/>
                      <a:pt x="60" y="21"/>
                    </a:cubicBezTo>
                    <a:cubicBezTo>
                      <a:pt x="60" y="29"/>
                      <a:pt x="47" y="66"/>
                      <a:pt x="43" y="74"/>
                    </a:cubicBezTo>
                    <a:cubicBezTo>
                      <a:pt x="40" y="81"/>
                      <a:pt x="30" y="104"/>
                      <a:pt x="29" y="111"/>
                    </a:cubicBezTo>
                    <a:cubicBezTo>
                      <a:pt x="28" y="118"/>
                      <a:pt x="19" y="98"/>
                      <a:pt x="14" y="76"/>
                    </a:cubicBezTo>
                    <a:cubicBezTo>
                      <a:pt x="9" y="55"/>
                      <a:pt x="0" y="23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27"/>
              <p:cNvSpPr/>
              <p:nvPr/>
            </p:nvSpPr>
            <p:spPr>
              <a:xfrm>
                <a:off x="1129320" y="3735720"/>
                <a:ext cx="25560" cy="576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8" y="26"/>
                    </a:moveTo>
                    <a:cubicBezTo>
                      <a:pt x="8" y="26"/>
                      <a:pt x="10" y="19"/>
                      <a:pt x="11" y="11"/>
                    </a:cubicBezTo>
                    <a:cubicBezTo>
                      <a:pt x="11" y="3"/>
                      <a:pt x="11" y="0"/>
                      <a:pt x="11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18"/>
                      <a:pt x="0" y="23"/>
                    </a:cubicBezTo>
                    <a:cubicBezTo>
                      <a:pt x="4" y="26"/>
                      <a:pt x="8" y="26"/>
                      <a:pt x="8" y="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28"/>
              <p:cNvSpPr/>
              <p:nvPr/>
            </p:nvSpPr>
            <p:spPr>
              <a:xfrm>
                <a:off x="1322640" y="3852360"/>
                <a:ext cx="26640" cy="583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3" y="0"/>
                    </a:moveTo>
                    <a:cubicBezTo>
                      <a:pt x="3" y="0"/>
                      <a:pt x="1" y="16"/>
                      <a:pt x="0" y="21"/>
                    </a:cubicBezTo>
                    <a:cubicBezTo>
                      <a:pt x="0" y="26"/>
                      <a:pt x="12" y="21"/>
                      <a:pt x="12" y="21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7" name="Group 4"/>
          <p:cNvGrpSpPr/>
          <p:nvPr/>
        </p:nvGrpSpPr>
        <p:grpSpPr>
          <a:xfrm>
            <a:off x="2928960" y="2425680"/>
            <a:ext cx="3409920" cy="3562200"/>
            <a:chOff x="2928960" y="2425680"/>
            <a:chExt cx="3409920" cy="3562200"/>
          </a:xfrm>
        </p:grpSpPr>
        <p:sp>
          <p:nvSpPr>
            <p:cNvPr id="678" name="Rounded Rectangle 33"/>
            <p:cNvSpPr/>
            <p:nvPr/>
          </p:nvSpPr>
          <p:spPr>
            <a:xfrm>
              <a:off x="3921120" y="5149800"/>
              <a:ext cx="2417760" cy="838080"/>
            </a:xfrm>
            <a:prstGeom prst="roundRect">
              <a:avLst>
                <a:gd name="adj" fmla="val 16667"/>
              </a:avLst>
            </a:prstGeom>
            <a:solidFill>
              <a:srgbClr val="afaba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st leadership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fferenti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Group 48"/>
            <p:cNvGrpSpPr/>
            <p:nvPr/>
          </p:nvGrpSpPr>
          <p:grpSpPr>
            <a:xfrm>
              <a:off x="2928960" y="2425680"/>
              <a:ext cx="3285720" cy="2907000"/>
              <a:chOff x="2928960" y="2425680"/>
              <a:chExt cx="3285720" cy="2907000"/>
            </a:xfrm>
          </p:grpSpPr>
          <p:grpSp>
            <p:nvGrpSpPr>
              <p:cNvPr id="680" name="Group 10"/>
              <p:cNvGrpSpPr/>
              <p:nvPr/>
            </p:nvGrpSpPr>
            <p:grpSpPr>
              <a:xfrm>
                <a:off x="2928960" y="4177800"/>
                <a:ext cx="3285720" cy="1000080"/>
                <a:chOff x="2928960" y="4177800"/>
                <a:chExt cx="3285720" cy="1000080"/>
              </a:xfrm>
            </p:grpSpPr>
            <p:sp>
              <p:nvSpPr>
                <p:cNvPr id="681" name="Rectangle 11"/>
                <p:cNvSpPr/>
                <p:nvPr/>
              </p:nvSpPr>
              <p:spPr>
                <a:xfrm>
                  <a:off x="2928960" y="4441320"/>
                  <a:ext cx="3285720" cy="736560"/>
                </a:xfrm>
                <a:prstGeom prst="rect">
                  <a:avLst/>
                </a:pr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usin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Trapezoid 12"/>
                <p:cNvSpPr/>
                <p:nvPr/>
              </p:nvSpPr>
              <p:spPr>
                <a:xfrm>
                  <a:off x="2928960" y="4177800"/>
                  <a:ext cx="3285720" cy="263520"/>
                </a:xfrm>
                <a:custGeom>
                  <a:avLst/>
                  <a:gdLst/>
                  <a:ahLst/>
                  <a:rect l="l" t="t" r="r" b="b"/>
                  <a:pathLst>
                    <a:path w="2757178" h="255088">
                      <a:moveTo>
                        <a:pt x="0" y="255088"/>
                      </a:moveTo>
                      <a:lnTo>
                        <a:pt x="223202" y="0"/>
                      </a:lnTo>
                      <a:lnTo>
                        <a:pt x="2533976" y="0"/>
                      </a:lnTo>
                      <a:lnTo>
                        <a:pt x="2757178" y="255088"/>
                      </a:lnTo>
                      <a:lnTo>
                        <a:pt x="0" y="255088"/>
                      </a:lnTo>
                      <a:close/>
                    </a:path>
                  </a:pathLst>
                </a:custGeom>
                <a:solidFill>
                  <a:srgbClr val="2e7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683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960" y="5178240"/>
                <a:ext cx="3285720" cy="15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Group 18"/>
              <p:cNvGrpSpPr/>
              <p:nvPr/>
            </p:nvGrpSpPr>
            <p:grpSpPr>
              <a:xfrm>
                <a:off x="3954600" y="2425680"/>
                <a:ext cx="917280" cy="1900440"/>
                <a:chOff x="3954600" y="2425680"/>
                <a:chExt cx="917280" cy="1900440"/>
              </a:xfrm>
            </p:grpSpPr>
            <p:sp>
              <p:nvSpPr>
                <p:cNvPr id="685" name="Freeform 19"/>
                <p:cNvSpPr/>
                <p:nvPr/>
              </p:nvSpPr>
              <p:spPr>
                <a:xfrm>
                  <a:off x="3954600" y="2425680"/>
                  <a:ext cx="917280" cy="1900440"/>
                </a:xfrm>
                <a:custGeom>
                  <a:avLst/>
                  <a:gdLst/>
                  <a:ahLst/>
                  <a:rect l="l" t="t" r="r" b="b"/>
                  <a:pathLst>
                    <a:path w="540" h="1295">
                      <a:moveTo>
                        <a:pt x="451" y="240"/>
                      </a:moveTo>
                      <a:cubicBezTo>
                        <a:pt x="460" y="246"/>
                        <a:pt x="468" y="256"/>
                        <a:pt x="471" y="272"/>
                      </a:cubicBezTo>
                      <a:cubicBezTo>
                        <a:pt x="476" y="302"/>
                        <a:pt x="507" y="404"/>
                        <a:pt x="523" y="432"/>
                      </a:cubicBezTo>
                      <a:cubicBezTo>
                        <a:pt x="538" y="459"/>
                        <a:pt x="540" y="497"/>
                        <a:pt x="525" y="521"/>
                      </a:cubicBezTo>
                      <a:cubicBezTo>
                        <a:pt x="509" y="544"/>
                        <a:pt x="473" y="601"/>
                        <a:pt x="467" y="610"/>
                      </a:cubicBezTo>
                      <a:cubicBezTo>
                        <a:pt x="462" y="618"/>
                        <a:pt x="460" y="623"/>
                        <a:pt x="452" y="623"/>
                      </a:cubicBezTo>
                      <a:cubicBezTo>
                        <a:pt x="452" y="622"/>
                        <a:pt x="451" y="622"/>
                        <a:pt x="451" y="622"/>
                      </a:cubicBezTo>
                      <a:cubicBezTo>
                        <a:pt x="451" y="492"/>
                        <a:pt x="451" y="492"/>
                        <a:pt x="451" y="492"/>
                      </a:cubicBezTo>
                      <a:cubicBezTo>
                        <a:pt x="458" y="480"/>
                        <a:pt x="466" y="471"/>
                        <a:pt x="463" y="465"/>
                      </a:cubicBezTo>
                      <a:cubicBezTo>
                        <a:pt x="458" y="457"/>
                        <a:pt x="455" y="456"/>
                        <a:pt x="451" y="449"/>
                      </a:cubicBezTo>
                      <a:lnTo>
                        <a:pt x="451" y="240"/>
                      </a:lnTo>
                      <a:close/>
                      <a:moveTo>
                        <a:pt x="330" y="10"/>
                      </a:moveTo>
                      <a:cubicBezTo>
                        <a:pt x="337" y="16"/>
                        <a:pt x="345" y="27"/>
                        <a:pt x="352" y="23"/>
                      </a:cubicBezTo>
                      <a:cubicBezTo>
                        <a:pt x="358" y="20"/>
                        <a:pt x="357" y="38"/>
                        <a:pt x="364" y="38"/>
                      </a:cubicBezTo>
                      <a:cubicBezTo>
                        <a:pt x="372" y="38"/>
                        <a:pt x="380" y="64"/>
                        <a:pt x="379" y="78"/>
                      </a:cubicBezTo>
                      <a:cubicBezTo>
                        <a:pt x="378" y="92"/>
                        <a:pt x="375" y="106"/>
                        <a:pt x="374" y="112"/>
                      </a:cubicBezTo>
                      <a:cubicBezTo>
                        <a:pt x="373" y="118"/>
                        <a:pt x="370" y="141"/>
                        <a:pt x="365" y="141"/>
                      </a:cubicBezTo>
                      <a:cubicBezTo>
                        <a:pt x="360" y="141"/>
                        <a:pt x="358" y="142"/>
                        <a:pt x="358" y="142"/>
                      </a:cubicBezTo>
                      <a:cubicBezTo>
                        <a:pt x="358" y="142"/>
                        <a:pt x="353" y="160"/>
                        <a:pt x="353" y="174"/>
                      </a:cubicBezTo>
                      <a:cubicBezTo>
                        <a:pt x="353" y="188"/>
                        <a:pt x="355" y="188"/>
                        <a:pt x="355" y="188"/>
                      </a:cubicBezTo>
                      <a:cubicBezTo>
                        <a:pt x="363" y="202"/>
                        <a:pt x="363" y="202"/>
                        <a:pt x="363" y="202"/>
                      </a:cubicBezTo>
                      <a:cubicBezTo>
                        <a:pt x="363" y="202"/>
                        <a:pt x="406" y="224"/>
                        <a:pt x="425" y="230"/>
                      </a:cubicBezTo>
                      <a:cubicBezTo>
                        <a:pt x="434" y="232"/>
                        <a:pt x="443" y="235"/>
                        <a:pt x="451" y="240"/>
                      </a:cubicBezTo>
                      <a:cubicBezTo>
                        <a:pt x="451" y="449"/>
                        <a:pt x="451" y="449"/>
                        <a:pt x="451" y="449"/>
                      </a:cubicBezTo>
                      <a:cubicBezTo>
                        <a:pt x="448" y="445"/>
                        <a:pt x="446" y="439"/>
                        <a:pt x="443" y="426"/>
                      </a:cubicBezTo>
                      <a:cubicBezTo>
                        <a:pt x="443" y="453"/>
                        <a:pt x="434" y="493"/>
                        <a:pt x="441" y="520"/>
                      </a:cubicBezTo>
                      <a:cubicBezTo>
                        <a:pt x="440" y="510"/>
                        <a:pt x="445" y="500"/>
                        <a:pt x="451" y="492"/>
                      </a:cubicBezTo>
                      <a:cubicBezTo>
                        <a:pt x="451" y="622"/>
                        <a:pt x="451" y="622"/>
                        <a:pt x="451" y="622"/>
                      </a:cubicBezTo>
                      <a:cubicBezTo>
                        <a:pt x="444" y="622"/>
                        <a:pt x="439" y="623"/>
                        <a:pt x="439" y="623"/>
                      </a:cubicBezTo>
                      <a:cubicBezTo>
                        <a:pt x="439" y="623"/>
                        <a:pt x="435" y="638"/>
                        <a:pt x="429" y="642"/>
                      </a:cubicBezTo>
                      <a:cubicBezTo>
                        <a:pt x="423" y="647"/>
                        <a:pt x="415" y="662"/>
                        <a:pt x="413" y="657"/>
                      </a:cubicBezTo>
                      <a:cubicBezTo>
                        <a:pt x="411" y="651"/>
                        <a:pt x="406" y="696"/>
                        <a:pt x="400" y="721"/>
                      </a:cubicBezTo>
                      <a:cubicBezTo>
                        <a:pt x="395" y="745"/>
                        <a:pt x="369" y="914"/>
                        <a:pt x="369" y="939"/>
                      </a:cubicBezTo>
                      <a:cubicBezTo>
                        <a:pt x="369" y="963"/>
                        <a:pt x="359" y="988"/>
                        <a:pt x="360" y="1005"/>
                      </a:cubicBezTo>
                      <a:cubicBezTo>
                        <a:pt x="361" y="1022"/>
                        <a:pt x="357" y="1068"/>
                        <a:pt x="356" y="1093"/>
                      </a:cubicBezTo>
                      <a:cubicBezTo>
                        <a:pt x="355" y="1118"/>
                        <a:pt x="332" y="1144"/>
                        <a:pt x="332" y="1162"/>
                      </a:cubicBezTo>
                      <a:cubicBezTo>
                        <a:pt x="332" y="1181"/>
                        <a:pt x="338" y="1189"/>
                        <a:pt x="335" y="1200"/>
                      </a:cubicBezTo>
                      <a:cubicBezTo>
                        <a:pt x="332" y="1210"/>
                        <a:pt x="333" y="1218"/>
                        <a:pt x="345" y="1231"/>
                      </a:cubicBezTo>
                      <a:cubicBezTo>
                        <a:pt x="356" y="1243"/>
                        <a:pt x="361" y="1255"/>
                        <a:pt x="360" y="1264"/>
                      </a:cubicBezTo>
                      <a:cubicBezTo>
                        <a:pt x="359" y="1274"/>
                        <a:pt x="356" y="1278"/>
                        <a:pt x="333" y="1279"/>
                      </a:cubicBezTo>
                      <a:cubicBezTo>
                        <a:pt x="310" y="1280"/>
                        <a:pt x="288" y="1273"/>
                        <a:pt x="288" y="1267"/>
                      </a:cubicBezTo>
                      <a:cubicBezTo>
                        <a:pt x="288" y="1262"/>
                        <a:pt x="280" y="1260"/>
                        <a:pt x="273" y="1260"/>
                      </a:cubicBezTo>
                      <a:cubicBezTo>
                        <a:pt x="266" y="1260"/>
                        <a:pt x="267" y="1253"/>
                        <a:pt x="270" y="1239"/>
                      </a:cubicBezTo>
                      <a:cubicBezTo>
                        <a:pt x="273" y="1226"/>
                        <a:pt x="283" y="1208"/>
                        <a:pt x="277" y="1209"/>
                      </a:cubicBezTo>
                      <a:cubicBezTo>
                        <a:pt x="271" y="1211"/>
                        <a:pt x="266" y="1208"/>
                        <a:pt x="266" y="1188"/>
                      </a:cubicBezTo>
                      <a:cubicBezTo>
                        <a:pt x="266" y="1169"/>
                        <a:pt x="264" y="1163"/>
                        <a:pt x="272" y="1152"/>
                      </a:cubicBezTo>
                      <a:cubicBezTo>
                        <a:pt x="281" y="1140"/>
                        <a:pt x="279" y="1119"/>
                        <a:pt x="277" y="1102"/>
                      </a:cubicBezTo>
                      <a:cubicBezTo>
                        <a:pt x="275" y="1084"/>
                        <a:pt x="269" y="1072"/>
                        <a:pt x="274" y="1050"/>
                      </a:cubicBezTo>
                      <a:cubicBezTo>
                        <a:pt x="279" y="1029"/>
                        <a:pt x="280" y="1003"/>
                        <a:pt x="277" y="993"/>
                      </a:cubicBezTo>
                      <a:cubicBezTo>
                        <a:pt x="274" y="982"/>
                        <a:pt x="276" y="969"/>
                        <a:pt x="284" y="961"/>
                      </a:cubicBezTo>
                      <a:cubicBezTo>
                        <a:pt x="292" y="952"/>
                        <a:pt x="280" y="937"/>
                        <a:pt x="280" y="927"/>
                      </a:cubicBezTo>
                      <a:cubicBezTo>
                        <a:pt x="280" y="917"/>
                        <a:pt x="283" y="877"/>
                        <a:pt x="278" y="836"/>
                      </a:cubicBezTo>
                      <a:cubicBezTo>
                        <a:pt x="273" y="796"/>
                        <a:pt x="272" y="765"/>
                        <a:pt x="271" y="754"/>
                      </a:cubicBezTo>
                      <a:cubicBezTo>
                        <a:pt x="270" y="744"/>
                        <a:pt x="265" y="749"/>
                        <a:pt x="250" y="789"/>
                      </a:cubicBezTo>
                      <a:cubicBezTo>
                        <a:pt x="236" y="830"/>
                        <a:pt x="199" y="956"/>
                        <a:pt x="192" y="984"/>
                      </a:cubicBezTo>
                      <a:cubicBezTo>
                        <a:pt x="186" y="1008"/>
                        <a:pt x="166" y="1096"/>
                        <a:pt x="158" y="1136"/>
                      </a:cubicBezTo>
                      <a:cubicBezTo>
                        <a:pt x="158" y="509"/>
                        <a:pt x="158" y="509"/>
                        <a:pt x="158" y="509"/>
                      </a:cubicBezTo>
                      <a:cubicBezTo>
                        <a:pt x="160" y="506"/>
                        <a:pt x="158" y="485"/>
                        <a:pt x="163" y="469"/>
                      </a:cubicBezTo>
                      <a:cubicBezTo>
                        <a:pt x="169" y="451"/>
                        <a:pt x="171" y="426"/>
                        <a:pt x="172" y="396"/>
                      </a:cubicBezTo>
                      <a:cubicBezTo>
                        <a:pt x="172" y="396"/>
                        <a:pt x="165" y="421"/>
                        <a:pt x="158" y="437"/>
                      </a:cubicBezTo>
                      <a:cubicBezTo>
                        <a:pt x="158" y="224"/>
                        <a:pt x="158" y="224"/>
                        <a:pt x="158" y="224"/>
                      </a:cubicBezTo>
                      <a:cubicBezTo>
                        <a:pt x="164" y="221"/>
                        <a:pt x="175" y="219"/>
                        <a:pt x="190" y="217"/>
                      </a:cubicBezTo>
                      <a:cubicBezTo>
                        <a:pt x="226" y="212"/>
                        <a:pt x="252" y="202"/>
                        <a:pt x="261" y="195"/>
                      </a:cubicBezTo>
                      <a:cubicBezTo>
                        <a:pt x="266" y="191"/>
                        <a:pt x="269" y="188"/>
                        <a:pt x="272" y="185"/>
                      </a:cubicBezTo>
                      <a:cubicBezTo>
                        <a:pt x="274" y="182"/>
                        <a:pt x="279" y="177"/>
                        <a:pt x="275" y="177"/>
                      </a:cubicBezTo>
                      <a:cubicBezTo>
                        <a:pt x="266" y="176"/>
                        <a:pt x="264" y="142"/>
                        <a:pt x="260" y="132"/>
                      </a:cubicBezTo>
                      <a:cubicBezTo>
                        <a:pt x="255" y="122"/>
                        <a:pt x="257" y="115"/>
                        <a:pt x="260" y="106"/>
                      </a:cubicBezTo>
                      <a:cubicBezTo>
                        <a:pt x="263" y="97"/>
                        <a:pt x="257" y="83"/>
                        <a:pt x="265" y="69"/>
                      </a:cubicBezTo>
                      <a:cubicBezTo>
                        <a:pt x="272" y="55"/>
                        <a:pt x="262" y="37"/>
                        <a:pt x="272" y="35"/>
                      </a:cubicBezTo>
                      <a:cubicBezTo>
                        <a:pt x="283" y="33"/>
                        <a:pt x="279" y="21"/>
                        <a:pt x="290" y="21"/>
                      </a:cubicBezTo>
                      <a:cubicBezTo>
                        <a:pt x="300" y="21"/>
                        <a:pt x="301" y="6"/>
                        <a:pt x="312" y="11"/>
                      </a:cubicBezTo>
                      <a:cubicBezTo>
                        <a:pt x="322" y="16"/>
                        <a:pt x="322" y="0"/>
                        <a:pt x="330" y="10"/>
                      </a:cubicBezTo>
                      <a:close/>
                      <a:moveTo>
                        <a:pt x="158" y="1136"/>
                      </a:moveTo>
                      <a:cubicBezTo>
                        <a:pt x="156" y="1142"/>
                        <a:pt x="155" y="1147"/>
                        <a:pt x="155" y="1151"/>
                      </a:cubicBezTo>
                      <a:cubicBezTo>
                        <a:pt x="150" y="1175"/>
                        <a:pt x="144" y="1223"/>
                        <a:pt x="137" y="1223"/>
                      </a:cubicBezTo>
                      <a:cubicBezTo>
                        <a:pt x="131" y="1223"/>
                        <a:pt x="132" y="1228"/>
                        <a:pt x="131" y="1241"/>
                      </a:cubicBezTo>
                      <a:cubicBezTo>
                        <a:pt x="131" y="1255"/>
                        <a:pt x="117" y="1257"/>
                        <a:pt x="109" y="1260"/>
                      </a:cubicBezTo>
                      <a:cubicBezTo>
                        <a:pt x="102" y="1263"/>
                        <a:pt x="100" y="1255"/>
                        <a:pt x="100" y="1255"/>
                      </a:cubicBezTo>
                      <a:cubicBezTo>
                        <a:pt x="100" y="1255"/>
                        <a:pt x="87" y="1281"/>
                        <a:pt x="65" y="1284"/>
                      </a:cubicBezTo>
                      <a:cubicBezTo>
                        <a:pt x="43" y="1287"/>
                        <a:pt x="0" y="1295"/>
                        <a:pt x="0" y="1285"/>
                      </a:cubicBezTo>
                      <a:cubicBezTo>
                        <a:pt x="0" y="1274"/>
                        <a:pt x="5" y="1264"/>
                        <a:pt x="20" y="1256"/>
                      </a:cubicBezTo>
                      <a:cubicBezTo>
                        <a:pt x="34" y="1247"/>
                        <a:pt x="45" y="1224"/>
                        <a:pt x="51" y="1218"/>
                      </a:cubicBezTo>
                      <a:cubicBezTo>
                        <a:pt x="56" y="1212"/>
                        <a:pt x="49" y="1214"/>
                        <a:pt x="53" y="1203"/>
                      </a:cubicBezTo>
                      <a:cubicBezTo>
                        <a:pt x="58" y="1191"/>
                        <a:pt x="73" y="1123"/>
                        <a:pt x="76" y="1101"/>
                      </a:cubicBezTo>
                      <a:cubicBezTo>
                        <a:pt x="78" y="1078"/>
                        <a:pt x="77" y="1002"/>
                        <a:pt x="87" y="967"/>
                      </a:cubicBezTo>
                      <a:cubicBezTo>
                        <a:pt x="98" y="931"/>
                        <a:pt x="131" y="816"/>
                        <a:pt x="135" y="784"/>
                      </a:cubicBezTo>
                      <a:cubicBezTo>
                        <a:pt x="140" y="753"/>
                        <a:pt x="147" y="721"/>
                        <a:pt x="147" y="703"/>
                      </a:cubicBezTo>
                      <a:cubicBezTo>
                        <a:pt x="147" y="686"/>
                        <a:pt x="149" y="674"/>
                        <a:pt x="154" y="662"/>
                      </a:cubicBezTo>
                      <a:cubicBezTo>
                        <a:pt x="158" y="649"/>
                        <a:pt x="153" y="632"/>
                        <a:pt x="153" y="632"/>
                      </a:cubicBezTo>
                      <a:cubicBezTo>
                        <a:pt x="153" y="632"/>
                        <a:pt x="140" y="642"/>
                        <a:pt x="132" y="648"/>
                      </a:cubicBezTo>
                      <a:cubicBezTo>
                        <a:pt x="125" y="655"/>
                        <a:pt x="125" y="645"/>
                        <a:pt x="129" y="629"/>
                      </a:cubicBezTo>
                      <a:cubicBezTo>
                        <a:pt x="132" y="614"/>
                        <a:pt x="130" y="605"/>
                        <a:pt x="126" y="610"/>
                      </a:cubicBezTo>
                      <a:cubicBezTo>
                        <a:pt x="122" y="615"/>
                        <a:pt x="119" y="585"/>
                        <a:pt x="109" y="566"/>
                      </a:cubicBezTo>
                      <a:cubicBezTo>
                        <a:pt x="100" y="548"/>
                        <a:pt x="78" y="511"/>
                        <a:pt x="83" y="489"/>
                      </a:cubicBezTo>
                      <a:cubicBezTo>
                        <a:pt x="88" y="468"/>
                        <a:pt x="90" y="431"/>
                        <a:pt x="96" y="412"/>
                      </a:cubicBezTo>
                      <a:cubicBezTo>
                        <a:pt x="102" y="394"/>
                        <a:pt x="107" y="361"/>
                        <a:pt x="114" y="341"/>
                      </a:cubicBezTo>
                      <a:cubicBezTo>
                        <a:pt x="121" y="321"/>
                        <a:pt x="120" y="311"/>
                        <a:pt x="129" y="291"/>
                      </a:cubicBezTo>
                      <a:cubicBezTo>
                        <a:pt x="137" y="271"/>
                        <a:pt x="147" y="247"/>
                        <a:pt x="147" y="238"/>
                      </a:cubicBezTo>
                      <a:cubicBezTo>
                        <a:pt x="147" y="232"/>
                        <a:pt x="149" y="228"/>
                        <a:pt x="158" y="224"/>
                      </a:cubicBezTo>
                      <a:cubicBezTo>
                        <a:pt x="158" y="437"/>
                        <a:pt x="158" y="437"/>
                        <a:pt x="158" y="437"/>
                      </a:cubicBezTo>
                      <a:cubicBezTo>
                        <a:pt x="155" y="443"/>
                        <a:pt x="152" y="448"/>
                        <a:pt x="150" y="449"/>
                      </a:cubicBezTo>
                      <a:cubicBezTo>
                        <a:pt x="142" y="451"/>
                        <a:pt x="141" y="461"/>
                        <a:pt x="150" y="466"/>
                      </a:cubicBezTo>
                      <a:cubicBezTo>
                        <a:pt x="158" y="471"/>
                        <a:pt x="153" y="504"/>
                        <a:pt x="157" y="509"/>
                      </a:cubicBezTo>
                      <a:cubicBezTo>
                        <a:pt x="157" y="509"/>
                        <a:pt x="157" y="509"/>
                        <a:pt x="158" y="509"/>
                      </a:cubicBezTo>
                      <a:lnTo>
                        <a:pt x="158" y="1136"/>
                      </a:lnTo>
                      <a:close/>
                    </a:path>
                  </a:pathLst>
                </a:cu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Freeform 20"/>
                <p:cNvSpPr/>
                <p:nvPr/>
              </p:nvSpPr>
              <p:spPr>
                <a:xfrm>
                  <a:off x="4293720" y="2697120"/>
                  <a:ext cx="324360" cy="547200"/>
                </a:xfrm>
                <a:custGeom>
                  <a:avLst/>
                  <a:gdLst/>
                  <a:ahLst/>
                  <a:rect l="l" t="t" r="r" b="b"/>
                  <a:pathLst>
                    <a:path w="191" h="373">
                      <a:moveTo>
                        <a:pt x="153" y="0"/>
                      </a:moveTo>
                      <a:cubicBezTo>
                        <a:pt x="154" y="3"/>
                        <a:pt x="155" y="3"/>
                        <a:pt x="155" y="3"/>
                      </a:cubicBezTo>
                      <a:cubicBezTo>
                        <a:pt x="162" y="15"/>
                        <a:pt x="162" y="15"/>
                        <a:pt x="162" y="15"/>
                      </a:cubicBezTo>
                      <a:cubicBezTo>
                        <a:pt x="162" y="16"/>
                        <a:pt x="162" y="16"/>
                        <a:pt x="162" y="17"/>
                      </a:cubicBezTo>
                      <a:cubicBezTo>
                        <a:pt x="159" y="37"/>
                        <a:pt x="156" y="104"/>
                        <a:pt x="156" y="149"/>
                      </a:cubicBezTo>
                      <a:cubicBezTo>
                        <a:pt x="156" y="194"/>
                        <a:pt x="150" y="218"/>
                        <a:pt x="157" y="255"/>
                      </a:cubicBezTo>
                      <a:cubicBezTo>
                        <a:pt x="164" y="291"/>
                        <a:pt x="165" y="312"/>
                        <a:pt x="175" y="334"/>
                      </a:cubicBezTo>
                      <a:cubicBezTo>
                        <a:pt x="185" y="356"/>
                        <a:pt x="191" y="372"/>
                        <a:pt x="191" y="372"/>
                      </a:cubicBezTo>
                      <a:cubicBezTo>
                        <a:pt x="191" y="372"/>
                        <a:pt x="159" y="368"/>
                        <a:pt x="126" y="368"/>
                      </a:cubicBezTo>
                      <a:cubicBezTo>
                        <a:pt x="93" y="368"/>
                        <a:pt x="33" y="373"/>
                        <a:pt x="20" y="369"/>
                      </a:cubicBezTo>
                      <a:cubicBezTo>
                        <a:pt x="8" y="366"/>
                        <a:pt x="0" y="361"/>
                        <a:pt x="0" y="361"/>
                      </a:cubicBezTo>
                      <a:cubicBezTo>
                        <a:pt x="0" y="361"/>
                        <a:pt x="14" y="328"/>
                        <a:pt x="24" y="291"/>
                      </a:cubicBezTo>
                      <a:cubicBezTo>
                        <a:pt x="34" y="255"/>
                        <a:pt x="44" y="205"/>
                        <a:pt x="44" y="155"/>
                      </a:cubicBezTo>
                      <a:cubicBezTo>
                        <a:pt x="44" y="105"/>
                        <a:pt x="42" y="57"/>
                        <a:pt x="52" y="32"/>
                      </a:cubicBezTo>
                      <a:cubicBezTo>
                        <a:pt x="56" y="23"/>
                        <a:pt x="58" y="16"/>
                        <a:pt x="60" y="11"/>
                      </a:cubicBezTo>
                      <a:cubicBezTo>
                        <a:pt x="60" y="11"/>
                        <a:pt x="58" y="12"/>
                        <a:pt x="61" y="10"/>
                      </a:cubicBezTo>
                      <a:cubicBezTo>
                        <a:pt x="63" y="8"/>
                        <a:pt x="69" y="3"/>
                        <a:pt x="72" y="0"/>
                      </a:cubicBezTo>
                      <a:cubicBezTo>
                        <a:pt x="77" y="6"/>
                        <a:pt x="80" y="10"/>
                        <a:pt x="91" y="23"/>
                      </a:cubicBezTo>
                      <a:cubicBezTo>
                        <a:pt x="102" y="36"/>
                        <a:pt x="103" y="45"/>
                        <a:pt x="121" y="33"/>
                      </a:cubicBezTo>
                      <a:cubicBezTo>
                        <a:pt x="135" y="24"/>
                        <a:pt x="144" y="11"/>
                        <a:pt x="15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Freeform 21"/>
                <p:cNvSpPr/>
                <p:nvPr/>
              </p:nvSpPr>
              <p:spPr>
                <a:xfrm>
                  <a:off x="4344840" y="2760480"/>
                  <a:ext cx="156600" cy="541440"/>
                </a:xfrm>
                <a:custGeom>
                  <a:avLst/>
                  <a:gdLst/>
                  <a:ahLst/>
                  <a:rect l="l" t="t" r="r" b="b"/>
                  <a:pathLst>
                    <a:path w="92" h="369">
                      <a:moveTo>
                        <a:pt x="77" y="0"/>
                      </a:moveTo>
                      <a:cubicBezTo>
                        <a:pt x="59" y="18"/>
                        <a:pt x="59" y="18"/>
                        <a:pt x="59" y="18"/>
                      </a:cubicBezTo>
                      <a:cubicBezTo>
                        <a:pt x="59" y="18"/>
                        <a:pt x="68" y="21"/>
                        <a:pt x="65" y="29"/>
                      </a:cubicBezTo>
                      <a:cubicBezTo>
                        <a:pt x="62" y="37"/>
                        <a:pt x="49" y="81"/>
                        <a:pt x="37" y="139"/>
                      </a:cubicBezTo>
                      <a:cubicBezTo>
                        <a:pt x="24" y="198"/>
                        <a:pt x="7" y="300"/>
                        <a:pt x="4" y="314"/>
                      </a:cubicBezTo>
                      <a:cubicBezTo>
                        <a:pt x="0" y="329"/>
                        <a:pt x="5" y="339"/>
                        <a:pt x="15" y="354"/>
                      </a:cubicBezTo>
                      <a:cubicBezTo>
                        <a:pt x="24" y="369"/>
                        <a:pt x="25" y="369"/>
                        <a:pt x="35" y="356"/>
                      </a:cubicBezTo>
                      <a:cubicBezTo>
                        <a:pt x="45" y="343"/>
                        <a:pt x="52" y="348"/>
                        <a:pt x="59" y="311"/>
                      </a:cubicBezTo>
                      <a:cubicBezTo>
                        <a:pt x="65" y="274"/>
                        <a:pt x="75" y="200"/>
                        <a:pt x="80" y="168"/>
                      </a:cubicBezTo>
                      <a:cubicBezTo>
                        <a:pt x="85" y="135"/>
                        <a:pt x="91" y="72"/>
                        <a:pt x="87" y="57"/>
                      </a:cubicBezTo>
                      <a:cubicBezTo>
                        <a:pt x="83" y="43"/>
                        <a:pt x="80" y="35"/>
                        <a:pt x="81" y="29"/>
                      </a:cubicBezTo>
                      <a:cubicBezTo>
                        <a:pt x="83" y="23"/>
                        <a:pt x="92" y="17"/>
                        <a:pt x="92" y="17"/>
                      </a:cubicBezTo>
                      <a:cubicBezTo>
                        <a:pt x="92" y="17"/>
                        <a:pt x="85" y="4"/>
                        <a:pt x="77" y="0"/>
                      </a:cubicBezTo>
                      <a:close/>
                    </a:path>
                  </a:pathLst>
                </a:cu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88" name="Group 5"/>
          <p:cNvGrpSpPr/>
          <p:nvPr/>
        </p:nvGrpSpPr>
        <p:grpSpPr>
          <a:xfrm>
            <a:off x="5451480" y="1320840"/>
            <a:ext cx="3692520" cy="3654360"/>
            <a:chOff x="5451480" y="1320840"/>
            <a:chExt cx="3692520" cy="3654360"/>
          </a:xfrm>
        </p:grpSpPr>
        <p:sp>
          <p:nvSpPr>
            <p:cNvPr id="689" name="Rounded Rectangle 34"/>
            <p:cNvSpPr/>
            <p:nvPr/>
          </p:nvSpPr>
          <p:spPr>
            <a:xfrm>
              <a:off x="6338880" y="4137120"/>
              <a:ext cx="2805120" cy="838080"/>
            </a:xfrm>
            <a:prstGeom prst="roundRect">
              <a:avLst>
                <a:gd name="adj" fmla="val 16667"/>
              </a:avLst>
            </a:prstGeom>
            <a:solidFill>
              <a:srgbClr val="afaba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wth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bi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rench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0" name="Group 49"/>
            <p:cNvGrpSpPr/>
            <p:nvPr/>
          </p:nvGrpSpPr>
          <p:grpSpPr>
            <a:xfrm>
              <a:off x="5451480" y="1320840"/>
              <a:ext cx="3576960" cy="3019680"/>
              <a:chOff x="5451480" y="1320840"/>
              <a:chExt cx="3576960" cy="3019680"/>
            </a:xfrm>
          </p:grpSpPr>
          <p:grpSp>
            <p:nvGrpSpPr>
              <p:cNvPr id="691" name="Group 13"/>
              <p:cNvGrpSpPr/>
              <p:nvPr/>
            </p:nvGrpSpPr>
            <p:grpSpPr>
              <a:xfrm>
                <a:off x="5451480" y="3214080"/>
                <a:ext cx="3576960" cy="980640"/>
                <a:chOff x="5451480" y="3214080"/>
                <a:chExt cx="3576960" cy="980640"/>
              </a:xfrm>
            </p:grpSpPr>
            <p:sp>
              <p:nvSpPr>
                <p:cNvPr id="692" name="Rectangle 14"/>
                <p:cNvSpPr/>
                <p:nvPr/>
              </p:nvSpPr>
              <p:spPr>
                <a:xfrm>
                  <a:off x="5451480" y="3476160"/>
                  <a:ext cx="3576960" cy="718560"/>
                </a:xfrm>
                <a:prstGeom prst="rect">
                  <a:avLst/>
                </a:prstGeom>
                <a:solidFill>
                  <a:srgbClr val="70a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rpor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Trapezoid 15"/>
                <p:cNvSpPr/>
                <p:nvPr/>
              </p:nvSpPr>
              <p:spPr>
                <a:xfrm>
                  <a:off x="5451480" y="3214080"/>
                  <a:ext cx="3576960" cy="262080"/>
                </a:xfrm>
                <a:custGeom>
                  <a:avLst/>
                  <a:gdLst/>
                  <a:ahLst/>
                  <a:rect l="l" t="t" r="r" b="b"/>
                  <a:pathLst>
                    <a:path w="2756647" h="260157">
                      <a:moveTo>
                        <a:pt x="0" y="260157"/>
                      </a:moveTo>
                      <a:lnTo>
                        <a:pt x="227637" y="0"/>
                      </a:lnTo>
                      <a:lnTo>
                        <a:pt x="2529010" y="0"/>
                      </a:lnTo>
                      <a:lnTo>
                        <a:pt x="2756647" y="260157"/>
                      </a:lnTo>
                      <a:lnTo>
                        <a:pt x="0" y="260157"/>
                      </a:lnTo>
                      <a:close/>
                    </a:path>
                  </a:pathLst>
                </a:custGeom>
                <a:solidFill>
                  <a:srgbClr val="5482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694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590800" y="4195080"/>
                <a:ext cx="3437640" cy="14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5" name="Group 4"/>
              <p:cNvGrpSpPr/>
              <p:nvPr/>
            </p:nvGrpSpPr>
            <p:grpSpPr>
              <a:xfrm>
                <a:off x="6921360" y="1320840"/>
                <a:ext cx="851760" cy="2066760"/>
                <a:chOff x="6921360" y="1320840"/>
                <a:chExt cx="851760" cy="2066760"/>
              </a:xfrm>
            </p:grpSpPr>
            <p:sp>
              <p:nvSpPr>
                <p:cNvPr id="696" name="Freeform 5"/>
                <p:cNvSpPr/>
                <p:nvPr/>
              </p:nvSpPr>
              <p:spPr>
                <a:xfrm>
                  <a:off x="6921360" y="1320840"/>
                  <a:ext cx="851760" cy="2066760"/>
                </a:xfrm>
                <a:custGeom>
                  <a:avLst/>
                  <a:gdLst/>
                  <a:ahLst/>
                  <a:rect l="l" t="t" r="r" b="b"/>
                  <a:pathLst>
                    <a:path w="338" h="1056">
                      <a:moveTo>
                        <a:pt x="251" y="181"/>
                      </a:moveTo>
                      <a:cubicBezTo>
                        <a:pt x="268" y="186"/>
                        <a:pt x="281" y="191"/>
                        <a:pt x="281" y="214"/>
                      </a:cubicBezTo>
                      <a:cubicBezTo>
                        <a:pt x="282" y="239"/>
                        <a:pt x="284" y="289"/>
                        <a:pt x="288" y="323"/>
                      </a:cubicBezTo>
                      <a:cubicBezTo>
                        <a:pt x="292" y="356"/>
                        <a:pt x="302" y="428"/>
                        <a:pt x="302" y="451"/>
                      </a:cubicBezTo>
                      <a:cubicBezTo>
                        <a:pt x="303" y="474"/>
                        <a:pt x="305" y="522"/>
                        <a:pt x="305" y="527"/>
                      </a:cubicBezTo>
                      <a:cubicBezTo>
                        <a:pt x="304" y="533"/>
                        <a:pt x="300" y="532"/>
                        <a:pt x="302" y="541"/>
                      </a:cubicBezTo>
                      <a:cubicBezTo>
                        <a:pt x="303" y="550"/>
                        <a:pt x="303" y="558"/>
                        <a:pt x="299" y="564"/>
                      </a:cubicBezTo>
                      <a:cubicBezTo>
                        <a:pt x="294" y="570"/>
                        <a:pt x="296" y="578"/>
                        <a:pt x="296" y="578"/>
                      </a:cubicBezTo>
                      <a:cubicBezTo>
                        <a:pt x="338" y="576"/>
                        <a:pt x="338" y="576"/>
                        <a:pt x="338" y="576"/>
                      </a:cubicBezTo>
                      <a:cubicBezTo>
                        <a:pt x="335" y="741"/>
                        <a:pt x="335" y="741"/>
                        <a:pt x="335" y="741"/>
                      </a:cubicBezTo>
                      <a:cubicBezTo>
                        <a:pt x="269" y="792"/>
                        <a:pt x="269" y="792"/>
                        <a:pt x="269" y="792"/>
                      </a:cubicBezTo>
                      <a:cubicBezTo>
                        <a:pt x="269" y="792"/>
                        <a:pt x="260" y="785"/>
                        <a:pt x="251" y="784"/>
                      </a:cubicBezTo>
                      <a:cubicBezTo>
                        <a:pt x="251" y="583"/>
                        <a:pt x="251" y="583"/>
                        <a:pt x="251" y="583"/>
                      </a:cubicBezTo>
                      <a:cubicBezTo>
                        <a:pt x="258" y="582"/>
                        <a:pt x="258" y="582"/>
                        <a:pt x="258" y="582"/>
                      </a:cubicBezTo>
                      <a:cubicBezTo>
                        <a:pt x="258" y="582"/>
                        <a:pt x="257" y="570"/>
                        <a:pt x="259" y="562"/>
                      </a:cubicBezTo>
                      <a:cubicBezTo>
                        <a:pt x="261" y="555"/>
                        <a:pt x="261" y="548"/>
                        <a:pt x="259" y="539"/>
                      </a:cubicBezTo>
                      <a:cubicBezTo>
                        <a:pt x="259" y="539"/>
                        <a:pt x="256" y="547"/>
                        <a:pt x="251" y="548"/>
                      </a:cubicBezTo>
                      <a:lnTo>
                        <a:pt x="251" y="181"/>
                      </a:lnTo>
                      <a:close/>
                      <a:moveTo>
                        <a:pt x="159" y="0"/>
                      </a:moveTo>
                      <a:cubicBezTo>
                        <a:pt x="177" y="0"/>
                        <a:pt x="198" y="14"/>
                        <a:pt x="201" y="33"/>
                      </a:cubicBezTo>
                      <a:cubicBezTo>
                        <a:pt x="203" y="52"/>
                        <a:pt x="202" y="79"/>
                        <a:pt x="202" y="79"/>
                      </a:cubicBezTo>
                      <a:cubicBezTo>
                        <a:pt x="202" y="79"/>
                        <a:pt x="208" y="92"/>
                        <a:pt x="203" y="102"/>
                      </a:cubicBezTo>
                      <a:cubicBezTo>
                        <a:pt x="198" y="112"/>
                        <a:pt x="186" y="110"/>
                        <a:pt x="186" y="110"/>
                      </a:cubicBezTo>
                      <a:cubicBezTo>
                        <a:pt x="186" y="110"/>
                        <a:pt x="183" y="126"/>
                        <a:pt x="183" y="135"/>
                      </a:cubicBezTo>
                      <a:cubicBezTo>
                        <a:pt x="183" y="144"/>
                        <a:pt x="183" y="150"/>
                        <a:pt x="191" y="156"/>
                      </a:cubicBezTo>
                      <a:cubicBezTo>
                        <a:pt x="198" y="162"/>
                        <a:pt x="224" y="173"/>
                        <a:pt x="244" y="179"/>
                      </a:cubicBezTo>
                      <a:cubicBezTo>
                        <a:pt x="247" y="180"/>
                        <a:pt x="249" y="180"/>
                        <a:pt x="251" y="181"/>
                      </a:cubicBezTo>
                      <a:cubicBezTo>
                        <a:pt x="251" y="548"/>
                        <a:pt x="251" y="548"/>
                        <a:pt x="251" y="548"/>
                      </a:cubicBezTo>
                      <a:cubicBezTo>
                        <a:pt x="251" y="548"/>
                        <a:pt x="250" y="548"/>
                        <a:pt x="250" y="548"/>
                      </a:cubicBezTo>
                      <a:cubicBezTo>
                        <a:pt x="244" y="548"/>
                        <a:pt x="241" y="549"/>
                        <a:pt x="241" y="549"/>
                      </a:cubicBezTo>
                      <a:cubicBezTo>
                        <a:pt x="241" y="549"/>
                        <a:pt x="244" y="559"/>
                        <a:pt x="244" y="567"/>
                      </a:cubicBezTo>
                      <a:cubicBezTo>
                        <a:pt x="244" y="576"/>
                        <a:pt x="243" y="584"/>
                        <a:pt x="243" y="584"/>
                      </a:cubicBezTo>
                      <a:cubicBezTo>
                        <a:pt x="251" y="583"/>
                        <a:pt x="251" y="583"/>
                        <a:pt x="251" y="583"/>
                      </a:cubicBezTo>
                      <a:cubicBezTo>
                        <a:pt x="251" y="784"/>
                        <a:pt x="251" y="784"/>
                        <a:pt x="251" y="784"/>
                      </a:cubicBezTo>
                      <a:cubicBezTo>
                        <a:pt x="250" y="784"/>
                        <a:pt x="250" y="784"/>
                        <a:pt x="249" y="784"/>
                      </a:cubicBezTo>
                      <a:cubicBezTo>
                        <a:pt x="240" y="784"/>
                        <a:pt x="235" y="785"/>
                        <a:pt x="235" y="785"/>
                      </a:cubicBezTo>
                      <a:cubicBezTo>
                        <a:pt x="235" y="785"/>
                        <a:pt x="237" y="834"/>
                        <a:pt x="237" y="853"/>
                      </a:cubicBezTo>
                      <a:cubicBezTo>
                        <a:pt x="237" y="873"/>
                        <a:pt x="236" y="904"/>
                        <a:pt x="227" y="918"/>
                      </a:cubicBezTo>
                      <a:cubicBezTo>
                        <a:pt x="219" y="932"/>
                        <a:pt x="217" y="937"/>
                        <a:pt x="217" y="949"/>
                      </a:cubicBezTo>
                      <a:cubicBezTo>
                        <a:pt x="217" y="962"/>
                        <a:pt x="236" y="995"/>
                        <a:pt x="235" y="1007"/>
                      </a:cubicBezTo>
                      <a:cubicBezTo>
                        <a:pt x="235" y="1018"/>
                        <a:pt x="232" y="1036"/>
                        <a:pt x="213" y="1035"/>
                      </a:cubicBezTo>
                      <a:cubicBezTo>
                        <a:pt x="194" y="1035"/>
                        <a:pt x="180" y="1027"/>
                        <a:pt x="180" y="1012"/>
                      </a:cubicBezTo>
                      <a:cubicBezTo>
                        <a:pt x="180" y="996"/>
                        <a:pt x="182" y="987"/>
                        <a:pt x="176" y="981"/>
                      </a:cubicBezTo>
                      <a:cubicBezTo>
                        <a:pt x="170" y="975"/>
                        <a:pt x="179" y="962"/>
                        <a:pt x="168" y="947"/>
                      </a:cubicBezTo>
                      <a:cubicBezTo>
                        <a:pt x="158" y="932"/>
                        <a:pt x="170" y="930"/>
                        <a:pt x="167" y="917"/>
                      </a:cubicBezTo>
                      <a:cubicBezTo>
                        <a:pt x="164" y="903"/>
                        <a:pt x="169" y="861"/>
                        <a:pt x="170" y="845"/>
                      </a:cubicBezTo>
                      <a:cubicBezTo>
                        <a:pt x="171" y="828"/>
                        <a:pt x="168" y="809"/>
                        <a:pt x="160" y="738"/>
                      </a:cubicBezTo>
                      <a:cubicBezTo>
                        <a:pt x="151" y="668"/>
                        <a:pt x="146" y="637"/>
                        <a:pt x="144" y="622"/>
                      </a:cubicBezTo>
                      <a:cubicBezTo>
                        <a:pt x="142" y="606"/>
                        <a:pt x="138" y="587"/>
                        <a:pt x="138" y="587"/>
                      </a:cubicBezTo>
                      <a:cubicBezTo>
                        <a:pt x="138" y="587"/>
                        <a:pt x="127" y="653"/>
                        <a:pt x="118" y="669"/>
                      </a:cubicBezTo>
                      <a:cubicBezTo>
                        <a:pt x="109" y="686"/>
                        <a:pt x="99" y="768"/>
                        <a:pt x="96" y="792"/>
                      </a:cubicBezTo>
                      <a:cubicBezTo>
                        <a:pt x="93" y="816"/>
                        <a:pt x="95" y="886"/>
                        <a:pt x="89" y="894"/>
                      </a:cubicBezTo>
                      <a:cubicBezTo>
                        <a:pt x="84" y="901"/>
                        <a:pt x="81" y="912"/>
                        <a:pt x="81" y="912"/>
                      </a:cubicBezTo>
                      <a:cubicBezTo>
                        <a:pt x="81" y="912"/>
                        <a:pt x="96" y="920"/>
                        <a:pt x="96" y="932"/>
                      </a:cubicBezTo>
                      <a:cubicBezTo>
                        <a:pt x="96" y="944"/>
                        <a:pt x="85" y="954"/>
                        <a:pt x="85" y="969"/>
                      </a:cubicBezTo>
                      <a:cubicBezTo>
                        <a:pt x="86" y="985"/>
                        <a:pt x="84" y="998"/>
                        <a:pt x="78" y="1001"/>
                      </a:cubicBezTo>
                      <a:cubicBezTo>
                        <a:pt x="72" y="1004"/>
                        <a:pt x="73" y="1031"/>
                        <a:pt x="65" y="1040"/>
                      </a:cubicBezTo>
                      <a:cubicBezTo>
                        <a:pt x="57" y="1049"/>
                        <a:pt x="44" y="1056"/>
                        <a:pt x="28" y="1052"/>
                      </a:cubicBezTo>
                      <a:cubicBezTo>
                        <a:pt x="12" y="1047"/>
                        <a:pt x="12" y="1026"/>
                        <a:pt x="20" y="1006"/>
                      </a:cubicBezTo>
                      <a:cubicBezTo>
                        <a:pt x="28" y="986"/>
                        <a:pt x="37" y="973"/>
                        <a:pt x="35" y="965"/>
                      </a:cubicBezTo>
                      <a:cubicBezTo>
                        <a:pt x="32" y="957"/>
                        <a:pt x="29" y="945"/>
                        <a:pt x="37" y="937"/>
                      </a:cubicBezTo>
                      <a:cubicBezTo>
                        <a:pt x="45" y="929"/>
                        <a:pt x="36" y="920"/>
                        <a:pt x="31" y="913"/>
                      </a:cubicBezTo>
                      <a:cubicBezTo>
                        <a:pt x="26" y="906"/>
                        <a:pt x="27" y="875"/>
                        <a:pt x="27" y="857"/>
                      </a:cubicBezTo>
                      <a:cubicBezTo>
                        <a:pt x="26" y="840"/>
                        <a:pt x="28" y="755"/>
                        <a:pt x="27" y="724"/>
                      </a:cubicBezTo>
                      <a:cubicBezTo>
                        <a:pt x="26" y="692"/>
                        <a:pt x="23" y="598"/>
                        <a:pt x="28" y="572"/>
                      </a:cubicBezTo>
                      <a:cubicBezTo>
                        <a:pt x="32" y="546"/>
                        <a:pt x="28" y="526"/>
                        <a:pt x="28" y="526"/>
                      </a:cubicBezTo>
                      <a:cubicBezTo>
                        <a:pt x="28" y="526"/>
                        <a:pt x="18" y="531"/>
                        <a:pt x="18" y="522"/>
                      </a:cubicBezTo>
                      <a:cubicBezTo>
                        <a:pt x="18" y="512"/>
                        <a:pt x="22" y="510"/>
                        <a:pt x="17" y="493"/>
                      </a:cubicBezTo>
                      <a:cubicBezTo>
                        <a:pt x="13" y="476"/>
                        <a:pt x="12" y="460"/>
                        <a:pt x="7" y="447"/>
                      </a:cubicBezTo>
                      <a:cubicBezTo>
                        <a:pt x="1" y="434"/>
                        <a:pt x="0" y="412"/>
                        <a:pt x="7" y="405"/>
                      </a:cubicBezTo>
                      <a:cubicBezTo>
                        <a:pt x="13" y="398"/>
                        <a:pt x="4" y="361"/>
                        <a:pt x="9" y="332"/>
                      </a:cubicBezTo>
                      <a:cubicBezTo>
                        <a:pt x="15" y="304"/>
                        <a:pt x="19" y="258"/>
                        <a:pt x="20" y="233"/>
                      </a:cubicBezTo>
                      <a:cubicBezTo>
                        <a:pt x="20" y="209"/>
                        <a:pt x="21" y="191"/>
                        <a:pt x="53" y="183"/>
                      </a:cubicBezTo>
                      <a:cubicBezTo>
                        <a:pt x="85" y="175"/>
                        <a:pt x="109" y="166"/>
                        <a:pt x="113" y="159"/>
                      </a:cubicBezTo>
                      <a:cubicBezTo>
                        <a:pt x="118" y="153"/>
                        <a:pt x="119" y="135"/>
                        <a:pt x="118" y="127"/>
                      </a:cubicBezTo>
                      <a:cubicBezTo>
                        <a:pt x="117" y="119"/>
                        <a:pt x="117" y="113"/>
                        <a:pt x="117" y="108"/>
                      </a:cubicBezTo>
                      <a:cubicBezTo>
                        <a:pt x="117" y="103"/>
                        <a:pt x="107" y="110"/>
                        <a:pt x="105" y="102"/>
                      </a:cubicBezTo>
                      <a:cubicBezTo>
                        <a:pt x="103" y="93"/>
                        <a:pt x="102" y="75"/>
                        <a:pt x="103" y="73"/>
                      </a:cubicBezTo>
                      <a:cubicBezTo>
                        <a:pt x="105" y="72"/>
                        <a:pt x="106" y="72"/>
                        <a:pt x="108" y="72"/>
                      </a:cubicBezTo>
                      <a:cubicBezTo>
                        <a:pt x="108" y="69"/>
                        <a:pt x="107" y="52"/>
                        <a:pt x="108" y="33"/>
                      </a:cubicBezTo>
                      <a:cubicBezTo>
                        <a:pt x="109" y="16"/>
                        <a:pt x="127" y="2"/>
                        <a:pt x="159" y="0"/>
                      </a:cubicBezTo>
                      <a:close/>
                    </a:path>
                  </a:pathLst>
                </a:custGeom>
                <a:solidFill>
                  <a:srgbClr val="70a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7" name="Freeform 6"/>
                <p:cNvSpPr/>
                <p:nvPr/>
              </p:nvSpPr>
              <p:spPr>
                <a:xfrm>
                  <a:off x="6958080" y="2252880"/>
                  <a:ext cx="93600" cy="680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9" y="35"/>
                      </a:moveTo>
                      <a:cubicBezTo>
                        <a:pt x="9" y="35"/>
                        <a:pt x="0" y="22"/>
                        <a:pt x="9" y="11"/>
                      </a:cubicBezTo>
                      <a:cubicBezTo>
                        <a:pt x="17" y="0"/>
                        <a:pt x="37" y="8"/>
                        <a:pt x="37" y="8"/>
                      </a:cubicBezTo>
                      <a:cubicBezTo>
                        <a:pt x="37" y="8"/>
                        <a:pt x="23" y="8"/>
                        <a:pt x="15" y="14"/>
                      </a:cubicBezTo>
                      <a:cubicBezTo>
                        <a:pt x="8" y="20"/>
                        <a:pt x="10" y="24"/>
                        <a:pt x="9" y="35"/>
                      </a:cubicBezTo>
                      <a:close/>
                    </a:path>
                  </a:pathLst>
                </a:custGeom>
                <a:solidFill>
                  <a:srgbClr val="f9fb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8" name="Freeform 7"/>
                <p:cNvSpPr/>
                <p:nvPr/>
              </p:nvSpPr>
              <p:spPr>
                <a:xfrm>
                  <a:off x="7575120" y="2342880"/>
                  <a:ext cx="104760" cy="28800"/>
                </a:xfrm>
                <a:custGeom>
                  <a:avLst/>
                  <a:gdLst/>
                  <a:ahLst/>
                  <a:rect l="l" t="t" r="r" b="b"/>
                  <a:pathLst>
                    <a:path w="42" h="15">
                      <a:moveTo>
                        <a:pt x="0" y="14"/>
                      </a:moveTo>
                      <a:cubicBezTo>
                        <a:pt x="0" y="14"/>
                        <a:pt x="0" y="0"/>
                        <a:pt x="20" y="0"/>
                      </a:cubicBezTo>
                      <a:cubicBezTo>
                        <a:pt x="39" y="0"/>
                        <a:pt x="42" y="15"/>
                        <a:pt x="42" y="15"/>
                      </a:cubicBezTo>
                      <a:cubicBezTo>
                        <a:pt x="42" y="15"/>
                        <a:pt x="32" y="7"/>
                        <a:pt x="19" y="8"/>
                      </a:cubicBezTo>
                      <a:cubicBezTo>
                        <a:pt x="6" y="8"/>
                        <a:pt x="6" y="8"/>
                        <a:pt x="0" y="14"/>
                      </a:cubicBezTo>
                      <a:close/>
                    </a:path>
                  </a:pathLst>
                </a:custGeom>
                <a:solidFill>
                  <a:srgbClr val="f9fb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9" name="Freeform 8"/>
                <p:cNvSpPr/>
                <p:nvPr/>
              </p:nvSpPr>
              <p:spPr>
                <a:xfrm>
                  <a:off x="7111080" y="1606680"/>
                  <a:ext cx="282960" cy="576360"/>
                </a:xfrm>
                <a:custGeom>
                  <a:avLst/>
                  <a:gdLst/>
                  <a:ahLst/>
                  <a:rect l="l" t="t" r="r" b="b"/>
                  <a:pathLst>
                    <a:path w="113" h="295">
                      <a:moveTo>
                        <a:pt x="109" y="0"/>
                      </a:moveTo>
                      <a:cubicBezTo>
                        <a:pt x="109" y="3"/>
                        <a:pt x="111" y="5"/>
                        <a:pt x="113" y="8"/>
                      </a:cubicBezTo>
                      <a:cubicBezTo>
                        <a:pt x="109" y="29"/>
                        <a:pt x="100" y="92"/>
                        <a:pt x="97" y="138"/>
                      </a:cubicBezTo>
                      <a:cubicBezTo>
                        <a:pt x="93" y="191"/>
                        <a:pt x="103" y="294"/>
                        <a:pt x="103" y="294"/>
                      </a:cubicBezTo>
                      <a:cubicBezTo>
                        <a:pt x="103" y="294"/>
                        <a:pt x="96" y="295"/>
                        <a:pt x="72" y="295"/>
                      </a:cubicBezTo>
                      <a:cubicBezTo>
                        <a:pt x="48" y="295"/>
                        <a:pt x="0" y="280"/>
                        <a:pt x="0" y="280"/>
                      </a:cubicBezTo>
                      <a:cubicBezTo>
                        <a:pt x="0" y="280"/>
                        <a:pt x="8" y="266"/>
                        <a:pt x="15" y="247"/>
                      </a:cubicBezTo>
                      <a:cubicBezTo>
                        <a:pt x="21" y="228"/>
                        <a:pt x="33" y="147"/>
                        <a:pt x="36" y="78"/>
                      </a:cubicBezTo>
                      <a:cubicBezTo>
                        <a:pt x="38" y="43"/>
                        <a:pt x="38" y="26"/>
                        <a:pt x="36" y="16"/>
                      </a:cubicBezTo>
                      <a:cubicBezTo>
                        <a:pt x="37" y="15"/>
                        <a:pt x="38" y="14"/>
                        <a:pt x="38" y="13"/>
                      </a:cubicBezTo>
                      <a:cubicBezTo>
                        <a:pt x="40" y="11"/>
                        <a:pt x="41" y="8"/>
                        <a:pt x="42" y="4"/>
                      </a:cubicBezTo>
                      <a:cubicBezTo>
                        <a:pt x="49" y="18"/>
                        <a:pt x="67" y="33"/>
                        <a:pt x="78" y="33"/>
                      </a:cubicBezTo>
                      <a:cubicBezTo>
                        <a:pt x="88" y="33"/>
                        <a:pt x="102" y="12"/>
                        <a:pt x="109" y="0"/>
                      </a:cubicBezTo>
                      <a:close/>
                    </a:path>
                  </a:pathLst>
                </a:custGeom>
                <a:solidFill>
                  <a:srgbClr val="f9fb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0" name="Freeform 9"/>
                <p:cNvSpPr/>
                <p:nvPr/>
              </p:nvSpPr>
              <p:spPr>
                <a:xfrm>
                  <a:off x="7241400" y="1675800"/>
                  <a:ext cx="115560" cy="568080"/>
                </a:xfrm>
                <a:custGeom>
                  <a:avLst/>
                  <a:gdLst/>
                  <a:ahLst/>
                  <a:rect l="l" t="t" r="r" b="b"/>
                  <a:pathLst>
                    <a:path w="46" h="290">
                      <a:moveTo>
                        <a:pt x="0" y="13"/>
                      </a:moveTo>
                      <a:cubicBezTo>
                        <a:pt x="0" y="13"/>
                        <a:pt x="9" y="0"/>
                        <a:pt x="23" y="0"/>
                      </a:cubicBezTo>
                      <a:cubicBezTo>
                        <a:pt x="37" y="0"/>
                        <a:pt x="46" y="13"/>
                        <a:pt x="46" y="13"/>
                      </a:cubicBezTo>
                      <a:cubicBezTo>
                        <a:pt x="46" y="13"/>
                        <a:pt x="31" y="9"/>
                        <a:pt x="31" y="20"/>
                      </a:cubicBezTo>
                      <a:cubicBezTo>
                        <a:pt x="32" y="30"/>
                        <a:pt x="37" y="85"/>
                        <a:pt x="37" y="120"/>
                      </a:cubicBezTo>
                      <a:cubicBezTo>
                        <a:pt x="37" y="156"/>
                        <a:pt x="40" y="249"/>
                        <a:pt x="36" y="266"/>
                      </a:cubicBezTo>
                      <a:cubicBezTo>
                        <a:pt x="32" y="284"/>
                        <a:pt x="20" y="290"/>
                        <a:pt x="17" y="267"/>
                      </a:cubicBezTo>
                      <a:cubicBezTo>
                        <a:pt x="15" y="245"/>
                        <a:pt x="15" y="123"/>
                        <a:pt x="16" y="100"/>
                      </a:cubicBezTo>
                      <a:cubicBezTo>
                        <a:pt x="16" y="76"/>
                        <a:pt x="20" y="27"/>
                        <a:pt x="18" y="21"/>
                      </a:cubicBezTo>
                      <a:cubicBezTo>
                        <a:pt x="15" y="14"/>
                        <a:pt x="8" y="9"/>
                        <a:pt x="0" y="13"/>
                      </a:cubicBezTo>
                      <a:close/>
                    </a:path>
                  </a:pathLst>
                </a:custGeom>
                <a:solidFill>
                  <a:srgbClr val="70a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Planning: the Hierarchy of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reeform 5"/>
          <p:cNvSpPr/>
          <p:nvPr/>
        </p:nvSpPr>
        <p:spPr>
          <a:xfrm>
            <a:off x="2195640" y="1725480"/>
            <a:ext cx="5284800" cy="4000680"/>
          </a:xfrm>
          <a:custGeom>
            <a:avLst/>
            <a:gdLst/>
            <a:ahLst/>
            <a:rect l="l" t="t" r="r" b="b"/>
            <a:pathLst>
              <a:path w="1359" h="1028">
                <a:moveTo>
                  <a:pt x="556" y="1002"/>
                </a:moveTo>
                <a:cubicBezTo>
                  <a:pt x="556" y="1002"/>
                  <a:pt x="224" y="1028"/>
                  <a:pt x="236" y="843"/>
                </a:cubicBezTo>
                <a:cubicBezTo>
                  <a:pt x="248" y="658"/>
                  <a:pt x="472" y="568"/>
                  <a:pt x="236" y="472"/>
                </a:cubicBezTo>
                <a:cubicBezTo>
                  <a:pt x="0" y="376"/>
                  <a:pt x="435" y="0"/>
                  <a:pt x="702" y="168"/>
                </a:cubicBezTo>
                <a:cubicBezTo>
                  <a:pt x="735" y="189"/>
                  <a:pt x="768" y="212"/>
                  <a:pt x="795" y="240"/>
                </a:cubicBezTo>
                <a:cubicBezTo>
                  <a:pt x="824" y="269"/>
                  <a:pt x="838" y="307"/>
                  <a:pt x="865" y="337"/>
                </a:cubicBezTo>
                <a:cubicBezTo>
                  <a:pt x="907" y="383"/>
                  <a:pt x="984" y="370"/>
                  <a:pt x="1037" y="361"/>
                </a:cubicBezTo>
                <a:cubicBezTo>
                  <a:pt x="1131" y="347"/>
                  <a:pt x="1250" y="332"/>
                  <a:pt x="1323" y="410"/>
                </a:cubicBezTo>
                <a:cubicBezTo>
                  <a:pt x="1359" y="449"/>
                  <a:pt x="1356" y="519"/>
                  <a:pt x="1341" y="566"/>
                </a:cubicBezTo>
                <a:cubicBezTo>
                  <a:pt x="1299" y="697"/>
                  <a:pt x="1221" y="843"/>
                  <a:pt x="1105" y="922"/>
                </a:cubicBezTo>
                <a:cubicBezTo>
                  <a:pt x="1072" y="945"/>
                  <a:pt x="1036" y="962"/>
                  <a:pt x="998" y="974"/>
                </a:cubicBezTo>
                <a:cubicBezTo>
                  <a:pt x="963" y="986"/>
                  <a:pt x="917" y="1003"/>
                  <a:pt x="880" y="1003"/>
                </a:cubicBezTo>
                <a:cubicBezTo>
                  <a:pt x="514" y="1003"/>
                  <a:pt x="514" y="1003"/>
                  <a:pt x="514" y="1003"/>
                </a:cubicBezTo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3" name="Group 10"/>
          <p:cNvGrpSpPr/>
          <p:nvPr/>
        </p:nvGrpSpPr>
        <p:grpSpPr>
          <a:xfrm>
            <a:off x="6134040" y="2890800"/>
            <a:ext cx="2193840" cy="3113280"/>
            <a:chOff x="6134040" y="2890800"/>
            <a:chExt cx="2193840" cy="3113280"/>
          </a:xfrm>
        </p:grpSpPr>
        <p:sp>
          <p:nvSpPr>
            <p:cNvPr id="704" name="Rectangle 35"/>
            <p:cNvSpPr/>
            <p:nvPr/>
          </p:nvSpPr>
          <p:spPr>
            <a:xfrm>
              <a:off x="6134040" y="2890800"/>
              <a:ext cx="743040" cy="3113280"/>
            </a:xfrm>
            <a:prstGeom prst="rect">
              <a:avLst/>
            </a:pr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6551280" y="2890800"/>
              <a:ext cx="1776600" cy="31132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6" name="Freeform 6"/>
          <p:cNvSpPr/>
          <p:nvPr/>
        </p:nvSpPr>
        <p:spPr>
          <a:xfrm>
            <a:off x="2438280" y="3589200"/>
            <a:ext cx="3888000" cy="2414880"/>
          </a:xfrm>
          <a:custGeom>
            <a:avLst/>
            <a:gdLst/>
            <a:ahLst/>
            <a:rect l="l" t="t" r="r" b="b"/>
            <a:pathLst>
              <a:path w="7481" h="10000">
                <a:moveTo>
                  <a:pt x="7481" y="0"/>
                </a:moveTo>
                <a:lnTo>
                  <a:pt x="4969" y="0"/>
                </a:lnTo>
                <a:lnTo>
                  <a:pt x="4969" y="2052"/>
                </a:lnTo>
                <a:lnTo>
                  <a:pt x="2459" y="2052"/>
                </a:lnTo>
                <a:lnTo>
                  <a:pt x="2459" y="4085"/>
                </a:lnTo>
                <a:lnTo>
                  <a:pt x="0" y="4085"/>
                </a:lnTo>
                <a:lnTo>
                  <a:pt x="0" y="6172"/>
                </a:lnTo>
                <a:lnTo>
                  <a:pt x="0" y="10000"/>
                </a:lnTo>
                <a:lnTo>
                  <a:pt x="1187" y="10000"/>
                </a:lnTo>
                <a:lnTo>
                  <a:pt x="2459" y="10000"/>
                </a:lnTo>
                <a:lnTo>
                  <a:pt x="3706" y="10000"/>
                </a:lnTo>
                <a:lnTo>
                  <a:pt x="6165" y="10000"/>
                </a:lnTo>
                <a:lnTo>
                  <a:pt x="6165" y="9980"/>
                </a:lnTo>
                <a:lnTo>
                  <a:pt x="7481" y="9980"/>
                </a:lnTo>
                <a:lnTo>
                  <a:pt x="7481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11"/>
          <p:cNvSpPr/>
          <p:nvPr/>
        </p:nvSpPr>
        <p:spPr>
          <a:xfrm>
            <a:off x="2989440" y="4870440"/>
            <a:ext cx="473040" cy="447840"/>
          </a:xfrm>
          <a:custGeom>
            <a:avLst/>
            <a:gdLst/>
            <a:ahLst/>
            <a:rect l="l" t="t" r="r" b="b"/>
            <a:pathLst>
              <a:path w="2952" h="2796">
                <a:moveTo>
                  <a:pt x="2952" y="1502"/>
                </a:moveTo>
                <a:cubicBezTo>
                  <a:pt x="2941" y="1544"/>
                  <a:pt x="2933" y="1586"/>
                  <a:pt x="2918" y="1627"/>
                </a:cubicBezTo>
                <a:cubicBezTo>
                  <a:pt x="2833" y="1859"/>
                  <a:pt x="2593" y="2001"/>
                  <a:pt x="2354" y="1962"/>
                </a:cubicBezTo>
                <a:cubicBezTo>
                  <a:pt x="2103" y="1921"/>
                  <a:pt x="1919" y="1718"/>
                  <a:pt x="1910" y="1469"/>
                </a:cubicBezTo>
                <a:cubicBezTo>
                  <a:pt x="1909" y="1447"/>
                  <a:pt x="1914" y="1423"/>
                  <a:pt x="1922" y="1402"/>
                </a:cubicBezTo>
                <a:cubicBezTo>
                  <a:pt x="2054" y="1070"/>
                  <a:pt x="2187" y="737"/>
                  <a:pt x="2320" y="405"/>
                </a:cubicBezTo>
                <a:cubicBezTo>
                  <a:pt x="2324" y="395"/>
                  <a:pt x="2327" y="386"/>
                  <a:pt x="2333" y="372"/>
                </a:cubicBezTo>
                <a:cubicBezTo>
                  <a:pt x="2066" y="372"/>
                  <a:pt x="1802" y="372"/>
                  <a:pt x="1535" y="372"/>
                </a:cubicBezTo>
                <a:cubicBezTo>
                  <a:pt x="1535" y="1017"/>
                  <a:pt x="1535" y="1662"/>
                  <a:pt x="1535" y="2309"/>
                </a:cubicBezTo>
                <a:cubicBezTo>
                  <a:pt x="1619" y="2317"/>
                  <a:pt x="1700" y="2334"/>
                  <a:pt x="1777" y="2368"/>
                </a:cubicBezTo>
                <a:cubicBezTo>
                  <a:pt x="1890" y="2418"/>
                  <a:pt x="1986" y="2488"/>
                  <a:pt x="2037" y="2605"/>
                </a:cubicBezTo>
                <a:cubicBezTo>
                  <a:pt x="2053" y="2641"/>
                  <a:pt x="2060" y="2683"/>
                  <a:pt x="2064" y="2724"/>
                </a:cubicBezTo>
                <a:cubicBezTo>
                  <a:pt x="2070" y="2767"/>
                  <a:pt x="2044" y="2792"/>
                  <a:pt x="2001" y="2796"/>
                </a:cubicBezTo>
                <a:cubicBezTo>
                  <a:pt x="1995" y="2796"/>
                  <a:pt x="1988" y="2796"/>
                  <a:pt x="1981" y="2796"/>
                </a:cubicBezTo>
                <a:cubicBezTo>
                  <a:pt x="1641" y="2796"/>
                  <a:pt x="1301" y="2796"/>
                  <a:pt x="961" y="2796"/>
                </a:cubicBezTo>
                <a:cubicBezTo>
                  <a:pt x="953" y="2796"/>
                  <a:pt x="945" y="2796"/>
                  <a:pt x="938" y="2795"/>
                </a:cubicBezTo>
                <a:cubicBezTo>
                  <a:pt x="897" y="2792"/>
                  <a:pt x="875" y="2768"/>
                  <a:pt x="876" y="2727"/>
                </a:cubicBezTo>
                <a:cubicBezTo>
                  <a:pt x="878" y="2621"/>
                  <a:pt x="927" y="2538"/>
                  <a:pt x="1004" y="2469"/>
                </a:cubicBezTo>
                <a:cubicBezTo>
                  <a:pt x="1104" y="2379"/>
                  <a:pt x="1225" y="2334"/>
                  <a:pt x="1357" y="2315"/>
                </a:cubicBezTo>
                <a:cubicBezTo>
                  <a:pt x="1373" y="2312"/>
                  <a:pt x="1389" y="2310"/>
                  <a:pt x="1406" y="2308"/>
                </a:cubicBezTo>
                <a:cubicBezTo>
                  <a:pt x="1406" y="1662"/>
                  <a:pt x="1406" y="1018"/>
                  <a:pt x="1406" y="371"/>
                </a:cubicBezTo>
                <a:cubicBezTo>
                  <a:pt x="1144" y="371"/>
                  <a:pt x="882" y="371"/>
                  <a:pt x="616" y="371"/>
                </a:cubicBezTo>
                <a:cubicBezTo>
                  <a:pt x="621" y="382"/>
                  <a:pt x="624" y="391"/>
                  <a:pt x="628" y="401"/>
                </a:cubicBezTo>
                <a:cubicBezTo>
                  <a:pt x="757" y="723"/>
                  <a:pt x="885" y="1046"/>
                  <a:pt x="1017" y="1367"/>
                </a:cubicBezTo>
                <a:cubicBezTo>
                  <a:pt x="1044" y="1433"/>
                  <a:pt x="1046" y="1495"/>
                  <a:pt x="1031" y="1560"/>
                </a:cubicBezTo>
                <a:cubicBezTo>
                  <a:pt x="975" y="1804"/>
                  <a:pt x="761" y="1974"/>
                  <a:pt x="512" y="1967"/>
                </a:cubicBezTo>
                <a:cubicBezTo>
                  <a:pt x="247" y="1959"/>
                  <a:pt x="44" y="1775"/>
                  <a:pt x="6" y="1518"/>
                </a:cubicBezTo>
                <a:cubicBezTo>
                  <a:pt x="5" y="1513"/>
                  <a:pt x="2" y="1508"/>
                  <a:pt x="0" y="1502"/>
                </a:cubicBezTo>
                <a:cubicBezTo>
                  <a:pt x="0" y="1479"/>
                  <a:pt x="0" y="1456"/>
                  <a:pt x="0" y="1433"/>
                </a:cubicBezTo>
                <a:cubicBezTo>
                  <a:pt x="5" y="1422"/>
                  <a:pt x="10" y="1411"/>
                  <a:pt x="15" y="1399"/>
                </a:cubicBezTo>
                <a:cubicBezTo>
                  <a:pt x="149" y="1067"/>
                  <a:pt x="283" y="734"/>
                  <a:pt x="416" y="402"/>
                </a:cubicBezTo>
                <a:cubicBezTo>
                  <a:pt x="420" y="392"/>
                  <a:pt x="423" y="383"/>
                  <a:pt x="428" y="370"/>
                </a:cubicBezTo>
                <a:cubicBezTo>
                  <a:pt x="408" y="370"/>
                  <a:pt x="393" y="370"/>
                  <a:pt x="378" y="370"/>
                </a:cubicBezTo>
                <a:cubicBezTo>
                  <a:pt x="326" y="370"/>
                  <a:pt x="274" y="371"/>
                  <a:pt x="222" y="368"/>
                </a:cubicBezTo>
                <a:cubicBezTo>
                  <a:pt x="186" y="365"/>
                  <a:pt x="165" y="338"/>
                  <a:pt x="167" y="303"/>
                </a:cubicBezTo>
                <a:cubicBezTo>
                  <a:pt x="168" y="271"/>
                  <a:pt x="192" y="248"/>
                  <a:pt x="227" y="245"/>
                </a:cubicBezTo>
                <a:cubicBezTo>
                  <a:pt x="237" y="245"/>
                  <a:pt x="248" y="245"/>
                  <a:pt x="258" y="245"/>
                </a:cubicBezTo>
                <a:cubicBezTo>
                  <a:pt x="629" y="245"/>
                  <a:pt x="1000" y="245"/>
                  <a:pt x="1371" y="245"/>
                </a:cubicBezTo>
                <a:cubicBezTo>
                  <a:pt x="1382" y="245"/>
                  <a:pt x="1393" y="245"/>
                  <a:pt x="1407" y="245"/>
                </a:cubicBezTo>
                <a:cubicBezTo>
                  <a:pt x="1407" y="231"/>
                  <a:pt x="1407" y="221"/>
                  <a:pt x="1407" y="211"/>
                </a:cubicBezTo>
                <a:cubicBezTo>
                  <a:pt x="1407" y="165"/>
                  <a:pt x="1407" y="119"/>
                  <a:pt x="1408" y="73"/>
                </a:cubicBezTo>
                <a:cubicBezTo>
                  <a:pt x="1408" y="31"/>
                  <a:pt x="1431" y="5"/>
                  <a:pt x="1465" y="3"/>
                </a:cubicBezTo>
                <a:cubicBezTo>
                  <a:pt x="1506" y="0"/>
                  <a:pt x="1533" y="28"/>
                  <a:pt x="1533" y="74"/>
                </a:cubicBezTo>
                <a:cubicBezTo>
                  <a:pt x="1534" y="130"/>
                  <a:pt x="1533" y="187"/>
                  <a:pt x="1533" y="245"/>
                </a:cubicBezTo>
                <a:cubicBezTo>
                  <a:pt x="1548" y="245"/>
                  <a:pt x="1559" y="245"/>
                  <a:pt x="1571" y="245"/>
                </a:cubicBezTo>
                <a:cubicBezTo>
                  <a:pt x="1942" y="245"/>
                  <a:pt x="2314" y="245"/>
                  <a:pt x="2686" y="245"/>
                </a:cubicBezTo>
                <a:cubicBezTo>
                  <a:pt x="2698" y="245"/>
                  <a:pt x="2711" y="245"/>
                  <a:pt x="2723" y="247"/>
                </a:cubicBezTo>
                <a:cubicBezTo>
                  <a:pt x="2754" y="252"/>
                  <a:pt x="2775" y="277"/>
                  <a:pt x="2776" y="307"/>
                </a:cubicBezTo>
                <a:cubicBezTo>
                  <a:pt x="2776" y="336"/>
                  <a:pt x="2756" y="363"/>
                  <a:pt x="2726" y="367"/>
                </a:cubicBezTo>
                <a:cubicBezTo>
                  <a:pt x="2702" y="371"/>
                  <a:pt x="2678" y="371"/>
                  <a:pt x="2654" y="371"/>
                </a:cubicBezTo>
                <a:cubicBezTo>
                  <a:pt x="2611" y="372"/>
                  <a:pt x="2568" y="371"/>
                  <a:pt x="2522" y="371"/>
                </a:cubicBezTo>
                <a:cubicBezTo>
                  <a:pt x="2527" y="385"/>
                  <a:pt x="2530" y="394"/>
                  <a:pt x="2533" y="402"/>
                </a:cubicBezTo>
                <a:cubicBezTo>
                  <a:pt x="2665" y="729"/>
                  <a:pt x="2796" y="1055"/>
                  <a:pt x="2927" y="1382"/>
                </a:cubicBezTo>
                <a:cubicBezTo>
                  <a:pt x="2934" y="1399"/>
                  <a:pt x="2943" y="1416"/>
                  <a:pt x="2952" y="1433"/>
                </a:cubicBezTo>
                <a:cubicBezTo>
                  <a:pt x="2952" y="1456"/>
                  <a:pt x="2952" y="1479"/>
                  <a:pt x="2952" y="1502"/>
                </a:cubicBezTo>
                <a:close/>
                <a:moveTo>
                  <a:pt x="2427" y="475"/>
                </a:moveTo>
                <a:cubicBezTo>
                  <a:pt x="2303" y="783"/>
                  <a:pt x="2183" y="1082"/>
                  <a:pt x="2062" y="1383"/>
                </a:cubicBezTo>
                <a:cubicBezTo>
                  <a:pt x="2308" y="1383"/>
                  <a:pt x="2548" y="1383"/>
                  <a:pt x="2791" y="1383"/>
                </a:cubicBezTo>
                <a:cubicBezTo>
                  <a:pt x="2670" y="1081"/>
                  <a:pt x="2550" y="782"/>
                  <a:pt x="2427" y="475"/>
                </a:cubicBezTo>
                <a:close/>
                <a:moveTo>
                  <a:pt x="158" y="1382"/>
                </a:moveTo>
                <a:cubicBezTo>
                  <a:pt x="403" y="1382"/>
                  <a:pt x="643" y="1382"/>
                  <a:pt x="886" y="1382"/>
                </a:cubicBezTo>
                <a:cubicBezTo>
                  <a:pt x="765" y="1079"/>
                  <a:pt x="645" y="780"/>
                  <a:pt x="523" y="475"/>
                </a:cubicBezTo>
                <a:cubicBezTo>
                  <a:pt x="400" y="780"/>
                  <a:pt x="280" y="1079"/>
                  <a:pt x="158" y="1382"/>
                </a:cubicBezTo>
                <a:close/>
                <a:moveTo>
                  <a:pt x="2043" y="1511"/>
                </a:moveTo>
                <a:cubicBezTo>
                  <a:pt x="2052" y="1651"/>
                  <a:pt x="2196" y="1843"/>
                  <a:pt x="2425" y="1843"/>
                </a:cubicBezTo>
                <a:cubicBezTo>
                  <a:pt x="2622" y="1843"/>
                  <a:pt x="2816" y="1676"/>
                  <a:pt x="2813" y="1511"/>
                </a:cubicBezTo>
                <a:cubicBezTo>
                  <a:pt x="2556" y="1511"/>
                  <a:pt x="2300" y="1511"/>
                  <a:pt x="2043" y="1511"/>
                </a:cubicBezTo>
                <a:close/>
                <a:moveTo>
                  <a:pt x="135" y="1512"/>
                </a:moveTo>
                <a:cubicBezTo>
                  <a:pt x="131" y="1667"/>
                  <a:pt x="321" y="1836"/>
                  <a:pt x="501" y="1843"/>
                </a:cubicBezTo>
                <a:cubicBezTo>
                  <a:pt x="742" y="1852"/>
                  <a:pt x="894" y="1658"/>
                  <a:pt x="906" y="1512"/>
                </a:cubicBezTo>
                <a:cubicBezTo>
                  <a:pt x="649" y="1512"/>
                  <a:pt x="392" y="1512"/>
                  <a:pt x="135" y="1512"/>
                </a:cubicBezTo>
                <a:close/>
                <a:moveTo>
                  <a:pt x="1928" y="2670"/>
                </a:moveTo>
                <a:cubicBezTo>
                  <a:pt x="1923" y="2657"/>
                  <a:pt x="1919" y="2646"/>
                  <a:pt x="1914" y="2636"/>
                </a:cubicBezTo>
                <a:cubicBezTo>
                  <a:pt x="1878" y="2573"/>
                  <a:pt x="1823" y="2529"/>
                  <a:pt x="1759" y="2499"/>
                </a:cubicBezTo>
                <a:cubicBezTo>
                  <a:pt x="1567" y="2409"/>
                  <a:pt x="1373" y="2408"/>
                  <a:pt x="1181" y="2499"/>
                </a:cubicBezTo>
                <a:cubicBezTo>
                  <a:pt x="1116" y="2529"/>
                  <a:pt x="1061" y="2574"/>
                  <a:pt x="1025" y="2639"/>
                </a:cubicBezTo>
                <a:cubicBezTo>
                  <a:pt x="1020" y="2648"/>
                  <a:pt x="1018" y="2658"/>
                  <a:pt x="1013" y="2670"/>
                </a:cubicBezTo>
                <a:cubicBezTo>
                  <a:pt x="1320" y="2670"/>
                  <a:pt x="1622" y="2670"/>
                  <a:pt x="1928" y="26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2"/>
          <p:cNvSpPr/>
          <p:nvPr/>
        </p:nvSpPr>
        <p:spPr>
          <a:xfrm>
            <a:off x="5713560" y="3887640"/>
            <a:ext cx="366480" cy="368280"/>
          </a:xfrm>
          <a:custGeom>
            <a:avLst/>
            <a:gdLst/>
            <a:ahLst/>
            <a:rect l="l" t="t" r="r" b="b"/>
            <a:pathLst>
              <a:path w="2296" h="2296">
                <a:moveTo>
                  <a:pt x="1076" y="0"/>
                </a:moveTo>
                <a:cubicBezTo>
                  <a:pt x="1124" y="0"/>
                  <a:pt x="1172" y="0"/>
                  <a:pt x="1219" y="0"/>
                </a:cubicBezTo>
                <a:cubicBezTo>
                  <a:pt x="1225" y="2"/>
                  <a:pt x="1231" y="4"/>
                  <a:pt x="1237" y="4"/>
                </a:cubicBezTo>
                <a:cubicBezTo>
                  <a:pt x="1392" y="16"/>
                  <a:pt x="1539" y="58"/>
                  <a:pt x="1677" y="130"/>
                </a:cubicBezTo>
                <a:cubicBezTo>
                  <a:pt x="1701" y="142"/>
                  <a:pt x="1724" y="155"/>
                  <a:pt x="1749" y="169"/>
                </a:cubicBezTo>
                <a:cubicBezTo>
                  <a:pt x="1786" y="131"/>
                  <a:pt x="1822" y="94"/>
                  <a:pt x="1858" y="58"/>
                </a:cubicBezTo>
                <a:cubicBezTo>
                  <a:pt x="1879" y="38"/>
                  <a:pt x="1904" y="32"/>
                  <a:pt x="1930" y="43"/>
                </a:cubicBezTo>
                <a:cubicBezTo>
                  <a:pt x="1956" y="53"/>
                  <a:pt x="1970" y="74"/>
                  <a:pt x="1973" y="101"/>
                </a:cubicBezTo>
                <a:cubicBezTo>
                  <a:pt x="1975" y="121"/>
                  <a:pt x="1976" y="142"/>
                  <a:pt x="1978" y="162"/>
                </a:cubicBezTo>
                <a:cubicBezTo>
                  <a:pt x="1982" y="209"/>
                  <a:pt x="1986" y="257"/>
                  <a:pt x="1990" y="305"/>
                </a:cubicBezTo>
                <a:cubicBezTo>
                  <a:pt x="2002" y="307"/>
                  <a:pt x="2012" y="308"/>
                  <a:pt x="2023" y="309"/>
                </a:cubicBezTo>
                <a:cubicBezTo>
                  <a:pt x="2079" y="314"/>
                  <a:pt x="2136" y="318"/>
                  <a:pt x="2192" y="323"/>
                </a:cubicBezTo>
                <a:cubicBezTo>
                  <a:pt x="2229" y="326"/>
                  <a:pt x="2255" y="350"/>
                  <a:pt x="2258" y="385"/>
                </a:cubicBezTo>
                <a:cubicBezTo>
                  <a:pt x="2260" y="408"/>
                  <a:pt x="2250" y="427"/>
                  <a:pt x="2234" y="443"/>
                </a:cubicBezTo>
                <a:cubicBezTo>
                  <a:pt x="2198" y="478"/>
                  <a:pt x="2163" y="513"/>
                  <a:pt x="2128" y="548"/>
                </a:cubicBezTo>
                <a:cubicBezTo>
                  <a:pt x="2131" y="554"/>
                  <a:pt x="2133" y="558"/>
                  <a:pt x="2135" y="562"/>
                </a:cubicBezTo>
                <a:cubicBezTo>
                  <a:pt x="2208" y="685"/>
                  <a:pt x="2257" y="818"/>
                  <a:pt x="2280" y="959"/>
                </a:cubicBezTo>
                <a:cubicBezTo>
                  <a:pt x="2286" y="998"/>
                  <a:pt x="2291" y="1037"/>
                  <a:pt x="2296" y="1077"/>
                </a:cubicBezTo>
                <a:cubicBezTo>
                  <a:pt x="2296" y="1124"/>
                  <a:pt x="2296" y="1172"/>
                  <a:pt x="2296" y="1220"/>
                </a:cubicBezTo>
                <a:cubicBezTo>
                  <a:pt x="2294" y="1226"/>
                  <a:pt x="2293" y="1232"/>
                  <a:pt x="2292" y="1237"/>
                </a:cubicBezTo>
                <a:cubicBezTo>
                  <a:pt x="2284" y="1290"/>
                  <a:pt x="2279" y="1344"/>
                  <a:pt x="2268" y="1397"/>
                </a:cubicBezTo>
                <a:cubicBezTo>
                  <a:pt x="2176" y="1842"/>
                  <a:pt x="1796" y="2206"/>
                  <a:pt x="1348" y="2279"/>
                </a:cubicBezTo>
                <a:cubicBezTo>
                  <a:pt x="1305" y="2285"/>
                  <a:pt x="1262" y="2290"/>
                  <a:pt x="1219" y="2296"/>
                </a:cubicBezTo>
                <a:cubicBezTo>
                  <a:pt x="1172" y="2296"/>
                  <a:pt x="1124" y="2296"/>
                  <a:pt x="1076" y="2296"/>
                </a:cubicBezTo>
                <a:cubicBezTo>
                  <a:pt x="1071" y="2295"/>
                  <a:pt x="1066" y="2293"/>
                  <a:pt x="1061" y="2293"/>
                </a:cubicBezTo>
                <a:cubicBezTo>
                  <a:pt x="1009" y="2285"/>
                  <a:pt x="956" y="2280"/>
                  <a:pt x="904" y="2270"/>
                </a:cubicBezTo>
                <a:cubicBezTo>
                  <a:pt x="459" y="2180"/>
                  <a:pt x="90" y="1798"/>
                  <a:pt x="18" y="1351"/>
                </a:cubicBezTo>
                <a:cubicBezTo>
                  <a:pt x="11" y="1307"/>
                  <a:pt x="6" y="1264"/>
                  <a:pt x="0" y="1220"/>
                </a:cubicBezTo>
                <a:cubicBezTo>
                  <a:pt x="0" y="1172"/>
                  <a:pt x="0" y="1124"/>
                  <a:pt x="0" y="1077"/>
                </a:cubicBezTo>
                <a:cubicBezTo>
                  <a:pt x="7" y="1026"/>
                  <a:pt x="13" y="974"/>
                  <a:pt x="22" y="924"/>
                </a:cubicBezTo>
                <a:cubicBezTo>
                  <a:pt x="108" y="467"/>
                  <a:pt x="489" y="93"/>
                  <a:pt x="948" y="18"/>
                </a:cubicBezTo>
                <a:cubicBezTo>
                  <a:pt x="990" y="11"/>
                  <a:pt x="1033" y="6"/>
                  <a:pt x="1076" y="0"/>
                </a:cubicBezTo>
                <a:close/>
                <a:moveTo>
                  <a:pt x="1647" y="269"/>
                </a:moveTo>
                <a:cubicBezTo>
                  <a:pt x="1292" y="54"/>
                  <a:pt x="724" y="74"/>
                  <a:pt x="367" y="502"/>
                </a:cubicBezTo>
                <a:cubicBezTo>
                  <a:pt x="30" y="907"/>
                  <a:pt x="58" y="1519"/>
                  <a:pt x="461" y="1894"/>
                </a:cubicBezTo>
                <a:cubicBezTo>
                  <a:pt x="850" y="2256"/>
                  <a:pt x="1463" y="2251"/>
                  <a:pt x="1851" y="1877"/>
                </a:cubicBezTo>
                <a:cubicBezTo>
                  <a:pt x="2235" y="1508"/>
                  <a:pt x="2223" y="966"/>
                  <a:pt x="2026" y="648"/>
                </a:cubicBezTo>
                <a:cubicBezTo>
                  <a:pt x="2003" y="672"/>
                  <a:pt x="1981" y="695"/>
                  <a:pt x="1959" y="718"/>
                </a:cubicBezTo>
                <a:cubicBezTo>
                  <a:pt x="1940" y="738"/>
                  <a:pt x="1917" y="745"/>
                  <a:pt x="1890" y="742"/>
                </a:cubicBezTo>
                <a:cubicBezTo>
                  <a:pt x="1859" y="738"/>
                  <a:pt x="1828" y="737"/>
                  <a:pt x="1795" y="735"/>
                </a:cubicBezTo>
                <a:cubicBezTo>
                  <a:pt x="2028" y="1108"/>
                  <a:pt x="1894" y="1544"/>
                  <a:pt x="1612" y="1759"/>
                </a:cubicBezTo>
                <a:cubicBezTo>
                  <a:pt x="1335" y="1970"/>
                  <a:pt x="944" y="1967"/>
                  <a:pt x="666" y="1745"/>
                </a:cubicBezTo>
                <a:cubicBezTo>
                  <a:pt x="391" y="1524"/>
                  <a:pt x="302" y="1139"/>
                  <a:pt x="456" y="820"/>
                </a:cubicBezTo>
                <a:cubicBezTo>
                  <a:pt x="555" y="614"/>
                  <a:pt x="716" y="476"/>
                  <a:pt x="936" y="412"/>
                </a:cubicBezTo>
                <a:cubicBezTo>
                  <a:pt x="1156" y="349"/>
                  <a:pt x="1364" y="383"/>
                  <a:pt x="1562" y="502"/>
                </a:cubicBezTo>
                <a:cubicBezTo>
                  <a:pt x="1559" y="467"/>
                  <a:pt x="1558" y="437"/>
                  <a:pt x="1554" y="408"/>
                </a:cubicBezTo>
                <a:cubicBezTo>
                  <a:pt x="1550" y="378"/>
                  <a:pt x="1559" y="355"/>
                  <a:pt x="1580" y="335"/>
                </a:cubicBezTo>
                <a:cubicBezTo>
                  <a:pt x="1603" y="314"/>
                  <a:pt x="1625" y="291"/>
                  <a:pt x="1647" y="269"/>
                </a:cubicBezTo>
                <a:close/>
                <a:moveTo>
                  <a:pt x="1540" y="656"/>
                </a:moveTo>
                <a:cubicBezTo>
                  <a:pt x="1339" y="480"/>
                  <a:pt x="969" y="447"/>
                  <a:pt x="712" y="691"/>
                </a:cubicBezTo>
                <a:cubicBezTo>
                  <a:pt x="455" y="936"/>
                  <a:pt x="449" y="1339"/>
                  <a:pt x="699" y="1593"/>
                </a:cubicBezTo>
                <a:cubicBezTo>
                  <a:pt x="944" y="1842"/>
                  <a:pt x="1350" y="1843"/>
                  <a:pt x="1596" y="1594"/>
                </a:cubicBezTo>
                <a:cubicBezTo>
                  <a:pt x="1848" y="1338"/>
                  <a:pt x="1820" y="964"/>
                  <a:pt x="1640" y="755"/>
                </a:cubicBezTo>
                <a:cubicBezTo>
                  <a:pt x="1577" y="818"/>
                  <a:pt x="1513" y="882"/>
                  <a:pt x="1450" y="945"/>
                </a:cubicBezTo>
                <a:cubicBezTo>
                  <a:pt x="1569" y="1131"/>
                  <a:pt x="1501" y="1340"/>
                  <a:pt x="1362" y="1442"/>
                </a:cubicBezTo>
                <a:cubicBezTo>
                  <a:pt x="1216" y="1548"/>
                  <a:pt x="1016" y="1531"/>
                  <a:pt x="889" y="1403"/>
                </a:cubicBezTo>
                <a:cubicBezTo>
                  <a:pt x="763" y="1275"/>
                  <a:pt x="750" y="1074"/>
                  <a:pt x="857" y="931"/>
                </a:cubicBezTo>
                <a:cubicBezTo>
                  <a:pt x="964" y="788"/>
                  <a:pt x="1173" y="731"/>
                  <a:pt x="1350" y="846"/>
                </a:cubicBezTo>
                <a:cubicBezTo>
                  <a:pt x="1414" y="782"/>
                  <a:pt x="1477" y="719"/>
                  <a:pt x="1540" y="656"/>
                </a:cubicBezTo>
                <a:close/>
                <a:moveTo>
                  <a:pt x="1253" y="948"/>
                </a:moveTo>
                <a:cubicBezTo>
                  <a:pt x="1162" y="892"/>
                  <a:pt x="1032" y="922"/>
                  <a:pt x="965" y="1012"/>
                </a:cubicBezTo>
                <a:cubicBezTo>
                  <a:pt x="894" y="1106"/>
                  <a:pt x="907" y="1239"/>
                  <a:pt x="995" y="1318"/>
                </a:cubicBezTo>
                <a:cubicBezTo>
                  <a:pt x="1084" y="1398"/>
                  <a:pt x="1216" y="1396"/>
                  <a:pt x="1304" y="1314"/>
                </a:cubicBezTo>
                <a:cubicBezTo>
                  <a:pt x="1389" y="1235"/>
                  <a:pt x="1393" y="1108"/>
                  <a:pt x="1348" y="1044"/>
                </a:cubicBezTo>
                <a:cubicBezTo>
                  <a:pt x="1342" y="1050"/>
                  <a:pt x="1337" y="1054"/>
                  <a:pt x="1332" y="1060"/>
                </a:cubicBezTo>
                <a:cubicBezTo>
                  <a:pt x="1288" y="1103"/>
                  <a:pt x="1244" y="1147"/>
                  <a:pt x="1200" y="1191"/>
                </a:cubicBezTo>
                <a:cubicBezTo>
                  <a:pt x="1182" y="1210"/>
                  <a:pt x="1160" y="1220"/>
                  <a:pt x="1134" y="1214"/>
                </a:cubicBezTo>
                <a:cubicBezTo>
                  <a:pt x="1108" y="1208"/>
                  <a:pt x="1091" y="1192"/>
                  <a:pt x="1084" y="1167"/>
                </a:cubicBezTo>
                <a:cubicBezTo>
                  <a:pt x="1076" y="1140"/>
                  <a:pt x="1084" y="1117"/>
                  <a:pt x="1103" y="1098"/>
                </a:cubicBezTo>
                <a:cubicBezTo>
                  <a:pt x="1153" y="1048"/>
                  <a:pt x="1202" y="999"/>
                  <a:pt x="1253" y="948"/>
                </a:cubicBezTo>
                <a:close/>
                <a:moveTo>
                  <a:pt x="1851" y="260"/>
                </a:moveTo>
                <a:cubicBezTo>
                  <a:pt x="1847" y="261"/>
                  <a:pt x="1846" y="261"/>
                  <a:pt x="1845" y="261"/>
                </a:cubicBezTo>
                <a:cubicBezTo>
                  <a:pt x="1796" y="310"/>
                  <a:pt x="1746" y="359"/>
                  <a:pt x="1697" y="409"/>
                </a:cubicBezTo>
                <a:cubicBezTo>
                  <a:pt x="1694" y="412"/>
                  <a:pt x="1690" y="419"/>
                  <a:pt x="1691" y="424"/>
                </a:cubicBezTo>
                <a:cubicBezTo>
                  <a:pt x="1695" y="479"/>
                  <a:pt x="1700" y="535"/>
                  <a:pt x="1705" y="591"/>
                </a:cubicBezTo>
                <a:cubicBezTo>
                  <a:pt x="1761" y="596"/>
                  <a:pt x="1815" y="601"/>
                  <a:pt x="1870" y="605"/>
                </a:cubicBezTo>
                <a:cubicBezTo>
                  <a:pt x="1876" y="605"/>
                  <a:pt x="1885" y="601"/>
                  <a:pt x="1890" y="595"/>
                </a:cubicBezTo>
                <a:cubicBezTo>
                  <a:pt x="1937" y="550"/>
                  <a:pt x="1982" y="504"/>
                  <a:pt x="2028" y="458"/>
                </a:cubicBezTo>
                <a:cubicBezTo>
                  <a:pt x="2032" y="455"/>
                  <a:pt x="2034" y="450"/>
                  <a:pt x="2037" y="445"/>
                </a:cubicBezTo>
                <a:cubicBezTo>
                  <a:pt x="2017" y="443"/>
                  <a:pt x="1999" y="442"/>
                  <a:pt x="1981" y="440"/>
                </a:cubicBezTo>
                <a:cubicBezTo>
                  <a:pt x="1963" y="438"/>
                  <a:pt x="1946" y="437"/>
                  <a:pt x="1928" y="436"/>
                </a:cubicBezTo>
                <a:cubicBezTo>
                  <a:pt x="1888" y="432"/>
                  <a:pt x="1864" y="409"/>
                  <a:pt x="1860" y="368"/>
                </a:cubicBezTo>
                <a:cubicBezTo>
                  <a:pt x="1857" y="333"/>
                  <a:pt x="1854" y="297"/>
                  <a:pt x="1851" y="2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98" descr=""/>
          <p:cNvPicPr/>
          <p:nvPr/>
        </p:nvPicPr>
        <p:blipFill>
          <a:blip r:embed="rId1"/>
          <a:stretch/>
        </p:blipFill>
        <p:spPr>
          <a:xfrm>
            <a:off x="4368960" y="4432320"/>
            <a:ext cx="507960" cy="46980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23"/>
          <p:cNvGrpSpPr/>
          <p:nvPr/>
        </p:nvGrpSpPr>
        <p:grpSpPr>
          <a:xfrm>
            <a:off x="966960" y="4156200"/>
            <a:ext cx="1241280" cy="1965240"/>
            <a:chOff x="966960" y="4156200"/>
            <a:chExt cx="1241280" cy="1965240"/>
          </a:xfrm>
        </p:grpSpPr>
        <p:sp>
          <p:nvSpPr>
            <p:cNvPr id="711" name="Graphic 2"/>
            <p:cNvSpPr/>
            <p:nvPr/>
          </p:nvSpPr>
          <p:spPr>
            <a:xfrm>
              <a:off x="1054800" y="5034960"/>
              <a:ext cx="56160" cy="117000"/>
            </a:xfrm>
            <a:custGeom>
              <a:avLst/>
              <a:gdLst/>
              <a:ahLst/>
              <a:rect l="l" t="t" r="r" b="b"/>
              <a:pathLst>
                <a:path w="86560" h="180014">
                  <a:moveTo>
                    <a:pt x="2983" y="9788"/>
                  </a:moveTo>
                  <a:cubicBezTo>
                    <a:pt x="2983" y="9788"/>
                    <a:pt x="-6152" y="109621"/>
                    <a:pt x="7550" y="143551"/>
                  </a:cubicBezTo>
                  <a:cubicBezTo>
                    <a:pt x="21253" y="176829"/>
                    <a:pt x="63013" y="196404"/>
                    <a:pt x="81936" y="161821"/>
                  </a:cubicBezTo>
                  <a:cubicBezTo>
                    <a:pt x="100206" y="127239"/>
                    <a:pt x="58446" y="0"/>
                    <a:pt x="58446" y="0"/>
                  </a:cubicBezTo>
                  <a:lnTo>
                    <a:pt x="2983" y="9788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Graphic 2"/>
            <p:cNvSpPr/>
            <p:nvPr/>
          </p:nvSpPr>
          <p:spPr>
            <a:xfrm>
              <a:off x="2103120" y="4766760"/>
              <a:ext cx="105120" cy="90720"/>
            </a:xfrm>
            <a:custGeom>
              <a:avLst/>
              <a:gdLst/>
              <a:ahLst/>
              <a:rect l="l" t="t" r="r" b="b"/>
              <a:pathLst>
                <a:path w="161384" h="139358">
                  <a:moveTo>
                    <a:pt x="0" y="70182"/>
                  </a:moveTo>
                  <a:cubicBezTo>
                    <a:pt x="0" y="70182"/>
                    <a:pt x="76343" y="14719"/>
                    <a:pt x="112231" y="3626"/>
                  </a:cubicBezTo>
                  <a:cubicBezTo>
                    <a:pt x="192489" y="-22474"/>
                    <a:pt x="160516" y="100197"/>
                    <a:pt x="114841" y="120425"/>
                  </a:cubicBezTo>
                  <a:cubicBezTo>
                    <a:pt x="97223" y="128255"/>
                    <a:pt x="11093" y="142610"/>
                    <a:pt x="13050" y="138695"/>
                  </a:cubicBezTo>
                  <a:cubicBezTo>
                    <a:pt x="14355" y="134780"/>
                    <a:pt x="0" y="70182"/>
                    <a:pt x="0" y="70182"/>
                  </a:cubicBez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Graphic 2"/>
            <p:cNvSpPr/>
            <p:nvPr/>
          </p:nvSpPr>
          <p:spPr>
            <a:xfrm>
              <a:off x="970920" y="5181840"/>
              <a:ext cx="523800" cy="865440"/>
            </a:xfrm>
            <a:custGeom>
              <a:avLst/>
              <a:gdLst/>
              <a:ahLst/>
              <a:rect l="l" t="t" r="r" b="b"/>
              <a:pathLst>
                <a:path w="803886" h="1328501">
                  <a:moveTo>
                    <a:pt x="723629" y="0"/>
                  </a:moveTo>
                  <a:lnTo>
                    <a:pt x="448924" y="120713"/>
                  </a:lnTo>
                  <a:cubicBezTo>
                    <a:pt x="448924" y="120713"/>
                    <a:pt x="403248" y="691656"/>
                    <a:pt x="382368" y="742551"/>
                  </a:cubicBezTo>
                  <a:cubicBezTo>
                    <a:pt x="327558" y="875010"/>
                    <a:pt x="0" y="1323281"/>
                    <a:pt x="0" y="1323281"/>
                  </a:cubicBezTo>
                  <a:lnTo>
                    <a:pt x="41108" y="1328501"/>
                  </a:lnTo>
                  <a:cubicBezTo>
                    <a:pt x="41108" y="1328501"/>
                    <a:pt x="508954" y="909593"/>
                    <a:pt x="553977" y="829335"/>
                  </a:cubicBezTo>
                  <a:cubicBezTo>
                    <a:pt x="656421" y="646633"/>
                    <a:pt x="803887" y="28058"/>
                    <a:pt x="803887" y="28058"/>
                  </a:cubicBezTo>
                  <a:lnTo>
                    <a:pt x="723629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Graphic 2"/>
            <p:cNvSpPr/>
            <p:nvPr/>
          </p:nvSpPr>
          <p:spPr>
            <a:xfrm>
              <a:off x="1409400" y="5209560"/>
              <a:ext cx="430920" cy="590760"/>
            </a:xfrm>
            <a:custGeom>
              <a:avLst/>
              <a:gdLst/>
              <a:ahLst/>
              <a:rect l="l" t="t" r="r" b="b"/>
              <a:pathLst>
                <a:path w="661379" h="906982">
                  <a:moveTo>
                    <a:pt x="219242" y="0"/>
                  </a:moveTo>
                  <a:lnTo>
                    <a:pt x="582687" y="61988"/>
                  </a:lnTo>
                  <a:cubicBezTo>
                    <a:pt x="582687" y="61988"/>
                    <a:pt x="689046" y="93961"/>
                    <a:pt x="654463" y="227725"/>
                  </a:cubicBezTo>
                  <a:cubicBezTo>
                    <a:pt x="624448" y="343218"/>
                    <a:pt x="499819" y="828030"/>
                    <a:pt x="499819" y="828030"/>
                  </a:cubicBezTo>
                  <a:lnTo>
                    <a:pt x="456754" y="906983"/>
                  </a:lnTo>
                  <a:lnTo>
                    <a:pt x="508954" y="314508"/>
                  </a:lnTo>
                  <a:cubicBezTo>
                    <a:pt x="508954" y="314508"/>
                    <a:pt x="516132" y="272747"/>
                    <a:pt x="476982" y="262307"/>
                  </a:cubicBezTo>
                  <a:cubicBezTo>
                    <a:pt x="412384" y="245995"/>
                    <a:pt x="7178" y="222504"/>
                    <a:pt x="7178" y="222504"/>
                  </a:cubicBezTo>
                  <a:lnTo>
                    <a:pt x="0" y="7178"/>
                  </a:lnTo>
                  <a:lnTo>
                    <a:pt x="219242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Graphic 2"/>
            <p:cNvSpPr/>
            <p:nvPr/>
          </p:nvSpPr>
          <p:spPr>
            <a:xfrm>
              <a:off x="1468080" y="4442040"/>
              <a:ext cx="156600" cy="166320"/>
            </a:xfrm>
            <a:custGeom>
              <a:avLst/>
              <a:gdLst/>
              <a:ahLst/>
              <a:rect l="l" t="t" r="r" b="b"/>
              <a:pathLst>
                <a:path w="240774" h="255782">
                  <a:moveTo>
                    <a:pt x="227724" y="5873"/>
                  </a:moveTo>
                  <a:cubicBezTo>
                    <a:pt x="227724" y="5873"/>
                    <a:pt x="229682" y="133764"/>
                    <a:pt x="240775" y="255782"/>
                  </a:cubicBezTo>
                  <a:lnTo>
                    <a:pt x="0" y="248605"/>
                  </a:lnTo>
                  <a:cubicBezTo>
                    <a:pt x="0" y="248605"/>
                    <a:pt x="28710" y="138331"/>
                    <a:pt x="99181" y="0"/>
                  </a:cubicBezTo>
                  <a:lnTo>
                    <a:pt x="227724" y="5873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Graphic 2"/>
            <p:cNvSpPr/>
            <p:nvPr/>
          </p:nvSpPr>
          <p:spPr>
            <a:xfrm>
              <a:off x="1386720" y="4578120"/>
              <a:ext cx="266400" cy="258840"/>
            </a:xfrm>
            <a:custGeom>
              <a:avLst/>
              <a:gdLst/>
              <a:ahLst/>
              <a:rect l="l" t="t" r="r" b="b"/>
              <a:pathLst>
                <a:path w="409120" h="397375">
                  <a:moveTo>
                    <a:pt x="136374" y="0"/>
                  </a:moveTo>
                  <a:cubicBezTo>
                    <a:pt x="136374" y="0"/>
                    <a:pt x="235554" y="28710"/>
                    <a:pt x="359530" y="652"/>
                  </a:cubicBezTo>
                  <a:lnTo>
                    <a:pt x="409121" y="78953"/>
                  </a:lnTo>
                  <a:lnTo>
                    <a:pt x="209454" y="397376"/>
                  </a:lnTo>
                  <a:cubicBezTo>
                    <a:pt x="209454" y="397376"/>
                    <a:pt x="31320" y="344523"/>
                    <a:pt x="21533" y="337998"/>
                  </a:cubicBezTo>
                  <a:cubicBezTo>
                    <a:pt x="11745" y="331473"/>
                    <a:pt x="0" y="58073"/>
                    <a:pt x="0" y="58073"/>
                  </a:cubicBezTo>
                  <a:lnTo>
                    <a:pt x="1363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Graphic 2"/>
            <p:cNvSpPr/>
            <p:nvPr/>
          </p:nvSpPr>
          <p:spPr>
            <a:xfrm>
              <a:off x="1455840" y="4224600"/>
              <a:ext cx="213840" cy="252360"/>
            </a:xfrm>
            <a:custGeom>
              <a:avLst/>
              <a:gdLst/>
              <a:ahLst/>
              <a:rect l="l" t="t" r="r" b="b"/>
              <a:pathLst>
                <a:path w="328646" h="387917">
                  <a:moveTo>
                    <a:pt x="272095" y="0"/>
                  </a:moveTo>
                  <a:cubicBezTo>
                    <a:pt x="272095" y="0"/>
                    <a:pt x="315813" y="140289"/>
                    <a:pt x="324295" y="218589"/>
                  </a:cubicBezTo>
                  <a:cubicBezTo>
                    <a:pt x="332778" y="296890"/>
                    <a:pt x="340608" y="368666"/>
                    <a:pt x="226419" y="386283"/>
                  </a:cubicBezTo>
                  <a:cubicBezTo>
                    <a:pt x="137026" y="399986"/>
                    <a:pt x="82216" y="322990"/>
                    <a:pt x="82216" y="322990"/>
                  </a:cubicBezTo>
                  <a:lnTo>
                    <a:pt x="0" y="137679"/>
                  </a:lnTo>
                  <a:lnTo>
                    <a:pt x="45675" y="35888"/>
                  </a:lnTo>
                  <a:lnTo>
                    <a:pt x="272095" y="0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Graphic 2"/>
            <p:cNvSpPr/>
            <p:nvPr/>
          </p:nvSpPr>
          <p:spPr>
            <a:xfrm>
              <a:off x="1010160" y="4570560"/>
              <a:ext cx="1119960" cy="703080"/>
            </a:xfrm>
            <a:custGeom>
              <a:avLst/>
              <a:gdLst/>
              <a:ahLst/>
              <a:rect l="l" t="t" r="r" b="b"/>
              <a:pathLst>
                <a:path w="1719158" h="1079576">
                  <a:moveTo>
                    <a:pt x="936805" y="12078"/>
                  </a:moveTo>
                  <a:cubicBezTo>
                    <a:pt x="936805" y="12078"/>
                    <a:pt x="1119506" y="-37513"/>
                    <a:pt x="1169096" y="64278"/>
                  </a:cubicBezTo>
                  <a:cubicBezTo>
                    <a:pt x="1240872" y="211744"/>
                    <a:pt x="1299598" y="414674"/>
                    <a:pt x="1306123" y="421851"/>
                  </a:cubicBezTo>
                  <a:cubicBezTo>
                    <a:pt x="1325045" y="443384"/>
                    <a:pt x="1681966" y="347466"/>
                    <a:pt x="1681966" y="347466"/>
                  </a:cubicBezTo>
                  <a:lnTo>
                    <a:pt x="1719159" y="463612"/>
                  </a:lnTo>
                  <a:cubicBezTo>
                    <a:pt x="1719159" y="463612"/>
                    <a:pt x="1254575" y="666541"/>
                    <a:pt x="1219992" y="633916"/>
                  </a:cubicBezTo>
                  <a:cubicBezTo>
                    <a:pt x="1188672" y="605205"/>
                    <a:pt x="1049688" y="317450"/>
                    <a:pt x="1049688" y="317450"/>
                  </a:cubicBezTo>
                  <a:cubicBezTo>
                    <a:pt x="1049688" y="317450"/>
                    <a:pt x="899612" y="802915"/>
                    <a:pt x="871554" y="979091"/>
                  </a:cubicBezTo>
                  <a:cubicBezTo>
                    <a:pt x="871554" y="979091"/>
                    <a:pt x="767153" y="1014326"/>
                    <a:pt x="742358" y="1018894"/>
                  </a:cubicBezTo>
                  <a:cubicBezTo>
                    <a:pt x="696030" y="1027376"/>
                    <a:pt x="688200" y="981701"/>
                    <a:pt x="688200" y="981701"/>
                  </a:cubicBezTo>
                  <a:cubicBezTo>
                    <a:pt x="688200" y="981701"/>
                    <a:pt x="662100" y="1039774"/>
                    <a:pt x="596849" y="1050214"/>
                  </a:cubicBezTo>
                  <a:cubicBezTo>
                    <a:pt x="511371" y="1063264"/>
                    <a:pt x="354770" y="1079577"/>
                    <a:pt x="354770" y="1079577"/>
                  </a:cubicBezTo>
                  <a:lnTo>
                    <a:pt x="467001" y="323975"/>
                  </a:lnTo>
                  <a:cubicBezTo>
                    <a:pt x="467001" y="323975"/>
                    <a:pt x="194906" y="315493"/>
                    <a:pt x="163585" y="367041"/>
                  </a:cubicBezTo>
                  <a:cubicBezTo>
                    <a:pt x="123783" y="431639"/>
                    <a:pt x="144010" y="731139"/>
                    <a:pt x="144010" y="731139"/>
                  </a:cubicBezTo>
                  <a:lnTo>
                    <a:pt x="59837" y="744189"/>
                  </a:lnTo>
                  <a:cubicBezTo>
                    <a:pt x="59837" y="744189"/>
                    <a:pt x="-24336" y="333763"/>
                    <a:pt x="6984" y="280910"/>
                  </a:cubicBezTo>
                  <a:cubicBezTo>
                    <a:pt x="40914" y="224142"/>
                    <a:pt x="388047" y="27085"/>
                    <a:pt x="513328" y="12078"/>
                  </a:cubicBezTo>
                  <a:cubicBezTo>
                    <a:pt x="572706" y="4900"/>
                    <a:pt x="712995" y="6858"/>
                    <a:pt x="712995" y="6858"/>
                  </a:cubicBezTo>
                  <a:lnTo>
                    <a:pt x="812828" y="236540"/>
                  </a:lnTo>
                  <a:lnTo>
                    <a:pt x="936805" y="12078"/>
                  </a:lnTo>
                  <a:close/>
                </a:path>
              </a:pathLst>
            </a:custGeom>
            <a:solidFill>
              <a:srgbClr val="42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Graphic 2"/>
            <p:cNvSpPr/>
            <p:nvPr/>
          </p:nvSpPr>
          <p:spPr>
            <a:xfrm>
              <a:off x="1404360" y="4156200"/>
              <a:ext cx="287640" cy="277920"/>
            </a:xfrm>
            <a:custGeom>
              <a:avLst/>
              <a:gdLst/>
              <a:ahLst/>
              <a:rect l="l" t="t" r="r" b="b"/>
              <a:pathLst>
                <a:path w="441888" h="426738">
                  <a:moveTo>
                    <a:pt x="123681" y="309940"/>
                  </a:moveTo>
                  <a:cubicBezTo>
                    <a:pt x="129554" y="312550"/>
                    <a:pt x="141299" y="327558"/>
                    <a:pt x="155654" y="321033"/>
                  </a:cubicBezTo>
                  <a:cubicBezTo>
                    <a:pt x="170662" y="314508"/>
                    <a:pt x="147172" y="227072"/>
                    <a:pt x="164789" y="200972"/>
                  </a:cubicBezTo>
                  <a:cubicBezTo>
                    <a:pt x="182407" y="174872"/>
                    <a:pt x="237217" y="172261"/>
                    <a:pt x="328568" y="151381"/>
                  </a:cubicBezTo>
                  <a:cubicBezTo>
                    <a:pt x="423181" y="130501"/>
                    <a:pt x="462984" y="67861"/>
                    <a:pt x="431011" y="31973"/>
                  </a:cubicBezTo>
                  <a:cubicBezTo>
                    <a:pt x="396429" y="-7178"/>
                    <a:pt x="301815" y="31973"/>
                    <a:pt x="267885" y="78301"/>
                  </a:cubicBezTo>
                  <a:cubicBezTo>
                    <a:pt x="267885" y="78301"/>
                    <a:pt x="307035" y="0"/>
                    <a:pt x="256792" y="0"/>
                  </a:cubicBezTo>
                  <a:cubicBezTo>
                    <a:pt x="223515" y="0"/>
                    <a:pt x="187627" y="19575"/>
                    <a:pt x="169357" y="101791"/>
                  </a:cubicBezTo>
                  <a:cubicBezTo>
                    <a:pt x="169357" y="101791"/>
                    <a:pt x="158917" y="54158"/>
                    <a:pt x="127596" y="56115"/>
                  </a:cubicBezTo>
                  <a:cubicBezTo>
                    <a:pt x="95624" y="58073"/>
                    <a:pt x="55168" y="106358"/>
                    <a:pt x="76701" y="209454"/>
                  </a:cubicBezTo>
                  <a:cubicBezTo>
                    <a:pt x="76701" y="209454"/>
                    <a:pt x="28416" y="211412"/>
                    <a:pt x="6883" y="262307"/>
                  </a:cubicBezTo>
                  <a:cubicBezTo>
                    <a:pt x="-12692" y="308635"/>
                    <a:pt x="1010" y="402596"/>
                    <a:pt x="161527" y="426739"/>
                  </a:cubicBezTo>
                  <a:lnTo>
                    <a:pt x="121071" y="347133"/>
                  </a:lnTo>
                  <a:cubicBezTo>
                    <a:pt x="121071" y="347133"/>
                    <a:pt x="104759" y="302110"/>
                    <a:pt x="123681" y="309940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Graphic 2"/>
            <p:cNvSpPr/>
            <p:nvPr/>
          </p:nvSpPr>
          <p:spPr>
            <a:xfrm>
              <a:off x="1703520" y="5737320"/>
              <a:ext cx="84600" cy="80280"/>
            </a:xfrm>
            <a:custGeom>
              <a:avLst/>
              <a:gdLst/>
              <a:ahLst/>
              <a:rect l="l" t="t" r="r" b="b"/>
              <a:pathLst>
                <a:path w="129860" h="123546">
                  <a:moveTo>
                    <a:pt x="12" y="123547"/>
                  </a:moveTo>
                  <a:cubicBezTo>
                    <a:pt x="12" y="123547"/>
                    <a:pt x="-3903" y="-63070"/>
                    <a:pt x="129861" y="22409"/>
                  </a:cubicBezTo>
                  <a:lnTo>
                    <a:pt x="12" y="123547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Graphic 2"/>
            <p:cNvSpPr/>
            <p:nvPr/>
          </p:nvSpPr>
          <p:spPr>
            <a:xfrm>
              <a:off x="1461240" y="4357080"/>
              <a:ext cx="47880" cy="66240"/>
            </a:xfrm>
            <a:custGeom>
              <a:avLst/>
              <a:gdLst/>
              <a:ahLst/>
              <a:rect l="l" t="t" r="r" b="b"/>
              <a:pathLst>
                <a:path w="73905" h="102106">
                  <a:moveTo>
                    <a:pt x="35408" y="1341"/>
                  </a:moveTo>
                  <a:cubicBezTo>
                    <a:pt x="35408" y="1341"/>
                    <a:pt x="17138" y="-6489"/>
                    <a:pt x="3435" y="15696"/>
                  </a:cubicBezTo>
                  <a:cubicBezTo>
                    <a:pt x="-10267" y="37881"/>
                    <a:pt x="17790" y="107047"/>
                    <a:pt x="73906" y="101827"/>
                  </a:cubicBezTo>
                  <a:lnTo>
                    <a:pt x="35408" y="1341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Graphic 2"/>
            <p:cNvSpPr/>
            <p:nvPr/>
          </p:nvSpPr>
          <p:spPr>
            <a:xfrm>
              <a:off x="966960" y="6041520"/>
              <a:ext cx="85320" cy="79920"/>
            </a:xfrm>
            <a:custGeom>
              <a:avLst/>
              <a:gdLst/>
              <a:ahLst/>
              <a:rect l="l" t="t" r="r" b="b"/>
              <a:pathLst>
                <a:path w="131335" h="123086">
                  <a:moveTo>
                    <a:pt x="0" y="1068"/>
                  </a:moveTo>
                  <a:cubicBezTo>
                    <a:pt x="0" y="1068"/>
                    <a:pt x="187922" y="-19812"/>
                    <a:pt x="114188" y="123086"/>
                  </a:cubicBezTo>
                  <a:lnTo>
                    <a:pt x="0" y="1068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Graphic 2"/>
            <p:cNvSpPr/>
            <p:nvPr/>
          </p:nvSpPr>
          <p:spPr>
            <a:xfrm>
              <a:off x="1458360" y="4754160"/>
              <a:ext cx="76320" cy="456480"/>
            </a:xfrm>
            <a:custGeom>
              <a:avLst/>
              <a:gdLst/>
              <a:ahLst/>
              <a:rect l="l" t="t" r="r" b="b"/>
              <a:pathLst>
                <a:path w="117450" h="700791">
                  <a:moveTo>
                    <a:pt x="0" y="700791"/>
                  </a:moveTo>
                  <a:lnTo>
                    <a:pt x="117451" y="0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Graphic 2"/>
            <p:cNvSpPr/>
            <p:nvPr/>
          </p:nvSpPr>
          <p:spPr>
            <a:xfrm>
              <a:off x="1407240" y="4580280"/>
              <a:ext cx="280080" cy="173520"/>
            </a:xfrm>
            <a:custGeom>
              <a:avLst/>
              <a:gdLst/>
              <a:ahLst/>
              <a:rect l="l" t="t" r="r" b="b"/>
              <a:pathLst>
                <a:path w="430001" h="266874">
                  <a:moveTo>
                    <a:pt x="430001" y="0"/>
                  </a:moveTo>
                  <a:lnTo>
                    <a:pt x="355616" y="102443"/>
                  </a:lnTo>
                  <a:lnTo>
                    <a:pt x="301458" y="107011"/>
                  </a:lnTo>
                  <a:lnTo>
                    <a:pt x="344523" y="126586"/>
                  </a:lnTo>
                  <a:lnTo>
                    <a:pt x="194447" y="266875"/>
                  </a:lnTo>
                  <a:lnTo>
                    <a:pt x="75038" y="131154"/>
                  </a:lnTo>
                  <a:lnTo>
                    <a:pt x="112231" y="104401"/>
                  </a:lnTo>
                  <a:lnTo>
                    <a:pt x="54158" y="95266"/>
                  </a:lnTo>
                  <a:lnTo>
                    <a:pt x="0" y="1305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Steps in the HR Forecast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7"/>
          <p:cNvSpPr/>
          <p:nvPr/>
        </p:nvSpPr>
        <p:spPr>
          <a:xfrm>
            <a:off x="2670120" y="3589200"/>
            <a:ext cx="3886200" cy="2414880"/>
          </a:xfrm>
          <a:custGeom>
            <a:avLst/>
            <a:gdLst/>
            <a:ahLst/>
            <a:rect l="l" t="t" r="r" b="b"/>
            <a:pathLst>
              <a:path w="7481" h="10000">
                <a:moveTo>
                  <a:pt x="7481" y="0"/>
                </a:moveTo>
                <a:lnTo>
                  <a:pt x="4971" y="0"/>
                </a:lnTo>
                <a:lnTo>
                  <a:pt x="4971" y="2052"/>
                </a:lnTo>
                <a:lnTo>
                  <a:pt x="2460" y="2052"/>
                </a:lnTo>
                <a:lnTo>
                  <a:pt x="2460" y="4085"/>
                </a:lnTo>
                <a:lnTo>
                  <a:pt x="0" y="4085"/>
                </a:lnTo>
                <a:lnTo>
                  <a:pt x="0" y="6172"/>
                </a:lnTo>
                <a:lnTo>
                  <a:pt x="0" y="10000"/>
                </a:lnTo>
                <a:lnTo>
                  <a:pt x="1188" y="10000"/>
                </a:lnTo>
                <a:lnTo>
                  <a:pt x="2460" y="10000"/>
                </a:lnTo>
                <a:lnTo>
                  <a:pt x="3708" y="10000"/>
                </a:lnTo>
                <a:lnTo>
                  <a:pt x="6167" y="10000"/>
                </a:lnTo>
                <a:lnTo>
                  <a:pt x="6167" y="9980"/>
                </a:lnTo>
                <a:lnTo>
                  <a:pt x="7481" y="9980"/>
                </a:lnTo>
                <a:lnTo>
                  <a:pt x="7481" y="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24"/>
          <p:cNvSpPr/>
          <p:nvPr/>
        </p:nvSpPr>
        <p:spPr>
          <a:xfrm>
            <a:off x="2624040" y="4702320"/>
            <a:ext cx="110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cast de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41"/>
          <p:cNvSpPr/>
          <p:nvPr/>
        </p:nvSpPr>
        <p:spPr>
          <a:xfrm>
            <a:off x="3965400" y="4332240"/>
            <a:ext cx="131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upp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43"/>
          <p:cNvSpPr/>
          <p:nvPr/>
        </p:nvSpPr>
        <p:spPr>
          <a:xfrm>
            <a:off x="5156280" y="3759120"/>
            <a:ext cx="139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 projections to determine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44"/>
          <p:cNvSpPr/>
          <p:nvPr/>
        </p:nvSpPr>
        <p:spPr>
          <a:xfrm>
            <a:off x="6740640" y="3073320"/>
            <a:ext cx="139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 plans to reconcile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45"/>
          <p:cNvGrpSpPr/>
          <p:nvPr/>
        </p:nvGrpSpPr>
        <p:grpSpPr>
          <a:xfrm>
            <a:off x="5241960" y="1401840"/>
            <a:ext cx="1241280" cy="1965240"/>
            <a:chOff x="5241960" y="1401840"/>
            <a:chExt cx="1241280" cy="1965240"/>
          </a:xfrm>
        </p:grpSpPr>
        <p:sp>
          <p:nvSpPr>
            <p:cNvPr id="732" name="Graphic 2"/>
            <p:cNvSpPr/>
            <p:nvPr/>
          </p:nvSpPr>
          <p:spPr>
            <a:xfrm>
              <a:off x="5329800" y="2280600"/>
              <a:ext cx="56160" cy="117000"/>
            </a:xfrm>
            <a:custGeom>
              <a:avLst/>
              <a:gdLst/>
              <a:ahLst/>
              <a:rect l="l" t="t" r="r" b="b"/>
              <a:pathLst>
                <a:path w="86560" h="180014">
                  <a:moveTo>
                    <a:pt x="2983" y="9788"/>
                  </a:moveTo>
                  <a:cubicBezTo>
                    <a:pt x="2983" y="9788"/>
                    <a:pt x="-6152" y="109621"/>
                    <a:pt x="7550" y="143551"/>
                  </a:cubicBezTo>
                  <a:cubicBezTo>
                    <a:pt x="21253" y="176829"/>
                    <a:pt x="63013" y="196404"/>
                    <a:pt x="81936" y="161821"/>
                  </a:cubicBezTo>
                  <a:cubicBezTo>
                    <a:pt x="100206" y="127239"/>
                    <a:pt x="58446" y="0"/>
                    <a:pt x="58446" y="0"/>
                  </a:cubicBezTo>
                  <a:lnTo>
                    <a:pt x="2983" y="9788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Graphic 2"/>
            <p:cNvSpPr/>
            <p:nvPr/>
          </p:nvSpPr>
          <p:spPr>
            <a:xfrm>
              <a:off x="6378120" y="2012400"/>
              <a:ext cx="105120" cy="90720"/>
            </a:xfrm>
            <a:custGeom>
              <a:avLst/>
              <a:gdLst/>
              <a:ahLst/>
              <a:rect l="l" t="t" r="r" b="b"/>
              <a:pathLst>
                <a:path w="161384" h="139358">
                  <a:moveTo>
                    <a:pt x="0" y="70182"/>
                  </a:moveTo>
                  <a:cubicBezTo>
                    <a:pt x="0" y="70182"/>
                    <a:pt x="76343" y="14719"/>
                    <a:pt x="112231" y="3626"/>
                  </a:cubicBezTo>
                  <a:cubicBezTo>
                    <a:pt x="192489" y="-22474"/>
                    <a:pt x="160516" y="100197"/>
                    <a:pt x="114841" y="120425"/>
                  </a:cubicBezTo>
                  <a:cubicBezTo>
                    <a:pt x="97223" y="128255"/>
                    <a:pt x="11093" y="142610"/>
                    <a:pt x="13050" y="138695"/>
                  </a:cubicBezTo>
                  <a:cubicBezTo>
                    <a:pt x="14355" y="134780"/>
                    <a:pt x="0" y="70182"/>
                    <a:pt x="0" y="70182"/>
                  </a:cubicBez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Graphic 2"/>
            <p:cNvSpPr/>
            <p:nvPr/>
          </p:nvSpPr>
          <p:spPr>
            <a:xfrm>
              <a:off x="5245920" y="2427480"/>
              <a:ext cx="523800" cy="865440"/>
            </a:xfrm>
            <a:custGeom>
              <a:avLst/>
              <a:gdLst/>
              <a:ahLst/>
              <a:rect l="l" t="t" r="r" b="b"/>
              <a:pathLst>
                <a:path w="803886" h="1328501">
                  <a:moveTo>
                    <a:pt x="723629" y="0"/>
                  </a:moveTo>
                  <a:lnTo>
                    <a:pt x="448924" y="120713"/>
                  </a:lnTo>
                  <a:cubicBezTo>
                    <a:pt x="448924" y="120713"/>
                    <a:pt x="403248" y="691656"/>
                    <a:pt x="382368" y="742551"/>
                  </a:cubicBezTo>
                  <a:cubicBezTo>
                    <a:pt x="327558" y="875010"/>
                    <a:pt x="0" y="1323281"/>
                    <a:pt x="0" y="1323281"/>
                  </a:cubicBezTo>
                  <a:lnTo>
                    <a:pt x="41108" y="1328501"/>
                  </a:lnTo>
                  <a:cubicBezTo>
                    <a:pt x="41108" y="1328501"/>
                    <a:pt x="508954" y="909593"/>
                    <a:pt x="553977" y="829335"/>
                  </a:cubicBezTo>
                  <a:cubicBezTo>
                    <a:pt x="656421" y="646633"/>
                    <a:pt x="803887" y="28058"/>
                    <a:pt x="803887" y="28058"/>
                  </a:cubicBezTo>
                  <a:lnTo>
                    <a:pt x="723629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Graphic 2"/>
            <p:cNvSpPr/>
            <p:nvPr/>
          </p:nvSpPr>
          <p:spPr>
            <a:xfrm>
              <a:off x="5684400" y="2455200"/>
              <a:ext cx="430920" cy="590760"/>
            </a:xfrm>
            <a:custGeom>
              <a:avLst/>
              <a:gdLst/>
              <a:ahLst/>
              <a:rect l="l" t="t" r="r" b="b"/>
              <a:pathLst>
                <a:path w="661379" h="906982">
                  <a:moveTo>
                    <a:pt x="219242" y="0"/>
                  </a:moveTo>
                  <a:lnTo>
                    <a:pt x="582687" y="61988"/>
                  </a:lnTo>
                  <a:cubicBezTo>
                    <a:pt x="582687" y="61988"/>
                    <a:pt x="689046" y="93961"/>
                    <a:pt x="654463" y="227725"/>
                  </a:cubicBezTo>
                  <a:cubicBezTo>
                    <a:pt x="624448" y="343218"/>
                    <a:pt x="499819" y="828030"/>
                    <a:pt x="499819" y="828030"/>
                  </a:cubicBezTo>
                  <a:lnTo>
                    <a:pt x="456754" y="906983"/>
                  </a:lnTo>
                  <a:lnTo>
                    <a:pt x="508954" y="314508"/>
                  </a:lnTo>
                  <a:cubicBezTo>
                    <a:pt x="508954" y="314508"/>
                    <a:pt x="516132" y="272747"/>
                    <a:pt x="476982" y="262307"/>
                  </a:cubicBezTo>
                  <a:cubicBezTo>
                    <a:pt x="412384" y="245995"/>
                    <a:pt x="7178" y="222504"/>
                    <a:pt x="7178" y="222504"/>
                  </a:cubicBezTo>
                  <a:lnTo>
                    <a:pt x="0" y="7178"/>
                  </a:lnTo>
                  <a:lnTo>
                    <a:pt x="219242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Graphic 2"/>
            <p:cNvSpPr/>
            <p:nvPr/>
          </p:nvSpPr>
          <p:spPr>
            <a:xfrm>
              <a:off x="5743080" y="1687680"/>
              <a:ext cx="156600" cy="166320"/>
            </a:xfrm>
            <a:custGeom>
              <a:avLst/>
              <a:gdLst/>
              <a:ahLst/>
              <a:rect l="l" t="t" r="r" b="b"/>
              <a:pathLst>
                <a:path w="240774" h="255782">
                  <a:moveTo>
                    <a:pt x="227724" y="5873"/>
                  </a:moveTo>
                  <a:cubicBezTo>
                    <a:pt x="227724" y="5873"/>
                    <a:pt x="229682" y="133764"/>
                    <a:pt x="240775" y="255782"/>
                  </a:cubicBezTo>
                  <a:lnTo>
                    <a:pt x="0" y="248605"/>
                  </a:lnTo>
                  <a:cubicBezTo>
                    <a:pt x="0" y="248605"/>
                    <a:pt x="28710" y="138331"/>
                    <a:pt x="99181" y="0"/>
                  </a:cubicBezTo>
                  <a:lnTo>
                    <a:pt x="227724" y="5873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Graphic 2"/>
            <p:cNvSpPr/>
            <p:nvPr/>
          </p:nvSpPr>
          <p:spPr>
            <a:xfrm>
              <a:off x="5661720" y="1823760"/>
              <a:ext cx="266400" cy="258840"/>
            </a:xfrm>
            <a:custGeom>
              <a:avLst/>
              <a:gdLst/>
              <a:ahLst/>
              <a:rect l="l" t="t" r="r" b="b"/>
              <a:pathLst>
                <a:path w="409120" h="397375">
                  <a:moveTo>
                    <a:pt x="136374" y="0"/>
                  </a:moveTo>
                  <a:cubicBezTo>
                    <a:pt x="136374" y="0"/>
                    <a:pt x="235554" y="28710"/>
                    <a:pt x="359530" y="652"/>
                  </a:cubicBezTo>
                  <a:lnTo>
                    <a:pt x="409121" y="78953"/>
                  </a:lnTo>
                  <a:lnTo>
                    <a:pt x="209454" y="397376"/>
                  </a:lnTo>
                  <a:cubicBezTo>
                    <a:pt x="209454" y="397376"/>
                    <a:pt x="31320" y="344523"/>
                    <a:pt x="21533" y="337998"/>
                  </a:cubicBezTo>
                  <a:cubicBezTo>
                    <a:pt x="11745" y="331473"/>
                    <a:pt x="0" y="58073"/>
                    <a:pt x="0" y="58073"/>
                  </a:cubicBezTo>
                  <a:lnTo>
                    <a:pt x="1363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Graphic 2"/>
            <p:cNvSpPr/>
            <p:nvPr/>
          </p:nvSpPr>
          <p:spPr>
            <a:xfrm>
              <a:off x="5730840" y="1470240"/>
              <a:ext cx="213840" cy="252360"/>
            </a:xfrm>
            <a:custGeom>
              <a:avLst/>
              <a:gdLst/>
              <a:ahLst/>
              <a:rect l="l" t="t" r="r" b="b"/>
              <a:pathLst>
                <a:path w="328646" h="387917">
                  <a:moveTo>
                    <a:pt x="272095" y="0"/>
                  </a:moveTo>
                  <a:cubicBezTo>
                    <a:pt x="272095" y="0"/>
                    <a:pt x="315813" y="140289"/>
                    <a:pt x="324295" y="218589"/>
                  </a:cubicBezTo>
                  <a:cubicBezTo>
                    <a:pt x="332778" y="296890"/>
                    <a:pt x="340608" y="368666"/>
                    <a:pt x="226419" y="386283"/>
                  </a:cubicBezTo>
                  <a:cubicBezTo>
                    <a:pt x="137026" y="399986"/>
                    <a:pt x="82216" y="322990"/>
                    <a:pt x="82216" y="322990"/>
                  </a:cubicBezTo>
                  <a:lnTo>
                    <a:pt x="0" y="137679"/>
                  </a:lnTo>
                  <a:lnTo>
                    <a:pt x="45675" y="35888"/>
                  </a:lnTo>
                  <a:lnTo>
                    <a:pt x="272095" y="0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Graphic 2"/>
            <p:cNvSpPr/>
            <p:nvPr/>
          </p:nvSpPr>
          <p:spPr>
            <a:xfrm>
              <a:off x="5285160" y="1816200"/>
              <a:ext cx="1119960" cy="703080"/>
            </a:xfrm>
            <a:custGeom>
              <a:avLst/>
              <a:gdLst/>
              <a:ahLst/>
              <a:rect l="l" t="t" r="r" b="b"/>
              <a:pathLst>
                <a:path w="1719158" h="1079576">
                  <a:moveTo>
                    <a:pt x="936805" y="12078"/>
                  </a:moveTo>
                  <a:cubicBezTo>
                    <a:pt x="936805" y="12078"/>
                    <a:pt x="1119506" y="-37513"/>
                    <a:pt x="1169096" y="64278"/>
                  </a:cubicBezTo>
                  <a:cubicBezTo>
                    <a:pt x="1240872" y="211744"/>
                    <a:pt x="1299598" y="414674"/>
                    <a:pt x="1306123" y="421851"/>
                  </a:cubicBezTo>
                  <a:cubicBezTo>
                    <a:pt x="1325045" y="443384"/>
                    <a:pt x="1681966" y="347466"/>
                    <a:pt x="1681966" y="347466"/>
                  </a:cubicBezTo>
                  <a:lnTo>
                    <a:pt x="1719159" y="463612"/>
                  </a:lnTo>
                  <a:cubicBezTo>
                    <a:pt x="1719159" y="463612"/>
                    <a:pt x="1254575" y="666541"/>
                    <a:pt x="1219992" y="633916"/>
                  </a:cubicBezTo>
                  <a:cubicBezTo>
                    <a:pt x="1188672" y="605205"/>
                    <a:pt x="1049688" y="317450"/>
                    <a:pt x="1049688" y="317450"/>
                  </a:cubicBezTo>
                  <a:cubicBezTo>
                    <a:pt x="1049688" y="317450"/>
                    <a:pt x="899612" y="802915"/>
                    <a:pt x="871554" y="979091"/>
                  </a:cubicBezTo>
                  <a:cubicBezTo>
                    <a:pt x="871554" y="979091"/>
                    <a:pt x="767153" y="1014326"/>
                    <a:pt x="742358" y="1018894"/>
                  </a:cubicBezTo>
                  <a:cubicBezTo>
                    <a:pt x="696030" y="1027376"/>
                    <a:pt x="688200" y="981701"/>
                    <a:pt x="688200" y="981701"/>
                  </a:cubicBezTo>
                  <a:cubicBezTo>
                    <a:pt x="688200" y="981701"/>
                    <a:pt x="662100" y="1039774"/>
                    <a:pt x="596849" y="1050214"/>
                  </a:cubicBezTo>
                  <a:cubicBezTo>
                    <a:pt x="511371" y="1063264"/>
                    <a:pt x="354770" y="1079577"/>
                    <a:pt x="354770" y="1079577"/>
                  </a:cubicBezTo>
                  <a:lnTo>
                    <a:pt x="467001" y="323975"/>
                  </a:lnTo>
                  <a:cubicBezTo>
                    <a:pt x="467001" y="323975"/>
                    <a:pt x="194906" y="315493"/>
                    <a:pt x="163585" y="367041"/>
                  </a:cubicBezTo>
                  <a:cubicBezTo>
                    <a:pt x="123783" y="431639"/>
                    <a:pt x="144010" y="731139"/>
                    <a:pt x="144010" y="731139"/>
                  </a:cubicBezTo>
                  <a:lnTo>
                    <a:pt x="59837" y="744189"/>
                  </a:lnTo>
                  <a:cubicBezTo>
                    <a:pt x="59837" y="744189"/>
                    <a:pt x="-24336" y="333763"/>
                    <a:pt x="6984" y="280910"/>
                  </a:cubicBezTo>
                  <a:cubicBezTo>
                    <a:pt x="40914" y="224142"/>
                    <a:pt x="388047" y="27085"/>
                    <a:pt x="513328" y="12078"/>
                  </a:cubicBezTo>
                  <a:cubicBezTo>
                    <a:pt x="572706" y="4900"/>
                    <a:pt x="712995" y="6858"/>
                    <a:pt x="712995" y="6858"/>
                  </a:cubicBezTo>
                  <a:lnTo>
                    <a:pt x="812828" y="236540"/>
                  </a:lnTo>
                  <a:lnTo>
                    <a:pt x="936805" y="12078"/>
                  </a:lnTo>
                  <a:close/>
                </a:path>
              </a:pathLst>
            </a:custGeom>
            <a:solidFill>
              <a:srgbClr val="42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Graphic 2"/>
            <p:cNvSpPr/>
            <p:nvPr/>
          </p:nvSpPr>
          <p:spPr>
            <a:xfrm>
              <a:off x="5679360" y="1401840"/>
              <a:ext cx="287640" cy="277920"/>
            </a:xfrm>
            <a:custGeom>
              <a:avLst/>
              <a:gdLst/>
              <a:ahLst/>
              <a:rect l="l" t="t" r="r" b="b"/>
              <a:pathLst>
                <a:path w="441888" h="426738">
                  <a:moveTo>
                    <a:pt x="123681" y="309940"/>
                  </a:moveTo>
                  <a:cubicBezTo>
                    <a:pt x="129554" y="312550"/>
                    <a:pt x="141299" y="327558"/>
                    <a:pt x="155654" y="321033"/>
                  </a:cubicBezTo>
                  <a:cubicBezTo>
                    <a:pt x="170662" y="314508"/>
                    <a:pt x="147172" y="227072"/>
                    <a:pt x="164789" y="200972"/>
                  </a:cubicBezTo>
                  <a:cubicBezTo>
                    <a:pt x="182407" y="174872"/>
                    <a:pt x="237217" y="172261"/>
                    <a:pt x="328568" y="151381"/>
                  </a:cubicBezTo>
                  <a:cubicBezTo>
                    <a:pt x="423181" y="130501"/>
                    <a:pt x="462984" y="67861"/>
                    <a:pt x="431011" y="31973"/>
                  </a:cubicBezTo>
                  <a:cubicBezTo>
                    <a:pt x="396429" y="-7178"/>
                    <a:pt x="301815" y="31973"/>
                    <a:pt x="267885" y="78301"/>
                  </a:cubicBezTo>
                  <a:cubicBezTo>
                    <a:pt x="267885" y="78301"/>
                    <a:pt x="307035" y="0"/>
                    <a:pt x="256792" y="0"/>
                  </a:cubicBezTo>
                  <a:cubicBezTo>
                    <a:pt x="223515" y="0"/>
                    <a:pt x="187627" y="19575"/>
                    <a:pt x="169357" y="101791"/>
                  </a:cubicBezTo>
                  <a:cubicBezTo>
                    <a:pt x="169357" y="101791"/>
                    <a:pt x="158917" y="54158"/>
                    <a:pt x="127596" y="56115"/>
                  </a:cubicBezTo>
                  <a:cubicBezTo>
                    <a:pt x="95624" y="58073"/>
                    <a:pt x="55168" y="106358"/>
                    <a:pt x="76701" y="209454"/>
                  </a:cubicBezTo>
                  <a:cubicBezTo>
                    <a:pt x="76701" y="209454"/>
                    <a:pt x="28416" y="211412"/>
                    <a:pt x="6883" y="262307"/>
                  </a:cubicBezTo>
                  <a:cubicBezTo>
                    <a:pt x="-12692" y="308635"/>
                    <a:pt x="1010" y="402596"/>
                    <a:pt x="161527" y="426739"/>
                  </a:cubicBezTo>
                  <a:lnTo>
                    <a:pt x="121071" y="347133"/>
                  </a:lnTo>
                  <a:cubicBezTo>
                    <a:pt x="121071" y="347133"/>
                    <a:pt x="104759" y="302110"/>
                    <a:pt x="123681" y="309940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Graphic 2"/>
            <p:cNvSpPr/>
            <p:nvPr/>
          </p:nvSpPr>
          <p:spPr>
            <a:xfrm>
              <a:off x="5978520" y="2982960"/>
              <a:ext cx="84600" cy="80280"/>
            </a:xfrm>
            <a:custGeom>
              <a:avLst/>
              <a:gdLst/>
              <a:ahLst/>
              <a:rect l="l" t="t" r="r" b="b"/>
              <a:pathLst>
                <a:path w="129860" h="123546">
                  <a:moveTo>
                    <a:pt x="12" y="123547"/>
                  </a:moveTo>
                  <a:cubicBezTo>
                    <a:pt x="12" y="123547"/>
                    <a:pt x="-3903" y="-63070"/>
                    <a:pt x="129861" y="22409"/>
                  </a:cubicBezTo>
                  <a:lnTo>
                    <a:pt x="12" y="123547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Graphic 2"/>
            <p:cNvSpPr/>
            <p:nvPr/>
          </p:nvSpPr>
          <p:spPr>
            <a:xfrm>
              <a:off x="5736240" y="1602720"/>
              <a:ext cx="47880" cy="66240"/>
            </a:xfrm>
            <a:custGeom>
              <a:avLst/>
              <a:gdLst/>
              <a:ahLst/>
              <a:rect l="l" t="t" r="r" b="b"/>
              <a:pathLst>
                <a:path w="73905" h="102106">
                  <a:moveTo>
                    <a:pt x="35408" y="1341"/>
                  </a:moveTo>
                  <a:cubicBezTo>
                    <a:pt x="35408" y="1341"/>
                    <a:pt x="17138" y="-6489"/>
                    <a:pt x="3435" y="15696"/>
                  </a:cubicBezTo>
                  <a:cubicBezTo>
                    <a:pt x="-10267" y="37881"/>
                    <a:pt x="17790" y="107047"/>
                    <a:pt x="73906" y="101827"/>
                  </a:cubicBezTo>
                  <a:lnTo>
                    <a:pt x="35408" y="1341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Graphic 2"/>
            <p:cNvSpPr/>
            <p:nvPr/>
          </p:nvSpPr>
          <p:spPr>
            <a:xfrm>
              <a:off x="5241960" y="3287160"/>
              <a:ext cx="85320" cy="79920"/>
            </a:xfrm>
            <a:custGeom>
              <a:avLst/>
              <a:gdLst/>
              <a:ahLst/>
              <a:rect l="l" t="t" r="r" b="b"/>
              <a:pathLst>
                <a:path w="131335" h="123086">
                  <a:moveTo>
                    <a:pt x="0" y="1068"/>
                  </a:moveTo>
                  <a:cubicBezTo>
                    <a:pt x="0" y="1068"/>
                    <a:pt x="187922" y="-19812"/>
                    <a:pt x="114188" y="123086"/>
                  </a:cubicBezTo>
                  <a:lnTo>
                    <a:pt x="0" y="1068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Graphic 2"/>
            <p:cNvSpPr/>
            <p:nvPr/>
          </p:nvSpPr>
          <p:spPr>
            <a:xfrm>
              <a:off x="5733360" y="1999800"/>
              <a:ext cx="76320" cy="456480"/>
            </a:xfrm>
            <a:custGeom>
              <a:avLst/>
              <a:gdLst/>
              <a:ahLst/>
              <a:rect l="l" t="t" r="r" b="b"/>
              <a:pathLst>
                <a:path w="117450" h="700791">
                  <a:moveTo>
                    <a:pt x="0" y="700791"/>
                  </a:moveTo>
                  <a:lnTo>
                    <a:pt x="117451" y="0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Graphic 2"/>
            <p:cNvSpPr/>
            <p:nvPr/>
          </p:nvSpPr>
          <p:spPr>
            <a:xfrm>
              <a:off x="5682240" y="1825920"/>
              <a:ext cx="280080" cy="173520"/>
            </a:xfrm>
            <a:custGeom>
              <a:avLst/>
              <a:gdLst/>
              <a:ahLst/>
              <a:rect l="l" t="t" r="r" b="b"/>
              <a:pathLst>
                <a:path w="430001" h="266874">
                  <a:moveTo>
                    <a:pt x="430001" y="0"/>
                  </a:moveTo>
                  <a:lnTo>
                    <a:pt x="355616" y="102443"/>
                  </a:lnTo>
                  <a:lnTo>
                    <a:pt x="301458" y="107011"/>
                  </a:lnTo>
                  <a:lnTo>
                    <a:pt x="344523" y="126586"/>
                  </a:lnTo>
                  <a:lnTo>
                    <a:pt x="194447" y="266875"/>
                  </a:lnTo>
                  <a:lnTo>
                    <a:pt x="75038" y="131154"/>
                  </a:lnTo>
                  <a:lnTo>
                    <a:pt x="112231" y="104401"/>
                  </a:lnTo>
                  <a:lnTo>
                    <a:pt x="54158" y="95266"/>
                  </a:lnTo>
                  <a:lnTo>
                    <a:pt x="0" y="1305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6" name="Group 61"/>
          <p:cNvGrpSpPr/>
          <p:nvPr/>
        </p:nvGrpSpPr>
        <p:grpSpPr>
          <a:xfrm>
            <a:off x="4046400" y="1897200"/>
            <a:ext cx="1241640" cy="1966680"/>
            <a:chOff x="4046400" y="1897200"/>
            <a:chExt cx="1241640" cy="1966680"/>
          </a:xfrm>
        </p:grpSpPr>
        <p:sp>
          <p:nvSpPr>
            <p:cNvPr id="747" name="Graphic 2"/>
            <p:cNvSpPr/>
            <p:nvPr/>
          </p:nvSpPr>
          <p:spPr>
            <a:xfrm>
              <a:off x="4134600" y="2776680"/>
              <a:ext cx="56160" cy="117000"/>
            </a:xfrm>
            <a:custGeom>
              <a:avLst/>
              <a:gdLst/>
              <a:ahLst/>
              <a:rect l="l" t="t" r="r" b="b"/>
              <a:pathLst>
                <a:path w="86560" h="180014">
                  <a:moveTo>
                    <a:pt x="2983" y="9788"/>
                  </a:moveTo>
                  <a:cubicBezTo>
                    <a:pt x="2983" y="9788"/>
                    <a:pt x="-6152" y="109621"/>
                    <a:pt x="7550" y="143551"/>
                  </a:cubicBezTo>
                  <a:cubicBezTo>
                    <a:pt x="21253" y="176829"/>
                    <a:pt x="63013" y="196404"/>
                    <a:pt x="81936" y="161821"/>
                  </a:cubicBezTo>
                  <a:cubicBezTo>
                    <a:pt x="100206" y="127239"/>
                    <a:pt x="58446" y="0"/>
                    <a:pt x="58446" y="0"/>
                  </a:cubicBezTo>
                  <a:lnTo>
                    <a:pt x="2983" y="9788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Graphic 2"/>
            <p:cNvSpPr/>
            <p:nvPr/>
          </p:nvSpPr>
          <p:spPr>
            <a:xfrm>
              <a:off x="5182920" y="2508120"/>
              <a:ext cx="105120" cy="90720"/>
            </a:xfrm>
            <a:custGeom>
              <a:avLst/>
              <a:gdLst/>
              <a:ahLst/>
              <a:rect l="l" t="t" r="r" b="b"/>
              <a:pathLst>
                <a:path w="161384" h="139358">
                  <a:moveTo>
                    <a:pt x="0" y="70182"/>
                  </a:moveTo>
                  <a:cubicBezTo>
                    <a:pt x="0" y="70182"/>
                    <a:pt x="76343" y="14719"/>
                    <a:pt x="112231" y="3626"/>
                  </a:cubicBezTo>
                  <a:cubicBezTo>
                    <a:pt x="192489" y="-22474"/>
                    <a:pt x="160516" y="100197"/>
                    <a:pt x="114841" y="120425"/>
                  </a:cubicBezTo>
                  <a:cubicBezTo>
                    <a:pt x="97223" y="128255"/>
                    <a:pt x="11093" y="142610"/>
                    <a:pt x="13050" y="138695"/>
                  </a:cubicBezTo>
                  <a:cubicBezTo>
                    <a:pt x="14355" y="134780"/>
                    <a:pt x="0" y="70182"/>
                    <a:pt x="0" y="70182"/>
                  </a:cubicBez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Graphic 2"/>
            <p:cNvSpPr/>
            <p:nvPr/>
          </p:nvSpPr>
          <p:spPr>
            <a:xfrm>
              <a:off x="4050360" y="2923560"/>
              <a:ext cx="523800" cy="865800"/>
            </a:xfrm>
            <a:custGeom>
              <a:avLst/>
              <a:gdLst/>
              <a:ahLst/>
              <a:rect l="l" t="t" r="r" b="b"/>
              <a:pathLst>
                <a:path w="803886" h="1328501">
                  <a:moveTo>
                    <a:pt x="723629" y="0"/>
                  </a:moveTo>
                  <a:lnTo>
                    <a:pt x="448924" y="120713"/>
                  </a:lnTo>
                  <a:cubicBezTo>
                    <a:pt x="448924" y="120713"/>
                    <a:pt x="403248" y="691656"/>
                    <a:pt x="382368" y="742551"/>
                  </a:cubicBezTo>
                  <a:cubicBezTo>
                    <a:pt x="327558" y="875010"/>
                    <a:pt x="0" y="1323281"/>
                    <a:pt x="0" y="1323281"/>
                  </a:cubicBezTo>
                  <a:lnTo>
                    <a:pt x="41108" y="1328501"/>
                  </a:lnTo>
                  <a:cubicBezTo>
                    <a:pt x="41108" y="1328501"/>
                    <a:pt x="508954" y="909593"/>
                    <a:pt x="553977" y="829335"/>
                  </a:cubicBezTo>
                  <a:cubicBezTo>
                    <a:pt x="656421" y="646633"/>
                    <a:pt x="803887" y="28058"/>
                    <a:pt x="803887" y="28058"/>
                  </a:cubicBezTo>
                  <a:lnTo>
                    <a:pt x="723629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Graphic 2"/>
            <p:cNvSpPr/>
            <p:nvPr/>
          </p:nvSpPr>
          <p:spPr>
            <a:xfrm>
              <a:off x="4488840" y="2951280"/>
              <a:ext cx="430920" cy="591120"/>
            </a:xfrm>
            <a:custGeom>
              <a:avLst/>
              <a:gdLst/>
              <a:ahLst/>
              <a:rect l="l" t="t" r="r" b="b"/>
              <a:pathLst>
                <a:path w="661379" h="906982">
                  <a:moveTo>
                    <a:pt x="219242" y="0"/>
                  </a:moveTo>
                  <a:lnTo>
                    <a:pt x="582687" y="61988"/>
                  </a:lnTo>
                  <a:cubicBezTo>
                    <a:pt x="582687" y="61988"/>
                    <a:pt x="689046" y="93961"/>
                    <a:pt x="654463" y="227725"/>
                  </a:cubicBezTo>
                  <a:cubicBezTo>
                    <a:pt x="624448" y="343218"/>
                    <a:pt x="499819" y="828030"/>
                    <a:pt x="499819" y="828030"/>
                  </a:cubicBezTo>
                  <a:lnTo>
                    <a:pt x="456754" y="906983"/>
                  </a:lnTo>
                  <a:lnTo>
                    <a:pt x="508954" y="314508"/>
                  </a:lnTo>
                  <a:cubicBezTo>
                    <a:pt x="508954" y="314508"/>
                    <a:pt x="516132" y="272747"/>
                    <a:pt x="476982" y="262307"/>
                  </a:cubicBezTo>
                  <a:cubicBezTo>
                    <a:pt x="412384" y="245995"/>
                    <a:pt x="7178" y="222504"/>
                    <a:pt x="7178" y="222504"/>
                  </a:cubicBezTo>
                  <a:lnTo>
                    <a:pt x="0" y="7178"/>
                  </a:lnTo>
                  <a:lnTo>
                    <a:pt x="219242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Graphic 2"/>
            <p:cNvSpPr/>
            <p:nvPr/>
          </p:nvSpPr>
          <p:spPr>
            <a:xfrm>
              <a:off x="4547520" y="2183400"/>
              <a:ext cx="156600" cy="166680"/>
            </a:xfrm>
            <a:custGeom>
              <a:avLst/>
              <a:gdLst/>
              <a:ahLst/>
              <a:rect l="l" t="t" r="r" b="b"/>
              <a:pathLst>
                <a:path w="240774" h="255782">
                  <a:moveTo>
                    <a:pt x="227724" y="5873"/>
                  </a:moveTo>
                  <a:cubicBezTo>
                    <a:pt x="227724" y="5873"/>
                    <a:pt x="229682" y="133764"/>
                    <a:pt x="240775" y="255782"/>
                  </a:cubicBezTo>
                  <a:lnTo>
                    <a:pt x="0" y="248605"/>
                  </a:lnTo>
                  <a:cubicBezTo>
                    <a:pt x="0" y="248605"/>
                    <a:pt x="28710" y="138331"/>
                    <a:pt x="99181" y="0"/>
                  </a:cubicBezTo>
                  <a:lnTo>
                    <a:pt x="227724" y="5873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Graphic 2"/>
            <p:cNvSpPr/>
            <p:nvPr/>
          </p:nvSpPr>
          <p:spPr>
            <a:xfrm>
              <a:off x="4466520" y="2319480"/>
              <a:ext cx="266400" cy="258840"/>
            </a:xfrm>
            <a:custGeom>
              <a:avLst/>
              <a:gdLst/>
              <a:ahLst/>
              <a:rect l="l" t="t" r="r" b="b"/>
              <a:pathLst>
                <a:path w="409120" h="397375">
                  <a:moveTo>
                    <a:pt x="136374" y="0"/>
                  </a:moveTo>
                  <a:cubicBezTo>
                    <a:pt x="136374" y="0"/>
                    <a:pt x="235554" y="28710"/>
                    <a:pt x="359530" y="652"/>
                  </a:cubicBezTo>
                  <a:lnTo>
                    <a:pt x="409121" y="78953"/>
                  </a:lnTo>
                  <a:lnTo>
                    <a:pt x="209454" y="397376"/>
                  </a:lnTo>
                  <a:cubicBezTo>
                    <a:pt x="209454" y="397376"/>
                    <a:pt x="31320" y="344523"/>
                    <a:pt x="21533" y="337998"/>
                  </a:cubicBezTo>
                  <a:cubicBezTo>
                    <a:pt x="11745" y="331473"/>
                    <a:pt x="0" y="58073"/>
                    <a:pt x="0" y="58073"/>
                  </a:cubicBezTo>
                  <a:lnTo>
                    <a:pt x="1363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Graphic 2"/>
            <p:cNvSpPr/>
            <p:nvPr/>
          </p:nvSpPr>
          <p:spPr>
            <a:xfrm>
              <a:off x="4535280" y="1965600"/>
              <a:ext cx="214200" cy="252720"/>
            </a:xfrm>
            <a:custGeom>
              <a:avLst/>
              <a:gdLst/>
              <a:ahLst/>
              <a:rect l="l" t="t" r="r" b="b"/>
              <a:pathLst>
                <a:path w="328646" h="387917">
                  <a:moveTo>
                    <a:pt x="272095" y="0"/>
                  </a:moveTo>
                  <a:cubicBezTo>
                    <a:pt x="272095" y="0"/>
                    <a:pt x="315813" y="140289"/>
                    <a:pt x="324295" y="218589"/>
                  </a:cubicBezTo>
                  <a:cubicBezTo>
                    <a:pt x="332778" y="296890"/>
                    <a:pt x="340608" y="368666"/>
                    <a:pt x="226419" y="386283"/>
                  </a:cubicBezTo>
                  <a:cubicBezTo>
                    <a:pt x="137026" y="399986"/>
                    <a:pt x="82216" y="322990"/>
                    <a:pt x="82216" y="322990"/>
                  </a:cubicBezTo>
                  <a:lnTo>
                    <a:pt x="0" y="137679"/>
                  </a:lnTo>
                  <a:lnTo>
                    <a:pt x="45675" y="35888"/>
                  </a:lnTo>
                  <a:lnTo>
                    <a:pt x="272095" y="0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Graphic 2"/>
            <p:cNvSpPr/>
            <p:nvPr/>
          </p:nvSpPr>
          <p:spPr>
            <a:xfrm>
              <a:off x="4089600" y="2311920"/>
              <a:ext cx="1120320" cy="703800"/>
            </a:xfrm>
            <a:custGeom>
              <a:avLst/>
              <a:gdLst/>
              <a:ahLst/>
              <a:rect l="l" t="t" r="r" b="b"/>
              <a:pathLst>
                <a:path w="1719158" h="1079576">
                  <a:moveTo>
                    <a:pt x="936805" y="12078"/>
                  </a:moveTo>
                  <a:cubicBezTo>
                    <a:pt x="936805" y="12078"/>
                    <a:pt x="1119506" y="-37513"/>
                    <a:pt x="1169096" y="64278"/>
                  </a:cubicBezTo>
                  <a:cubicBezTo>
                    <a:pt x="1240872" y="211744"/>
                    <a:pt x="1299598" y="414674"/>
                    <a:pt x="1306123" y="421851"/>
                  </a:cubicBezTo>
                  <a:cubicBezTo>
                    <a:pt x="1325045" y="443384"/>
                    <a:pt x="1681966" y="347466"/>
                    <a:pt x="1681966" y="347466"/>
                  </a:cubicBezTo>
                  <a:lnTo>
                    <a:pt x="1719159" y="463612"/>
                  </a:lnTo>
                  <a:cubicBezTo>
                    <a:pt x="1719159" y="463612"/>
                    <a:pt x="1254575" y="666541"/>
                    <a:pt x="1219992" y="633916"/>
                  </a:cubicBezTo>
                  <a:cubicBezTo>
                    <a:pt x="1188672" y="605205"/>
                    <a:pt x="1049688" y="317450"/>
                    <a:pt x="1049688" y="317450"/>
                  </a:cubicBezTo>
                  <a:cubicBezTo>
                    <a:pt x="1049688" y="317450"/>
                    <a:pt x="899612" y="802915"/>
                    <a:pt x="871554" y="979091"/>
                  </a:cubicBezTo>
                  <a:cubicBezTo>
                    <a:pt x="871554" y="979091"/>
                    <a:pt x="767153" y="1014326"/>
                    <a:pt x="742358" y="1018894"/>
                  </a:cubicBezTo>
                  <a:cubicBezTo>
                    <a:pt x="696030" y="1027376"/>
                    <a:pt x="688200" y="981701"/>
                    <a:pt x="688200" y="981701"/>
                  </a:cubicBezTo>
                  <a:cubicBezTo>
                    <a:pt x="688200" y="981701"/>
                    <a:pt x="662100" y="1039774"/>
                    <a:pt x="596849" y="1050214"/>
                  </a:cubicBezTo>
                  <a:cubicBezTo>
                    <a:pt x="511371" y="1063264"/>
                    <a:pt x="354770" y="1079577"/>
                    <a:pt x="354770" y="1079577"/>
                  </a:cubicBezTo>
                  <a:lnTo>
                    <a:pt x="467001" y="323975"/>
                  </a:lnTo>
                  <a:cubicBezTo>
                    <a:pt x="467001" y="323975"/>
                    <a:pt x="194906" y="315493"/>
                    <a:pt x="163585" y="367041"/>
                  </a:cubicBezTo>
                  <a:cubicBezTo>
                    <a:pt x="123783" y="431639"/>
                    <a:pt x="144010" y="731139"/>
                    <a:pt x="144010" y="731139"/>
                  </a:cubicBezTo>
                  <a:lnTo>
                    <a:pt x="59837" y="744189"/>
                  </a:lnTo>
                  <a:cubicBezTo>
                    <a:pt x="59837" y="744189"/>
                    <a:pt x="-24336" y="333763"/>
                    <a:pt x="6984" y="280910"/>
                  </a:cubicBezTo>
                  <a:cubicBezTo>
                    <a:pt x="40914" y="224142"/>
                    <a:pt x="388047" y="27085"/>
                    <a:pt x="513328" y="12078"/>
                  </a:cubicBezTo>
                  <a:cubicBezTo>
                    <a:pt x="572706" y="4900"/>
                    <a:pt x="712995" y="6858"/>
                    <a:pt x="712995" y="6858"/>
                  </a:cubicBezTo>
                  <a:lnTo>
                    <a:pt x="812828" y="236540"/>
                  </a:lnTo>
                  <a:lnTo>
                    <a:pt x="936805" y="12078"/>
                  </a:lnTo>
                  <a:close/>
                </a:path>
              </a:pathLst>
            </a:custGeom>
            <a:solidFill>
              <a:srgbClr val="42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Graphic 2"/>
            <p:cNvSpPr/>
            <p:nvPr/>
          </p:nvSpPr>
          <p:spPr>
            <a:xfrm>
              <a:off x="4484160" y="1897200"/>
              <a:ext cx="288000" cy="277920"/>
            </a:xfrm>
            <a:custGeom>
              <a:avLst/>
              <a:gdLst/>
              <a:ahLst/>
              <a:rect l="l" t="t" r="r" b="b"/>
              <a:pathLst>
                <a:path w="441888" h="426738">
                  <a:moveTo>
                    <a:pt x="123681" y="309940"/>
                  </a:moveTo>
                  <a:cubicBezTo>
                    <a:pt x="129554" y="312550"/>
                    <a:pt x="141299" y="327558"/>
                    <a:pt x="155654" y="321033"/>
                  </a:cubicBezTo>
                  <a:cubicBezTo>
                    <a:pt x="170662" y="314508"/>
                    <a:pt x="147172" y="227072"/>
                    <a:pt x="164789" y="200972"/>
                  </a:cubicBezTo>
                  <a:cubicBezTo>
                    <a:pt x="182407" y="174872"/>
                    <a:pt x="237217" y="172261"/>
                    <a:pt x="328568" y="151381"/>
                  </a:cubicBezTo>
                  <a:cubicBezTo>
                    <a:pt x="423181" y="130501"/>
                    <a:pt x="462984" y="67861"/>
                    <a:pt x="431011" y="31973"/>
                  </a:cubicBezTo>
                  <a:cubicBezTo>
                    <a:pt x="396429" y="-7178"/>
                    <a:pt x="301815" y="31973"/>
                    <a:pt x="267885" y="78301"/>
                  </a:cubicBezTo>
                  <a:cubicBezTo>
                    <a:pt x="267885" y="78301"/>
                    <a:pt x="307035" y="0"/>
                    <a:pt x="256792" y="0"/>
                  </a:cubicBezTo>
                  <a:cubicBezTo>
                    <a:pt x="223515" y="0"/>
                    <a:pt x="187627" y="19575"/>
                    <a:pt x="169357" y="101791"/>
                  </a:cubicBezTo>
                  <a:cubicBezTo>
                    <a:pt x="169357" y="101791"/>
                    <a:pt x="158917" y="54158"/>
                    <a:pt x="127596" y="56115"/>
                  </a:cubicBezTo>
                  <a:cubicBezTo>
                    <a:pt x="95624" y="58073"/>
                    <a:pt x="55168" y="106358"/>
                    <a:pt x="76701" y="209454"/>
                  </a:cubicBezTo>
                  <a:cubicBezTo>
                    <a:pt x="76701" y="209454"/>
                    <a:pt x="28416" y="211412"/>
                    <a:pt x="6883" y="262307"/>
                  </a:cubicBezTo>
                  <a:cubicBezTo>
                    <a:pt x="-12692" y="308635"/>
                    <a:pt x="1010" y="402596"/>
                    <a:pt x="161527" y="426739"/>
                  </a:cubicBezTo>
                  <a:lnTo>
                    <a:pt x="121071" y="347133"/>
                  </a:lnTo>
                  <a:cubicBezTo>
                    <a:pt x="121071" y="347133"/>
                    <a:pt x="104759" y="302110"/>
                    <a:pt x="123681" y="309940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Graphic 2"/>
            <p:cNvSpPr/>
            <p:nvPr/>
          </p:nvSpPr>
          <p:spPr>
            <a:xfrm>
              <a:off x="4783320" y="3479400"/>
              <a:ext cx="84600" cy="80280"/>
            </a:xfrm>
            <a:custGeom>
              <a:avLst/>
              <a:gdLst/>
              <a:ahLst/>
              <a:rect l="l" t="t" r="r" b="b"/>
              <a:pathLst>
                <a:path w="129860" h="123546">
                  <a:moveTo>
                    <a:pt x="12" y="123547"/>
                  </a:moveTo>
                  <a:cubicBezTo>
                    <a:pt x="12" y="123547"/>
                    <a:pt x="-3903" y="-63070"/>
                    <a:pt x="129861" y="22409"/>
                  </a:cubicBezTo>
                  <a:lnTo>
                    <a:pt x="12" y="123547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Graphic 2"/>
            <p:cNvSpPr/>
            <p:nvPr/>
          </p:nvSpPr>
          <p:spPr>
            <a:xfrm>
              <a:off x="4540680" y="2098080"/>
              <a:ext cx="47880" cy="66240"/>
            </a:xfrm>
            <a:custGeom>
              <a:avLst/>
              <a:gdLst/>
              <a:ahLst/>
              <a:rect l="l" t="t" r="r" b="b"/>
              <a:pathLst>
                <a:path w="73905" h="102106">
                  <a:moveTo>
                    <a:pt x="35408" y="1341"/>
                  </a:moveTo>
                  <a:cubicBezTo>
                    <a:pt x="35408" y="1341"/>
                    <a:pt x="17138" y="-6489"/>
                    <a:pt x="3435" y="15696"/>
                  </a:cubicBezTo>
                  <a:cubicBezTo>
                    <a:pt x="-10267" y="37881"/>
                    <a:pt x="17790" y="107047"/>
                    <a:pt x="73906" y="101827"/>
                  </a:cubicBezTo>
                  <a:lnTo>
                    <a:pt x="35408" y="1341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Graphic 2"/>
            <p:cNvSpPr/>
            <p:nvPr/>
          </p:nvSpPr>
          <p:spPr>
            <a:xfrm>
              <a:off x="4046400" y="3783960"/>
              <a:ext cx="85320" cy="79920"/>
            </a:xfrm>
            <a:custGeom>
              <a:avLst/>
              <a:gdLst/>
              <a:ahLst/>
              <a:rect l="l" t="t" r="r" b="b"/>
              <a:pathLst>
                <a:path w="131335" h="123086">
                  <a:moveTo>
                    <a:pt x="0" y="1068"/>
                  </a:moveTo>
                  <a:cubicBezTo>
                    <a:pt x="0" y="1068"/>
                    <a:pt x="187922" y="-19812"/>
                    <a:pt x="114188" y="123086"/>
                  </a:cubicBezTo>
                  <a:lnTo>
                    <a:pt x="0" y="1068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Graphic 2"/>
            <p:cNvSpPr/>
            <p:nvPr/>
          </p:nvSpPr>
          <p:spPr>
            <a:xfrm>
              <a:off x="4537800" y="2495520"/>
              <a:ext cx="76320" cy="456840"/>
            </a:xfrm>
            <a:custGeom>
              <a:avLst/>
              <a:gdLst/>
              <a:ahLst/>
              <a:rect l="l" t="t" r="r" b="b"/>
              <a:pathLst>
                <a:path w="117450" h="700791">
                  <a:moveTo>
                    <a:pt x="0" y="700791"/>
                  </a:moveTo>
                  <a:lnTo>
                    <a:pt x="117451" y="0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Graphic 2"/>
            <p:cNvSpPr/>
            <p:nvPr/>
          </p:nvSpPr>
          <p:spPr>
            <a:xfrm>
              <a:off x="4486680" y="2321640"/>
              <a:ext cx="280080" cy="173880"/>
            </a:xfrm>
            <a:custGeom>
              <a:avLst/>
              <a:gdLst/>
              <a:ahLst/>
              <a:rect l="l" t="t" r="r" b="b"/>
              <a:pathLst>
                <a:path w="430001" h="266874">
                  <a:moveTo>
                    <a:pt x="430001" y="0"/>
                  </a:moveTo>
                  <a:lnTo>
                    <a:pt x="355616" y="102443"/>
                  </a:lnTo>
                  <a:lnTo>
                    <a:pt x="301458" y="107011"/>
                  </a:lnTo>
                  <a:lnTo>
                    <a:pt x="344523" y="126586"/>
                  </a:lnTo>
                  <a:lnTo>
                    <a:pt x="194447" y="266875"/>
                  </a:lnTo>
                  <a:lnTo>
                    <a:pt x="75038" y="131154"/>
                  </a:lnTo>
                  <a:lnTo>
                    <a:pt x="112231" y="104401"/>
                  </a:lnTo>
                  <a:lnTo>
                    <a:pt x="54158" y="95266"/>
                  </a:lnTo>
                  <a:lnTo>
                    <a:pt x="0" y="1305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Group 81"/>
          <p:cNvGrpSpPr/>
          <p:nvPr/>
        </p:nvGrpSpPr>
        <p:grpSpPr>
          <a:xfrm>
            <a:off x="2592360" y="2604960"/>
            <a:ext cx="1243080" cy="1965600"/>
            <a:chOff x="2592360" y="2604960"/>
            <a:chExt cx="1243080" cy="1965600"/>
          </a:xfrm>
        </p:grpSpPr>
        <p:sp>
          <p:nvSpPr>
            <p:cNvPr id="762" name="Graphic 2"/>
            <p:cNvSpPr/>
            <p:nvPr/>
          </p:nvSpPr>
          <p:spPr>
            <a:xfrm>
              <a:off x="2680560" y="3484080"/>
              <a:ext cx="56160" cy="117000"/>
            </a:xfrm>
            <a:custGeom>
              <a:avLst/>
              <a:gdLst/>
              <a:ahLst/>
              <a:rect l="l" t="t" r="r" b="b"/>
              <a:pathLst>
                <a:path w="86560" h="180014">
                  <a:moveTo>
                    <a:pt x="2983" y="9788"/>
                  </a:moveTo>
                  <a:cubicBezTo>
                    <a:pt x="2983" y="9788"/>
                    <a:pt x="-6152" y="109621"/>
                    <a:pt x="7550" y="143551"/>
                  </a:cubicBezTo>
                  <a:cubicBezTo>
                    <a:pt x="21253" y="176829"/>
                    <a:pt x="63013" y="196404"/>
                    <a:pt x="81936" y="161821"/>
                  </a:cubicBezTo>
                  <a:cubicBezTo>
                    <a:pt x="100206" y="127239"/>
                    <a:pt x="58446" y="0"/>
                    <a:pt x="58446" y="0"/>
                  </a:cubicBezTo>
                  <a:lnTo>
                    <a:pt x="2983" y="9788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Graphic 2"/>
            <p:cNvSpPr/>
            <p:nvPr/>
          </p:nvSpPr>
          <p:spPr>
            <a:xfrm>
              <a:off x="3730320" y="3215520"/>
              <a:ext cx="105120" cy="90720"/>
            </a:xfrm>
            <a:custGeom>
              <a:avLst/>
              <a:gdLst/>
              <a:ahLst/>
              <a:rect l="l" t="t" r="r" b="b"/>
              <a:pathLst>
                <a:path w="161384" h="139358">
                  <a:moveTo>
                    <a:pt x="0" y="70182"/>
                  </a:moveTo>
                  <a:cubicBezTo>
                    <a:pt x="0" y="70182"/>
                    <a:pt x="76343" y="14719"/>
                    <a:pt x="112231" y="3626"/>
                  </a:cubicBezTo>
                  <a:cubicBezTo>
                    <a:pt x="192489" y="-22474"/>
                    <a:pt x="160516" y="100197"/>
                    <a:pt x="114841" y="120425"/>
                  </a:cubicBezTo>
                  <a:cubicBezTo>
                    <a:pt x="97223" y="128255"/>
                    <a:pt x="11093" y="142610"/>
                    <a:pt x="13050" y="138695"/>
                  </a:cubicBezTo>
                  <a:cubicBezTo>
                    <a:pt x="14355" y="134780"/>
                    <a:pt x="0" y="70182"/>
                    <a:pt x="0" y="70182"/>
                  </a:cubicBez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Graphic 2"/>
            <p:cNvSpPr/>
            <p:nvPr/>
          </p:nvSpPr>
          <p:spPr>
            <a:xfrm>
              <a:off x="2596320" y="3630600"/>
              <a:ext cx="524520" cy="865440"/>
            </a:xfrm>
            <a:custGeom>
              <a:avLst/>
              <a:gdLst/>
              <a:ahLst/>
              <a:rect l="l" t="t" r="r" b="b"/>
              <a:pathLst>
                <a:path w="803886" h="1328501">
                  <a:moveTo>
                    <a:pt x="723629" y="0"/>
                  </a:moveTo>
                  <a:lnTo>
                    <a:pt x="448924" y="120713"/>
                  </a:lnTo>
                  <a:cubicBezTo>
                    <a:pt x="448924" y="120713"/>
                    <a:pt x="403248" y="691656"/>
                    <a:pt x="382368" y="742551"/>
                  </a:cubicBezTo>
                  <a:cubicBezTo>
                    <a:pt x="327558" y="875010"/>
                    <a:pt x="0" y="1323281"/>
                    <a:pt x="0" y="1323281"/>
                  </a:cubicBezTo>
                  <a:lnTo>
                    <a:pt x="41108" y="1328501"/>
                  </a:lnTo>
                  <a:cubicBezTo>
                    <a:pt x="41108" y="1328501"/>
                    <a:pt x="508954" y="909593"/>
                    <a:pt x="553977" y="829335"/>
                  </a:cubicBezTo>
                  <a:cubicBezTo>
                    <a:pt x="656421" y="646633"/>
                    <a:pt x="803887" y="28058"/>
                    <a:pt x="803887" y="28058"/>
                  </a:cubicBezTo>
                  <a:lnTo>
                    <a:pt x="723629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Graphic 2"/>
            <p:cNvSpPr/>
            <p:nvPr/>
          </p:nvSpPr>
          <p:spPr>
            <a:xfrm>
              <a:off x="3035520" y="3658320"/>
              <a:ext cx="431280" cy="590760"/>
            </a:xfrm>
            <a:custGeom>
              <a:avLst/>
              <a:gdLst/>
              <a:ahLst/>
              <a:rect l="l" t="t" r="r" b="b"/>
              <a:pathLst>
                <a:path w="661379" h="906982">
                  <a:moveTo>
                    <a:pt x="219242" y="0"/>
                  </a:moveTo>
                  <a:lnTo>
                    <a:pt x="582687" y="61988"/>
                  </a:lnTo>
                  <a:cubicBezTo>
                    <a:pt x="582687" y="61988"/>
                    <a:pt x="689046" y="93961"/>
                    <a:pt x="654463" y="227725"/>
                  </a:cubicBezTo>
                  <a:cubicBezTo>
                    <a:pt x="624448" y="343218"/>
                    <a:pt x="499819" y="828030"/>
                    <a:pt x="499819" y="828030"/>
                  </a:cubicBezTo>
                  <a:lnTo>
                    <a:pt x="456754" y="906983"/>
                  </a:lnTo>
                  <a:lnTo>
                    <a:pt x="508954" y="314508"/>
                  </a:lnTo>
                  <a:cubicBezTo>
                    <a:pt x="508954" y="314508"/>
                    <a:pt x="516132" y="272747"/>
                    <a:pt x="476982" y="262307"/>
                  </a:cubicBezTo>
                  <a:cubicBezTo>
                    <a:pt x="412384" y="245995"/>
                    <a:pt x="7178" y="222504"/>
                    <a:pt x="7178" y="222504"/>
                  </a:cubicBezTo>
                  <a:lnTo>
                    <a:pt x="0" y="7178"/>
                  </a:lnTo>
                  <a:lnTo>
                    <a:pt x="219242" y="0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Graphic 2"/>
            <p:cNvSpPr/>
            <p:nvPr/>
          </p:nvSpPr>
          <p:spPr>
            <a:xfrm>
              <a:off x="3094200" y="2890800"/>
              <a:ext cx="156960" cy="166320"/>
            </a:xfrm>
            <a:custGeom>
              <a:avLst/>
              <a:gdLst/>
              <a:ahLst/>
              <a:rect l="l" t="t" r="r" b="b"/>
              <a:pathLst>
                <a:path w="240774" h="255782">
                  <a:moveTo>
                    <a:pt x="227724" y="5873"/>
                  </a:moveTo>
                  <a:cubicBezTo>
                    <a:pt x="227724" y="5873"/>
                    <a:pt x="229682" y="133764"/>
                    <a:pt x="240775" y="255782"/>
                  </a:cubicBezTo>
                  <a:lnTo>
                    <a:pt x="0" y="248605"/>
                  </a:lnTo>
                  <a:cubicBezTo>
                    <a:pt x="0" y="248605"/>
                    <a:pt x="28710" y="138331"/>
                    <a:pt x="99181" y="0"/>
                  </a:cubicBezTo>
                  <a:lnTo>
                    <a:pt x="227724" y="5873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Graphic 2"/>
            <p:cNvSpPr/>
            <p:nvPr/>
          </p:nvSpPr>
          <p:spPr>
            <a:xfrm>
              <a:off x="3012840" y="3026880"/>
              <a:ext cx="266760" cy="258840"/>
            </a:xfrm>
            <a:custGeom>
              <a:avLst/>
              <a:gdLst/>
              <a:ahLst/>
              <a:rect l="l" t="t" r="r" b="b"/>
              <a:pathLst>
                <a:path w="409120" h="397375">
                  <a:moveTo>
                    <a:pt x="136374" y="0"/>
                  </a:moveTo>
                  <a:cubicBezTo>
                    <a:pt x="136374" y="0"/>
                    <a:pt x="235554" y="28710"/>
                    <a:pt x="359530" y="652"/>
                  </a:cubicBezTo>
                  <a:lnTo>
                    <a:pt x="409121" y="78953"/>
                  </a:lnTo>
                  <a:lnTo>
                    <a:pt x="209454" y="397376"/>
                  </a:lnTo>
                  <a:cubicBezTo>
                    <a:pt x="209454" y="397376"/>
                    <a:pt x="31320" y="344523"/>
                    <a:pt x="21533" y="337998"/>
                  </a:cubicBezTo>
                  <a:cubicBezTo>
                    <a:pt x="11745" y="331473"/>
                    <a:pt x="0" y="58073"/>
                    <a:pt x="0" y="58073"/>
                  </a:cubicBezTo>
                  <a:lnTo>
                    <a:pt x="1363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Graphic 2"/>
            <p:cNvSpPr/>
            <p:nvPr/>
          </p:nvSpPr>
          <p:spPr>
            <a:xfrm>
              <a:off x="3081960" y="2673360"/>
              <a:ext cx="214200" cy="252720"/>
            </a:xfrm>
            <a:custGeom>
              <a:avLst/>
              <a:gdLst/>
              <a:ahLst/>
              <a:rect l="l" t="t" r="r" b="b"/>
              <a:pathLst>
                <a:path w="328646" h="387917">
                  <a:moveTo>
                    <a:pt x="272095" y="0"/>
                  </a:moveTo>
                  <a:cubicBezTo>
                    <a:pt x="272095" y="0"/>
                    <a:pt x="315813" y="140289"/>
                    <a:pt x="324295" y="218589"/>
                  </a:cubicBezTo>
                  <a:cubicBezTo>
                    <a:pt x="332778" y="296890"/>
                    <a:pt x="340608" y="368666"/>
                    <a:pt x="226419" y="386283"/>
                  </a:cubicBezTo>
                  <a:cubicBezTo>
                    <a:pt x="137026" y="399986"/>
                    <a:pt x="82216" y="322990"/>
                    <a:pt x="82216" y="322990"/>
                  </a:cubicBezTo>
                  <a:lnTo>
                    <a:pt x="0" y="137679"/>
                  </a:lnTo>
                  <a:lnTo>
                    <a:pt x="45675" y="35888"/>
                  </a:lnTo>
                  <a:lnTo>
                    <a:pt x="272095" y="0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Graphic 2"/>
            <p:cNvSpPr/>
            <p:nvPr/>
          </p:nvSpPr>
          <p:spPr>
            <a:xfrm>
              <a:off x="2635560" y="3019680"/>
              <a:ext cx="1121760" cy="703080"/>
            </a:xfrm>
            <a:custGeom>
              <a:avLst/>
              <a:gdLst/>
              <a:ahLst/>
              <a:rect l="l" t="t" r="r" b="b"/>
              <a:pathLst>
                <a:path w="1719158" h="1079576">
                  <a:moveTo>
                    <a:pt x="936805" y="12078"/>
                  </a:moveTo>
                  <a:cubicBezTo>
                    <a:pt x="936805" y="12078"/>
                    <a:pt x="1119506" y="-37513"/>
                    <a:pt x="1169096" y="64278"/>
                  </a:cubicBezTo>
                  <a:cubicBezTo>
                    <a:pt x="1240872" y="211744"/>
                    <a:pt x="1299598" y="414674"/>
                    <a:pt x="1306123" y="421851"/>
                  </a:cubicBezTo>
                  <a:cubicBezTo>
                    <a:pt x="1325045" y="443384"/>
                    <a:pt x="1681966" y="347466"/>
                    <a:pt x="1681966" y="347466"/>
                  </a:cubicBezTo>
                  <a:lnTo>
                    <a:pt x="1719159" y="463612"/>
                  </a:lnTo>
                  <a:cubicBezTo>
                    <a:pt x="1719159" y="463612"/>
                    <a:pt x="1254575" y="666541"/>
                    <a:pt x="1219992" y="633916"/>
                  </a:cubicBezTo>
                  <a:cubicBezTo>
                    <a:pt x="1188672" y="605205"/>
                    <a:pt x="1049688" y="317450"/>
                    <a:pt x="1049688" y="317450"/>
                  </a:cubicBezTo>
                  <a:cubicBezTo>
                    <a:pt x="1049688" y="317450"/>
                    <a:pt x="899612" y="802915"/>
                    <a:pt x="871554" y="979091"/>
                  </a:cubicBezTo>
                  <a:cubicBezTo>
                    <a:pt x="871554" y="979091"/>
                    <a:pt x="767153" y="1014326"/>
                    <a:pt x="742358" y="1018894"/>
                  </a:cubicBezTo>
                  <a:cubicBezTo>
                    <a:pt x="696030" y="1027376"/>
                    <a:pt x="688200" y="981701"/>
                    <a:pt x="688200" y="981701"/>
                  </a:cubicBezTo>
                  <a:cubicBezTo>
                    <a:pt x="688200" y="981701"/>
                    <a:pt x="662100" y="1039774"/>
                    <a:pt x="596849" y="1050214"/>
                  </a:cubicBezTo>
                  <a:cubicBezTo>
                    <a:pt x="511371" y="1063264"/>
                    <a:pt x="354770" y="1079577"/>
                    <a:pt x="354770" y="1079577"/>
                  </a:cubicBezTo>
                  <a:lnTo>
                    <a:pt x="467001" y="323975"/>
                  </a:lnTo>
                  <a:cubicBezTo>
                    <a:pt x="467001" y="323975"/>
                    <a:pt x="194906" y="315493"/>
                    <a:pt x="163585" y="367041"/>
                  </a:cubicBezTo>
                  <a:cubicBezTo>
                    <a:pt x="123783" y="431639"/>
                    <a:pt x="144010" y="731139"/>
                    <a:pt x="144010" y="731139"/>
                  </a:cubicBezTo>
                  <a:lnTo>
                    <a:pt x="59837" y="744189"/>
                  </a:lnTo>
                  <a:cubicBezTo>
                    <a:pt x="59837" y="744189"/>
                    <a:pt x="-24336" y="333763"/>
                    <a:pt x="6984" y="280910"/>
                  </a:cubicBezTo>
                  <a:cubicBezTo>
                    <a:pt x="40914" y="224142"/>
                    <a:pt x="388047" y="27085"/>
                    <a:pt x="513328" y="12078"/>
                  </a:cubicBezTo>
                  <a:cubicBezTo>
                    <a:pt x="572706" y="4900"/>
                    <a:pt x="712995" y="6858"/>
                    <a:pt x="712995" y="6858"/>
                  </a:cubicBezTo>
                  <a:lnTo>
                    <a:pt x="812828" y="236540"/>
                  </a:lnTo>
                  <a:lnTo>
                    <a:pt x="936805" y="12078"/>
                  </a:lnTo>
                  <a:close/>
                </a:path>
              </a:pathLst>
            </a:custGeom>
            <a:solidFill>
              <a:srgbClr val="42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Graphic 2"/>
            <p:cNvSpPr/>
            <p:nvPr/>
          </p:nvSpPr>
          <p:spPr>
            <a:xfrm>
              <a:off x="3030480" y="2604960"/>
              <a:ext cx="288000" cy="277920"/>
            </a:xfrm>
            <a:custGeom>
              <a:avLst/>
              <a:gdLst/>
              <a:ahLst/>
              <a:rect l="l" t="t" r="r" b="b"/>
              <a:pathLst>
                <a:path w="441888" h="426738">
                  <a:moveTo>
                    <a:pt x="123681" y="309940"/>
                  </a:moveTo>
                  <a:cubicBezTo>
                    <a:pt x="129554" y="312550"/>
                    <a:pt x="141299" y="327558"/>
                    <a:pt x="155654" y="321033"/>
                  </a:cubicBezTo>
                  <a:cubicBezTo>
                    <a:pt x="170662" y="314508"/>
                    <a:pt x="147172" y="227072"/>
                    <a:pt x="164789" y="200972"/>
                  </a:cubicBezTo>
                  <a:cubicBezTo>
                    <a:pt x="182407" y="174872"/>
                    <a:pt x="237217" y="172261"/>
                    <a:pt x="328568" y="151381"/>
                  </a:cubicBezTo>
                  <a:cubicBezTo>
                    <a:pt x="423181" y="130501"/>
                    <a:pt x="462984" y="67861"/>
                    <a:pt x="431011" y="31973"/>
                  </a:cubicBezTo>
                  <a:cubicBezTo>
                    <a:pt x="396429" y="-7178"/>
                    <a:pt x="301815" y="31973"/>
                    <a:pt x="267885" y="78301"/>
                  </a:cubicBezTo>
                  <a:cubicBezTo>
                    <a:pt x="267885" y="78301"/>
                    <a:pt x="307035" y="0"/>
                    <a:pt x="256792" y="0"/>
                  </a:cubicBezTo>
                  <a:cubicBezTo>
                    <a:pt x="223515" y="0"/>
                    <a:pt x="187627" y="19575"/>
                    <a:pt x="169357" y="101791"/>
                  </a:cubicBezTo>
                  <a:cubicBezTo>
                    <a:pt x="169357" y="101791"/>
                    <a:pt x="158917" y="54158"/>
                    <a:pt x="127596" y="56115"/>
                  </a:cubicBezTo>
                  <a:cubicBezTo>
                    <a:pt x="95624" y="58073"/>
                    <a:pt x="55168" y="106358"/>
                    <a:pt x="76701" y="209454"/>
                  </a:cubicBezTo>
                  <a:cubicBezTo>
                    <a:pt x="76701" y="209454"/>
                    <a:pt x="28416" y="211412"/>
                    <a:pt x="6883" y="262307"/>
                  </a:cubicBezTo>
                  <a:cubicBezTo>
                    <a:pt x="-12692" y="308635"/>
                    <a:pt x="1010" y="402596"/>
                    <a:pt x="161527" y="426739"/>
                  </a:cubicBezTo>
                  <a:lnTo>
                    <a:pt x="121071" y="347133"/>
                  </a:lnTo>
                  <a:cubicBezTo>
                    <a:pt x="121071" y="347133"/>
                    <a:pt x="104759" y="302110"/>
                    <a:pt x="123681" y="309940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Graphic 2"/>
            <p:cNvSpPr/>
            <p:nvPr/>
          </p:nvSpPr>
          <p:spPr>
            <a:xfrm>
              <a:off x="3330000" y="4186080"/>
              <a:ext cx="84600" cy="80280"/>
            </a:xfrm>
            <a:custGeom>
              <a:avLst/>
              <a:gdLst/>
              <a:ahLst/>
              <a:rect l="l" t="t" r="r" b="b"/>
              <a:pathLst>
                <a:path w="129860" h="123546">
                  <a:moveTo>
                    <a:pt x="12" y="123547"/>
                  </a:moveTo>
                  <a:cubicBezTo>
                    <a:pt x="12" y="123547"/>
                    <a:pt x="-3903" y="-63070"/>
                    <a:pt x="129861" y="22409"/>
                  </a:cubicBezTo>
                  <a:lnTo>
                    <a:pt x="12" y="123547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Graphic 2"/>
            <p:cNvSpPr/>
            <p:nvPr/>
          </p:nvSpPr>
          <p:spPr>
            <a:xfrm>
              <a:off x="3087360" y="2805840"/>
              <a:ext cx="47880" cy="66240"/>
            </a:xfrm>
            <a:custGeom>
              <a:avLst/>
              <a:gdLst/>
              <a:ahLst/>
              <a:rect l="l" t="t" r="r" b="b"/>
              <a:pathLst>
                <a:path w="73905" h="102106">
                  <a:moveTo>
                    <a:pt x="35408" y="1341"/>
                  </a:moveTo>
                  <a:cubicBezTo>
                    <a:pt x="35408" y="1341"/>
                    <a:pt x="17138" y="-6489"/>
                    <a:pt x="3435" y="15696"/>
                  </a:cubicBezTo>
                  <a:cubicBezTo>
                    <a:pt x="-10267" y="37881"/>
                    <a:pt x="17790" y="107047"/>
                    <a:pt x="73906" y="101827"/>
                  </a:cubicBezTo>
                  <a:lnTo>
                    <a:pt x="35408" y="1341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Graphic 2"/>
            <p:cNvSpPr/>
            <p:nvPr/>
          </p:nvSpPr>
          <p:spPr>
            <a:xfrm>
              <a:off x="2592360" y="4490640"/>
              <a:ext cx="85680" cy="79920"/>
            </a:xfrm>
            <a:custGeom>
              <a:avLst/>
              <a:gdLst/>
              <a:ahLst/>
              <a:rect l="l" t="t" r="r" b="b"/>
              <a:pathLst>
                <a:path w="131335" h="123086">
                  <a:moveTo>
                    <a:pt x="0" y="1068"/>
                  </a:moveTo>
                  <a:cubicBezTo>
                    <a:pt x="0" y="1068"/>
                    <a:pt x="187922" y="-19812"/>
                    <a:pt x="114188" y="123086"/>
                  </a:cubicBezTo>
                  <a:lnTo>
                    <a:pt x="0" y="1068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Graphic 2"/>
            <p:cNvSpPr/>
            <p:nvPr/>
          </p:nvSpPr>
          <p:spPr>
            <a:xfrm>
              <a:off x="3084480" y="3202920"/>
              <a:ext cx="76320" cy="456480"/>
            </a:xfrm>
            <a:custGeom>
              <a:avLst/>
              <a:gdLst/>
              <a:ahLst/>
              <a:rect l="l" t="t" r="r" b="b"/>
              <a:pathLst>
                <a:path w="117450" h="700791">
                  <a:moveTo>
                    <a:pt x="0" y="700791"/>
                  </a:moveTo>
                  <a:lnTo>
                    <a:pt x="117451" y="0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Graphic 2"/>
            <p:cNvSpPr/>
            <p:nvPr/>
          </p:nvSpPr>
          <p:spPr>
            <a:xfrm>
              <a:off x="3033360" y="3029040"/>
              <a:ext cx="280440" cy="173880"/>
            </a:xfrm>
            <a:custGeom>
              <a:avLst/>
              <a:gdLst/>
              <a:ahLst/>
              <a:rect l="l" t="t" r="r" b="b"/>
              <a:pathLst>
                <a:path w="430001" h="266874">
                  <a:moveTo>
                    <a:pt x="430001" y="0"/>
                  </a:moveTo>
                  <a:lnTo>
                    <a:pt x="355616" y="102443"/>
                  </a:lnTo>
                  <a:lnTo>
                    <a:pt x="301458" y="107011"/>
                  </a:lnTo>
                  <a:lnTo>
                    <a:pt x="344523" y="126586"/>
                  </a:lnTo>
                  <a:lnTo>
                    <a:pt x="194447" y="266875"/>
                  </a:lnTo>
                  <a:lnTo>
                    <a:pt x="75038" y="131154"/>
                  </a:lnTo>
                  <a:lnTo>
                    <a:pt x="112231" y="104401"/>
                  </a:lnTo>
                  <a:lnTo>
                    <a:pt x="54158" y="95266"/>
                  </a:lnTo>
                  <a:lnTo>
                    <a:pt x="0" y="1305"/>
                  </a:lnTo>
                </a:path>
              </a:pathLst>
            </a:custGeom>
            <a:noFill/>
            <a:ln cap="rnd" w="3240">
              <a:solidFill>
                <a:srgbClr val="9ccc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03"/>
          <p:cNvGrpSpPr/>
          <p:nvPr/>
        </p:nvGrpSpPr>
        <p:grpSpPr>
          <a:xfrm>
            <a:off x="7167600" y="1163520"/>
            <a:ext cx="847800" cy="1787760"/>
            <a:chOff x="7167600" y="1163520"/>
            <a:chExt cx="847800" cy="1787760"/>
          </a:xfrm>
        </p:grpSpPr>
        <p:sp>
          <p:nvSpPr>
            <p:cNvPr id="777" name="Graphic 5"/>
            <p:cNvSpPr/>
            <p:nvPr/>
          </p:nvSpPr>
          <p:spPr>
            <a:xfrm>
              <a:off x="7167600" y="1172160"/>
              <a:ext cx="60840" cy="84240"/>
            </a:xfrm>
            <a:custGeom>
              <a:avLst/>
              <a:gdLst/>
              <a:ahLst/>
              <a:rect l="l" t="t" r="r" b="b"/>
              <a:pathLst>
                <a:path w="172481" h="238374">
                  <a:moveTo>
                    <a:pt x="172482" y="197417"/>
                  </a:moveTo>
                  <a:cubicBezTo>
                    <a:pt x="170577" y="190749"/>
                    <a:pt x="159147" y="52637"/>
                    <a:pt x="94377" y="16442"/>
                  </a:cubicBezTo>
                  <a:cubicBezTo>
                    <a:pt x="30559" y="-20706"/>
                    <a:pt x="-1826" y="9774"/>
                    <a:pt x="79" y="61209"/>
                  </a:cubicBezTo>
                  <a:cubicBezTo>
                    <a:pt x="1984" y="112644"/>
                    <a:pt x="92472" y="238374"/>
                    <a:pt x="92472" y="238374"/>
                  </a:cubicBezTo>
                  <a:lnTo>
                    <a:pt x="172482" y="197417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Graphic 5"/>
            <p:cNvSpPr/>
            <p:nvPr/>
          </p:nvSpPr>
          <p:spPr>
            <a:xfrm>
              <a:off x="7399080" y="1483920"/>
              <a:ext cx="120600" cy="132840"/>
            </a:xfrm>
            <a:custGeom>
              <a:avLst/>
              <a:gdLst/>
              <a:ahLst/>
              <a:rect l="l" t="t" r="r" b="b"/>
              <a:pathLst>
                <a:path w="340995" h="375285">
                  <a:moveTo>
                    <a:pt x="340995" y="0"/>
                  </a:moveTo>
                  <a:cubicBezTo>
                    <a:pt x="340995" y="0"/>
                    <a:pt x="298133" y="224790"/>
                    <a:pt x="315278" y="375285"/>
                  </a:cubicBezTo>
                  <a:lnTo>
                    <a:pt x="0" y="349568"/>
                  </a:lnTo>
                  <a:cubicBezTo>
                    <a:pt x="0" y="349568"/>
                    <a:pt x="103823" y="151448"/>
                    <a:pt x="142875" y="4763"/>
                  </a:cubicBezTo>
                  <a:lnTo>
                    <a:pt x="340995" y="0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Graphic 5"/>
            <p:cNvSpPr/>
            <p:nvPr/>
          </p:nvSpPr>
          <p:spPr>
            <a:xfrm>
              <a:off x="7379280" y="1602000"/>
              <a:ext cx="143640" cy="172800"/>
            </a:xfrm>
            <a:custGeom>
              <a:avLst/>
              <a:gdLst/>
              <a:ahLst/>
              <a:rect l="l" t="t" r="r" b="b"/>
              <a:pathLst>
                <a:path w="405765" h="487679">
                  <a:moveTo>
                    <a:pt x="56197" y="0"/>
                  </a:moveTo>
                  <a:cubicBezTo>
                    <a:pt x="56197" y="0"/>
                    <a:pt x="187643" y="39052"/>
                    <a:pt x="366713" y="17145"/>
                  </a:cubicBezTo>
                  <a:lnTo>
                    <a:pt x="405765" y="97155"/>
                  </a:lnTo>
                  <a:lnTo>
                    <a:pt x="177165" y="487680"/>
                  </a:lnTo>
                  <a:lnTo>
                    <a:pt x="0" y="356235"/>
                  </a:lnTo>
                  <a:lnTo>
                    <a:pt x="56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Graphic 5"/>
            <p:cNvSpPr/>
            <p:nvPr/>
          </p:nvSpPr>
          <p:spPr>
            <a:xfrm>
              <a:off x="7405200" y="1607760"/>
              <a:ext cx="61920" cy="127800"/>
            </a:xfrm>
            <a:custGeom>
              <a:avLst/>
              <a:gdLst/>
              <a:ahLst/>
              <a:rect l="l" t="t" r="r" b="b"/>
              <a:pathLst>
                <a:path w="175391" h="361244">
                  <a:moveTo>
                    <a:pt x="124909" y="69532"/>
                  </a:moveTo>
                  <a:lnTo>
                    <a:pt x="175391" y="6667"/>
                  </a:lnTo>
                  <a:cubicBezTo>
                    <a:pt x="137291" y="6667"/>
                    <a:pt x="103954" y="3810"/>
                    <a:pt x="76331" y="0"/>
                  </a:cubicBezTo>
                  <a:lnTo>
                    <a:pt x="95381" y="64770"/>
                  </a:lnTo>
                  <a:lnTo>
                    <a:pt x="131" y="237172"/>
                  </a:lnTo>
                  <a:cubicBezTo>
                    <a:pt x="131" y="237172"/>
                    <a:pt x="-2726" y="367665"/>
                    <a:pt x="18229" y="360997"/>
                  </a:cubicBezTo>
                  <a:cubicBezTo>
                    <a:pt x="26801" y="358140"/>
                    <a:pt x="119194" y="264795"/>
                    <a:pt x="119194" y="264795"/>
                  </a:cubicBezTo>
                  <a:lnTo>
                    <a:pt x="124909" y="69532"/>
                  </a:lnTo>
                  <a:close/>
                </a:path>
              </a:pathLst>
            </a:custGeom>
            <a:solidFill>
              <a:srgbClr val="e86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Graphic 5"/>
            <p:cNvSpPr/>
            <p:nvPr/>
          </p:nvSpPr>
          <p:spPr>
            <a:xfrm>
              <a:off x="7226640" y="2171160"/>
              <a:ext cx="178560" cy="772560"/>
            </a:xfrm>
            <a:custGeom>
              <a:avLst/>
              <a:gdLst/>
              <a:ahLst/>
              <a:rect l="l" t="t" r="r" b="b"/>
              <a:pathLst>
                <a:path w="504825" h="2178367">
                  <a:moveTo>
                    <a:pt x="0" y="86678"/>
                  </a:moveTo>
                  <a:cubicBezTo>
                    <a:pt x="0" y="86678"/>
                    <a:pt x="41910" y="1140143"/>
                    <a:pt x="236220" y="2170748"/>
                  </a:cubicBezTo>
                  <a:lnTo>
                    <a:pt x="291465" y="2178368"/>
                  </a:lnTo>
                  <a:cubicBezTo>
                    <a:pt x="291465" y="2178368"/>
                    <a:pt x="206693" y="717233"/>
                    <a:pt x="504825" y="142875"/>
                  </a:cubicBezTo>
                  <a:lnTo>
                    <a:pt x="397193" y="0"/>
                  </a:lnTo>
                  <a:lnTo>
                    <a:pt x="0" y="86678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Graphic 5"/>
            <p:cNvSpPr/>
            <p:nvPr/>
          </p:nvSpPr>
          <p:spPr>
            <a:xfrm>
              <a:off x="7919640" y="1266120"/>
              <a:ext cx="95760" cy="66960"/>
            </a:xfrm>
            <a:custGeom>
              <a:avLst/>
              <a:gdLst/>
              <a:ahLst/>
              <a:rect l="l" t="t" r="r" b="b"/>
              <a:pathLst>
                <a:path w="271139" h="188954">
                  <a:moveTo>
                    <a:pt x="0" y="108945"/>
                  </a:moveTo>
                  <a:cubicBezTo>
                    <a:pt x="0" y="108945"/>
                    <a:pt x="97155" y="28935"/>
                    <a:pt x="177165" y="5122"/>
                  </a:cubicBezTo>
                  <a:cubicBezTo>
                    <a:pt x="257175" y="-18690"/>
                    <a:pt x="280988" y="46080"/>
                    <a:pt x="267653" y="85132"/>
                  </a:cubicBezTo>
                  <a:cubicBezTo>
                    <a:pt x="254318" y="124185"/>
                    <a:pt x="62865" y="188955"/>
                    <a:pt x="62865" y="188955"/>
                  </a:cubicBezTo>
                  <a:lnTo>
                    <a:pt x="0" y="108945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Graphic 5"/>
            <p:cNvSpPr/>
            <p:nvPr/>
          </p:nvSpPr>
          <p:spPr>
            <a:xfrm>
              <a:off x="7333560" y="2195640"/>
              <a:ext cx="245880" cy="726480"/>
            </a:xfrm>
            <a:custGeom>
              <a:avLst/>
              <a:gdLst/>
              <a:ahLst/>
              <a:rect l="l" t="t" r="r" b="b"/>
              <a:pathLst>
                <a:path w="694372" h="2048827">
                  <a:moveTo>
                    <a:pt x="0" y="64770"/>
                  </a:moveTo>
                  <a:lnTo>
                    <a:pt x="99060" y="0"/>
                  </a:lnTo>
                  <a:lnTo>
                    <a:pt x="518160" y="78105"/>
                  </a:lnTo>
                  <a:cubicBezTo>
                    <a:pt x="518160" y="78105"/>
                    <a:pt x="436245" y="1047750"/>
                    <a:pt x="694373" y="2048828"/>
                  </a:cubicBezTo>
                  <a:lnTo>
                    <a:pt x="634365" y="2045970"/>
                  </a:lnTo>
                  <a:cubicBezTo>
                    <a:pt x="634365" y="2045970"/>
                    <a:pt x="138113" y="802957"/>
                    <a:pt x="0" y="64770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Graphic 5"/>
            <p:cNvSpPr/>
            <p:nvPr/>
          </p:nvSpPr>
          <p:spPr>
            <a:xfrm>
              <a:off x="7407720" y="1239120"/>
              <a:ext cx="218880" cy="267840"/>
            </a:xfrm>
            <a:custGeom>
              <a:avLst/>
              <a:gdLst/>
              <a:ahLst/>
              <a:rect l="l" t="t" r="r" b="b"/>
              <a:pathLst>
                <a:path w="618563" h="755692">
                  <a:moveTo>
                    <a:pt x="173746" y="0"/>
                  </a:moveTo>
                  <a:cubicBezTo>
                    <a:pt x="173746" y="0"/>
                    <a:pt x="44206" y="388620"/>
                    <a:pt x="5153" y="543878"/>
                  </a:cubicBezTo>
                  <a:cubicBezTo>
                    <a:pt x="-33899" y="699135"/>
                    <a:pt x="158506" y="761048"/>
                    <a:pt x="262328" y="755333"/>
                  </a:cubicBezTo>
                  <a:cubicBezTo>
                    <a:pt x="376628" y="748665"/>
                    <a:pt x="480451" y="521970"/>
                    <a:pt x="480451" y="521970"/>
                  </a:cubicBezTo>
                  <a:lnTo>
                    <a:pt x="618563" y="133350"/>
                  </a:lnTo>
                  <a:lnTo>
                    <a:pt x="173746" y="0"/>
                  </a:lnTo>
                  <a:close/>
                </a:path>
              </a:pathLst>
            </a:custGeom>
            <a:solidFill>
              <a:srgbClr val="db8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Graphic 5"/>
            <p:cNvSpPr/>
            <p:nvPr/>
          </p:nvSpPr>
          <p:spPr>
            <a:xfrm>
              <a:off x="7556400" y="1368720"/>
              <a:ext cx="62640" cy="75960"/>
            </a:xfrm>
            <a:custGeom>
              <a:avLst/>
              <a:gdLst/>
              <a:ahLst/>
              <a:rect l="l" t="t" r="r" b="b"/>
              <a:pathLst>
                <a:path w="177164" h="214428">
                  <a:moveTo>
                    <a:pt x="86677" y="948"/>
                  </a:moveTo>
                  <a:cubicBezTo>
                    <a:pt x="86677" y="948"/>
                    <a:pt x="177165" y="-12387"/>
                    <a:pt x="177165" y="60956"/>
                  </a:cubicBezTo>
                  <a:cubicBezTo>
                    <a:pt x="177165" y="134298"/>
                    <a:pt x="99060" y="229548"/>
                    <a:pt x="0" y="212403"/>
                  </a:cubicBezTo>
                  <a:lnTo>
                    <a:pt x="86677" y="948"/>
                  </a:lnTo>
                  <a:close/>
                </a:path>
              </a:pathLst>
            </a:custGeom>
            <a:solidFill>
              <a:srgbClr val="db7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Graphic 5"/>
            <p:cNvSpPr/>
            <p:nvPr/>
          </p:nvSpPr>
          <p:spPr>
            <a:xfrm>
              <a:off x="7182000" y="1208520"/>
              <a:ext cx="770400" cy="1045080"/>
            </a:xfrm>
            <a:custGeom>
              <a:avLst/>
              <a:gdLst/>
              <a:ahLst/>
              <a:rect l="l" t="t" r="r" b="b"/>
              <a:pathLst>
                <a:path w="2175509" h="2947470">
                  <a:moveTo>
                    <a:pt x="2088833" y="245745"/>
                  </a:moveTo>
                  <a:lnTo>
                    <a:pt x="2175510" y="366713"/>
                  </a:lnTo>
                  <a:cubicBezTo>
                    <a:pt x="2175510" y="366713"/>
                    <a:pt x="1644968" y="785813"/>
                    <a:pt x="1351598" y="1147763"/>
                  </a:cubicBezTo>
                  <a:cubicBezTo>
                    <a:pt x="1096328" y="1463040"/>
                    <a:pt x="1086803" y="1549718"/>
                    <a:pt x="1086803" y="1549718"/>
                  </a:cubicBezTo>
                  <a:cubicBezTo>
                    <a:pt x="1086803" y="1549718"/>
                    <a:pt x="950595" y="2459355"/>
                    <a:pt x="1114425" y="2907983"/>
                  </a:cubicBezTo>
                  <a:lnTo>
                    <a:pt x="721043" y="2947035"/>
                  </a:lnTo>
                  <a:cubicBezTo>
                    <a:pt x="721043" y="2947035"/>
                    <a:pt x="557213" y="2960370"/>
                    <a:pt x="492443" y="2839403"/>
                  </a:cubicBezTo>
                  <a:cubicBezTo>
                    <a:pt x="492443" y="2839403"/>
                    <a:pt x="479107" y="2912745"/>
                    <a:pt x="388620" y="2926080"/>
                  </a:cubicBezTo>
                  <a:cubicBezTo>
                    <a:pt x="298132" y="2939415"/>
                    <a:pt x="21907" y="2891790"/>
                    <a:pt x="21907" y="2891790"/>
                  </a:cubicBezTo>
                  <a:cubicBezTo>
                    <a:pt x="21907" y="2891790"/>
                    <a:pt x="43815" y="2329815"/>
                    <a:pt x="97155" y="1947863"/>
                  </a:cubicBezTo>
                  <a:cubicBezTo>
                    <a:pt x="140018" y="1637348"/>
                    <a:pt x="229553" y="1179195"/>
                    <a:pt x="229553" y="1179195"/>
                  </a:cubicBezTo>
                  <a:cubicBezTo>
                    <a:pt x="229553" y="1179195"/>
                    <a:pt x="103823" y="418148"/>
                    <a:pt x="0" y="56197"/>
                  </a:cubicBezTo>
                  <a:lnTo>
                    <a:pt x="138112" y="0"/>
                  </a:lnTo>
                  <a:cubicBezTo>
                    <a:pt x="138112" y="0"/>
                    <a:pt x="473393" y="977265"/>
                    <a:pt x="506730" y="1043940"/>
                  </a:cubicBezTo>
                  <a:cubicBezTo>
                    <a:pt x="515303" y="1061085"/>
                    <a:pt x="612458" y="1109663"/>
                    <a:pt x="612458" y="1109663"/>
                  </a:cubicBezTo>
                  <a:lnTo>
                    <a:pt x="677228" y="1407795"/>
                  </a:lnTo>
                  <a:lnTo>
                    <a:pt x="936308" y="1118235"/>
                  </a:lnTo>
                  <a:cubicBezTo>
                    <a:pt x="936308" y="1117283"/>
                    <a:pt x="1631633" y="435293"/>
                    <a:pt x="2088833" y="245745"/>
                  </a:cubicBezTo>
                  <a:close/>
                </a:path>
              </a:pathLst>
            </a:custGeom>
            <a:solidFill>
              <a:srgbClr val="42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Graphic 5"/>
            <p:cNvSpPr/>
            <p:nvPr/>
          </p:nvSpPr>
          <p:spPr>
            <a:xfrm>
              <a:off x="7411320" y="1163520"/>
              <a:ext cx="275400" cy="230760"/>
            </a:xfrm>
            <a:custGeom>
              <a:avLst/>
              <a:gdLst/>
              <a:ahLst/>
              <a:rect l="l" t="t" r="r" b="b"/>
              <a:pathLst>
                <a:path w="777710" h="651525">
                  <a:moveTo>
                    <a:pt x="508910" y="419116"/>
                  </a:moveTo>
                  <a:cubicBezTo>
                    <a:pt x="508910" y="419116"/>
                    <a:pt x="478430" y="563896"/>
                    <a:pt x="508910" y="591518"/>
                  </a:cubicBezTo>
                  <a:cubicBezTo>
                    <a:pt x="539390" y="619141"/>
                    <a:pt x="573680" y="651526"/>
                    <a:pt x="573680" y="651526"/>
                  </a:cubicBezTo>
                  <a:cubicBezTo>
                    <a:pt x="573680" y="651526"/>
                    <a:pt x="638450" y="600091"/>
                    <a:pt x="689885" y="532463"/>
                  </a:cubicBezTo>
                  <a:cubicBezTo>
                    <a:pt x="741320" y="465788"/>
                    <a:pt x="875622" y="261001"/>
                    <a:pt x="655595" y="266716"/>
                  </a:cubicBezTo>
                  <a:cubicBezTo>
                    <a:pt x="655595" y="266716"/>
                    <a:pt x="672740" y="102886"/>
                    <a:pt x="588920" y="77168"/>
                  </a:cubicBezTo>
                  <a:cubicBezTo>
                    <a:pt x="505100" y="51451"/>
                    <a:pt x="505100" y="169561"/>
                    <a:pt x="505100" y="169561"/>
                  </a:cubicBezTo>
                  <a:cubicBezTo>
                    <a:pt x="505100" y="169561"/>
                    <a:pt x="440330" y="-1889"/>
                    <a:pt x="358415" y="16"/>
                  </a:cubicBezTo>
                  <a:cubicBezTo>
                    <a:pt x="243162" y="2873"/>
                    <a:pt x="285072" y="116221"/>
                    <a:pt x="285072" y="116221"/>
                  </a:cubicBezTo>
                  <a:cubicBezTo>
                    <a:pt x="285072" y="116221"/>
                    <a:pt x="159342" y="-23797"/>
                    <a:pt x="47900" y="49546"/>
                  </a:cubicBezTo>
                  <a:cubicBezTo>
                    <a:pt x="-64495" y="122888"/>
                    <a:pt x="25992" y="291481"/>
                    <a:pt x="266022" y="312436"/>
                  </a:cubicBezTo>
                  <a:cubicBezTo>
                    <a:pt x="535580" y="336248"/>
                    <a:pt x="508910" y="419116"/>
                    <a:pt x="508910" y="419116"/>
                  </a:cubicBez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Graphic 5"/>
            <p:cNvSpPr/>
            <p:nvPr/>
          </p:nvSpPr>
          <p:spPr>
            <a:xfrm>
              <a:off x="7504560" y="2902680"/>
              <a:ext cx="75240" cy="25560"/>
            </a:xfrm>
            <a:custGeom>
              <a:avLst/>
              <a:gdLst/>
              <a:ahLst/>
              <a:rect l="l" t="t" r="r" b="b"/>
              <a:pathLst>
                <a:path w="213331" h="72554">
                  <a:moveTo>
                    <a:pt x="213332" y="57315"/>
                  </a:moveTo>
                  <a:cubicBezTo>
                    <a:pt x="213332" y="57315"/>
                    <a:pt x="139989" y="-9360"/>
                    <a:pt x="59979" y="1117"/>
                  </a:cubicBezTo>
                  <a:cubicBezTo>
                    <a:pt x="-16221" y="10642"/>
                    <a:pt x="1877" y="72555"/>
                    <a:pt x="1877" y="72555"/>
                  </a:cubicBezTo>
                  <a:lnTo>
                    <a:pt x="213332" y="57315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Graphic 5"/>
            <p:cNvSpPr/>
            <p:nvPr/>
          </p:nvSpPr>
          <p:spPr>
            <a:xfrm>
              <a:off x="7254720" y="2925000"/>
              <a:ext cx="75240" cy="26280"/>
            </a:xfrm>
            <a:custGeom>
              <a:avLst/>
              <a:gdLst/>
              <a:ahLst/>
              <a:rect l="l" t="t" r="r" b="b"/>
              <a:pathLst>
                <a:path w="212912" h="74936">
                  <a:moveTo>
                    <a:pt x="212912" y="53029"/>
                  </a:moveTo>
                  <a:cubicBezTo>
                    <a:pt x="212912" y="53029"/>
                    <a:pt x="136712" y="-10788"/>
                    <a:pt x="57655" y="1594"/>
                  </a:cubicBezTo>
                  <a:cubicBezTo>
                    <a:pt x="-17593" y="13977"/>
                    <a:pt x="2410" y="74937"/>
                    <a:pt x="2410" y="74937"/>
                  </a:cubicBezTo>
                  <a:lnTo>
                    <a:pt x="212912" y="53029"/>
                  </a:lnTo>
                  <a:close/>
                </a:path>
              </a:pathLst>
            </a:custGeom>
            <a:solidFill>
              <a:srgbClr val="34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Graphic 5"/>
            <p:cNvSpPr/>
            <p:nvPr/>
          </p:nvSpPr>
          <p:spPr>
            <a:xfrm>
              <a:off x="7853760" y="2452320"/>
              <a:ext cx="28800" cy="28800"/>
            </a:xfrm>
            <a:custGeom>
              <a:avLst/>
              <a:gdLst/>
              <a:ahLst/>
              <a:rect l="l" t="t" r="r" b="b"/>
              <a:pathLst>
                <a:path w="81915" h="81915">
                  <a:moveTo>
                    <a:pt x="81915" y="40957"/>
                  </a:moveTo>
                  <a:cubicBezTo>
                    <a:pt x="81915" y="63578"/>
                    <a:pt x="63578" y="81915"/>
                    <a:pt x="40957" y="81915"/>
                  </a:cubicBezTo>
                  <a:cubicBezTo>
                    <a:pt x="18337" y="81915"/>
                    <a:pt x="0" y="63578"/>
                    <a:pt x="0" y="40957"/>
                  </a:cubicBezTo>
                  <a:cubicBezTo>
                    <a:pt x="0" y="18337"/>
                    <a:pt x="18337" y="0"/>
                    <a:pt x="40957" y="0"/>
                  </a:cubicBezTo>
                  <a:cubicBezTo>
                    <a:pt x="63578" y="0"/>
                    <a:pt x="81915" y="18337"/>
                    <a:pt x="81915" y="409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Graphic 5"/>
            <p:cNvSpPr/>
            <p:nvPr/>
          </p:nvSpPr>
          <p:spPr>
            <a:xfrm>
              <a:off x="7356600" y="1706760"/>
              <a:ext cx="64800" cy="505080"/>
            </a:xfrm>
            <a:custGeom>
              <a:avLst/>
              <a:gdLst/>
              <a:ahLst/>
              <a:rect l="l" t="t" r="r" b="b"/>
              <a:pathLst>
                <a:path w="183832" h="1424940">
                  <a:moveTo>
                    <a:pt x="2858" y="1424940"/>
                  </a:moveTo>
                  <a:cubicBezTo>
                    <a:pt x="2858" y="1424940"/>
                    <a:pt x="2858" y="1424940"/>
                    <a:pt x="2858" y="1424940"/>
                  </a:cubicBezTo>
                  <a:cubicBezTo>
                    <a:pt x="1905" y="1424940"/>
                    <a:pt x="0" y="1423988"/>
                    <a:pt x="0" y="1422083"/>
                  </a:cubicBezTo>
                  <a:cubicBezTo>
                    <a:pt x="30480" y="691515"/>
                    <a:pt x="178118" y="8573"/>
                    <a:pt x="179070" y="1905"/>
                  </a:cubicBezTo>
                  <a:cubicBezTo>
                    <a:pt x="179070" y="953"/>
                    <a:pt x="180975" y="0"/>
                    <a:pt x="181927" y="0"/>
                  </a:cubicBezTo>
                  <a:cubicBezTo>
                    <a:pt x="182880" y="0"/>
                    <a:pt x="183833" y="1905"/>
                    <a:pt x="183833" y="2858"/>
                  </a:cubicBezTo>
                  <a:cubicBezTo>
                    <a:pt x="181927" y="9525"/>
                    <a:pt x="35243" y="692468"/>
                    <a:pt x="4763" y="1422083"/>
                  </a:cubicBezTo>
                  <a:cubicBezTo>
                    <a:pt x="4763" y="1423988"/>
                    <a:pt x="3810" y="1424940"/>
                    <a:pt x="2858" y="1424940"/>
                  </a:cubicBezTo>
                  <a:close/>
                </a:path>
              </a:pathLst>
            </a:custGeom>
            <a:solidFill>
              <a:srgbClr val="9c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Graphic 5"/>
            <p:cNvSpPr/>
            <p:nvPr/>
          </p:nvSpPr>
          <p:spPr>
            <a:xfrm>
              <a:off x="7359840" y="1574640"/>
              <a:ext cx="186480" cy="152280"/>
            </a:xfrm>
            <a:custGeom>
              <a:avLst/>
              <a:gdLst/>
              <a:ahLst/>
              <a:rect l="l" t="t" r="r" b="b"/>
              <a:pathLst>
                <a:path w="526732" h="429577">
                  <a:moveTo>
                    <a:pt x="163830" y="429577"/>
                  </a:moveTo>
                  <a:cubicBezTo>
                    <a:pt x="162877" y="429577"/>
                    <a:pt x="162877" y="429577"/>
                    <a:pt x="161925" y="428625"/>
                  </a:cubicBezTo>
                  <a:lnTo>
                    <a:pt x="25718" y="259080"/>
                  </a:lnTo>
                  <a:cubicBezTo>
                    <a:pt x="25718" y="258127"/>
                    <a:pt x="24765" y="258127"/>
                    <a:pt x="24765" y="257175"/>
                  </a:cubicBezTo>
                  <a:cubicBezTo>
                    <a:pt x="24765" y="256222"/>
                    <a:pt x="24765" y="256222"/>
                    <a:pt x="25718" y="255270"/>
                  </a:cubicBezTo>
                  <a:lnTo>
                    <a:pt x="82867" y="217170"/>
                  </a:lnTo>
                  <a:lnTo>
                    <a:pt x="1905" y="187642"/>
                  </a:lnTo>
                  <a:cubicBezTo>
                    <a:pt x="952" y="187642"/>
                    <a:pt x="0" y="186690"/>
                    <a:pt x="0" y="185738"/>
                  </a:cubicBezTo>
                  <a:lnTo>
                    <a:pt x="4763" y="24765"/>
                  </a:lnTo>
                  <a:cubicBezTo>
                    <a:pt x="4763" y="23813"/>
                    <a:pt x="5715" y="22860"/>
                    <a:pt x="7620" y="22860"/>
                  </a:cubicBezTo>
                  <a:cubicBezTo>
                    <a:pt x="7620" y="22860"/>
                    <a:pt x="7620" y="22860"/>
                    <a:pt x="7620" y="22860"/>
                  </a:cubicBezTo>
                  <a:cubicBezTo>
                    <a:pt x="8573" y="22860"/>
                    <a:pt x="9525" y="23813"/>
                    <a:pt x="9525" y="25717"/>
                  </a:cubicBezTo>
                  <a:lnTo>
                    <a:pt x="4763" y="184785"/>
                  </a:lnTo>
                  <a:lnTo>
                    <a:pt x="88583" y="215265"/>
                  </a:lnTo>
                  <a:cubicBezTo>
                    <a:pt x="89535" y="215265"/>
                    <a:pt x="90488" y="216217"/>
                    <a:pt x="90488" y="217170"/>
                  </a:cubicBezTo>
                  <a:cubicBezTo>
                    <a:pt x="90488" y="218122"/>
                    <a:pt x="90488" y="219075"/>
                    <a:pt x="89535" y="219075"/>
                  </a:cubicBezTo>
                  <a:lnTo>
                    <a:pt x="30480" y="258127"/>
                  </a:lnTo>
                  <a:lnTo>
                    <a:pt x="163830" y="423863"/>
                  </a:lnTo>
                  <a:lnTo>
                    <a:pt x="409575" y="293370"/>
                  </a:lnTo>
                  <a:lnTo>
                    <a:pt x="371475" y="234315"/>
                  </a:lnTo>
                  <a:cubicBezTo>
                    <a:pt x="371475" y="233363"/>
                    <a:pt x="370523" y="232410"/>
                    <a:pt x="371475" y="232410"/>
                  </a:cubicBezTo>
                  <a:cubicBezTo>
                    <a:pt x="371475" y="231458"/>
                    <a:pt x="372428" y="231458"/>
                    <a:pt x="373380" y="231458"/>
                  </a:cubicBezTo>
                  <a:lnTo>
                    <a:pt x="475298" y="217170"/>
                  </a:lnTo>
                  <a:lnTo>
                    <a:pt x="521970" y="1905"/>
                  </a:lnTo>
                  <a:cubicBezTo>
                    <a:pt x="521970" y="952"/>
                    <a:pt x="523875" y="0"/>
                    <a:pt x="524828" y="0"/>
                  </a:cubicBezTo>
                  <a:cubicBezTo>
                    <a:pt x="525780" y="0"/>
                    <a:pt x="526733" y="1905"/>
                    <a:pt x="526733" y="2857"/>
                  </a:cubicBezTo>
                  <a:lnTo>
                    <a:pt x="480060" y="219075"/>
                  </a:lnTo>
                  <a:cubicBezTo>
                    <a:pt x="480060" y="220027"/>
                    <a:pt x="479108" y="220980"/>
                    <a:pt x="478155" y="220980"/>
                  </a:cubicBezTo>
                  <a:lnTo>
                    <a:pt x="378142" y="235267"/>
                  </a:lnTo>
                  <a:lnTo>
                    <a:pt x="416242" y="293370"/>
                  </a:lnTo>
                  <a:cubicBezTo>
                    <a:pt x="416242" y="294322"/>
                    <a:pt x="416242" y="294322"/>
                    <a:pt x="416242" y="295275"/>
                  </a:cubicBezTo>
                  <a:cubicBezTo>
                    <a:pt x="416242" y="296227"/>
                    <a:pt x="415290" y="296227"/>
                    <a:pt x="415290" y="297180"/>
                  </a:cubicBezTo>
                  <a:lnTo>
                    <a:pt x="164783" y="429577"/>
                  </a:lnTo>
                  <a:cubicBezTo>
                    <a:pt x="164783" y="429577"/>
                    <a:pt x="164783" y="429577"/>
                    <a:pt x="163830" y="429577"/>
                  </a:cubicBezTo>
                  <a:close/>
                </a:path>
              </a:pathLst>
            </a:custGeom>
            <a:solidFill>
              <a:srgbClr val="9c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3" name="Rectangle 1" descr=""/>
          <p:cNvPicPr/>
          <p:nvPr/>
        </p:nvPicPr>
        <p:blipFill>
          <a:blip r:embed="rId2"/>
          <a:stretch/>
        </p:blipFill>
        <p:spPr>
          <a:xfrm>
            <a:off x="495360" y="1625760"/>
            <a:ext cx="48132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5"/>
          <p:cNvGrpSpPr/>
          <p:nvPr/>
        </p:nvGrpSpPr>
        <p:grpSpPr>
          <a:xfrm>
            <a:off x="4973760" y="1751040"/>
            <a:ext cx="2835000" cy="3375000"/>
            <a:chOff x="4973760" y="1751040"/>
            <a:chExt cx="2835000" cy="3375000"/>
          </a:xfrm>
        </p:grpSpPr>
        <p:grpSp>
          <p:nvGrpSpPr>
            <p:cNvPr id="795" name="Group 21"/>
            <p:cNvGrpSpPr/>
            <p:nvPr/>
          </p:nvGrpSpPr>
          <p:grpSpPr>
            <a:xfrm>
              <a:off x="5340240" y="2658240"/>
              <a:ext cx="2468520" cy="2467800"/>
              <a:chOff x="5340240" y="2658240"/>
              <a:chExt cx="2468520" cy="2467800"/>
            </a:xfrm>
          </p:grpSpPr>
          <p:grpSp>
            <p:nvGrpSpPr>
              <p:cNvPr id="796" name="Block Arc 1"/>
              <p:cNvGrpSpPr/>
              <p:nvPr/>
            </p:nvGrpSpPr>
            <p:grpSpPr>
              <a:xfrm>
                <a:off x="5340240" y="2678760"/>
                <a:ext cx="2468520" cy="2015640"/>
                <a:chOff x="5340240" y="2678760"/>
                <a:chExt cx="2468520" cy="2015640"/>
              </a:xfrm>
            </p:grpSpPr>
            <p:pic>
              <p:nvPicPr>
                <p:cNvPr id="797" name="Block Arc 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40240" y="2678760"/>
                  <a:ext cx="2468520" cy="20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8" name=""/>
                <p:cNvSpPr/>
                <p:nvPr/>
              </p:nvSpPr>
              <p:spPr>
                <a:xfrm>
                  <a:off x="5346360" y="2684880"/>
                  <a:ext cx="2460960" cy="19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99" name="Freeform 18"/>
              <p:cNvGrpSpPr/>
              <p:nvPr/>
            </p:nvGrpSpPr>
            <p:grpSpPr>
              <a:xfrm>
                <a:off x="5833800" y="3562920"/>
                <a:ext cx="1025280" cy="1563120"/>
                <a:chOff x="5833800" y="3562920"/>
                <a:chExt cx="1025280" cy="1563120"/>
              </a:xfrm>
            </p:grpSpPr>
            <p:pic>
              <p:nvPicPr>
                <p:cNvPr id="800" name="Freeform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3800" y="3562920"/>
                  <a:ext cx="102528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1" name=""/>
                <p:cNvSpPr/>
                <p:nvPr/>
              </p:nvSpPr>
              <p:spPr>
                <a:xfrm>
                  <a:off x="5843520" y="3574800"/>
                  <a:ext cx="1006560" cy="155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02" name="Block Arc 3"/>
              <p:cNvGrpSpPr/>
              <p:nvPr/>
            </p:nvGrpSpPr>
            <p:grpSpPr>
              <a:xfrm>
                <a:off x="6239160" y="2658240"/>
                <a:ext cx="1569600" cy="2036160"/>
                <a:chOff x="6239160" y="2658240"/>
                <a:chExt cx="1569600" cy="2036160"/>
              </a:xfrm>
            </p:grpSpPr>
            <p:pic>
              <p:nvPicPr>
                <p:cNvPr id="803" name="Block Arc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39160" y="2658240"/>
                  <a:ext cx="1569600" cy="20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245280" y="2684880"/>
                  <a:ext cx="1561680" cy="19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05" name="TextBox 26"/>
            <p:cNvSpPr/>
            <p:nvPr/>
          </p:nvSpPr>
          <p:spPr>
            <a:xfrm>
              <a:off x="4973760" y="4400280"/>
              <a:ext cx="279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nagerial estimat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TextBox 29"/>
            <p:cNvSpPr/>
            <p:nvPr/>
          </p:nvSpPr>
          <p:spPr>
            <a:xfrm>
              <a:off x="5599800" y="1751040"/>
              <a:ext cx="19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Arial"/>
                  <a:ea typeface="Arial"/>
                </a:rPr>
                <a:t>Qualitative Approach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6"/>
          <p:cNvGrpSpPr/>
          <p:nvPr/>
        </p:nvGrpSpPr>
        <p:grpSpPr>
          <a:xfrm>
            <a:off x="1295280" y="1751040"/>
            <a:ext cx="2468520" cy="3567240"/>
            <a:chOff x="1295280" y="1751040"/>
            <a:chExt cx="2468520" cy="3567240"/>
          </a:xfrm>
        </p:grpSpPr>
        <p:grpSp>
          <p:nvGrpSpPr>
            <p:cNvPr id="808" name="Group 22"/>
            <p:cNvGrpSpPr/>
            <p:nvPr/>
          </p:nvGrpSpPr>
          <p:grpSpPr>
            <a:xfrm>
              <a:off x="1295280" y="2658600"/>
              <a:ext cx="2468520" cy="2494440"/>
              <a:chOff x="1295280" y="2658600"/>
              <a:chExt cx="2468520" cy="2494440"/>
            </a:xfrm>
          </p:grpSpPr>
          <p:grpSp>
            <p:nvGrpSpPr>
              <p:cNvPr id="809" name="Block Arc 7"/>
              <p:cNvGrpSpPr/>
              <p:nvPr/>
            </p:nvGrpSpPr>
            <p:grpSpPr>
              <a:xfrm>
                <a:off x="1295280" y="2658600"/>
                <a:ext cx="2468520" cy="2016000"/>
                <a:chOff x="1295280" y="2658600"/>
                <a:chExt cx="2468520" cy="2016000"/>
              </a:xfrm>
            </p:grpSpPr>
            <p:pic>
              <p:nvPicPr>
                <p:cNvPr id="810" name="Block Arc 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95280" y="2658600"/>
                  <a:ext cx="2468520" cy="20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1" name=""/>
                <p:cNvSpPr/>
                <p:nvPr/>
              </p:nvSpPr>
              <p:spPr>
                <a:xfrm>
                  <a:off x="1295280" y="2665440"/>
                  <a:ext cx="2460960" cy="19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2" name="Block Arc 9"/>
              <p:cNvGrpSpPr/>
              <p:nvPr/>
            </p:nvGrpSpPr>
            <p:grpSpPr>
              <a:xfrm>
                <a:off x="2548440" y="2658600"/>
                <a:ext cx="1215360" cy="2016000"/>
                <a:chOff x="2548440" y="2658600"/>
                <a:chExt cx="1215360" cy="2016000"/>
              </a:xfrm>
            </p:grpSpPr>
            <p:pic>
              <p:nvPicPr>
                <p:cNvPr id="813" name="Block Arc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48440" y="2658600"/>
                  <a:ext cx="1215360" cy="20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4" name=""/>
                <p:cNvSpPr/>
                <p:nvPr/>
              </p:nvSpPr>
              <p:spPr>
                <a:xfrm>
                  <a:off x="2554560" y="2667600"/>
                  <a:ext cx="1201320" cy="19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5" name="Freeform 19"/>
              <p:cNvGrpSpPr/>
              <p:nvPr/>
            </p:nvGrpSpPr>
            <p:grpSpPr>
              <a:xfrm>
                <a:off x="1883160" y="3043440"/>
                <a:ext cx="1121040" cy="2109600"/>
                <a:chOff x="1883160" y="3043440"/>
                <a:chExt cx="1121040" cy="2109600"/>
              </a:xfrm>
            </p:grpSpPr>
            <p:pic>
              <p:nvPicPr>
                <p:cNvPr id="816" name="Freeform 1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48200" y="3099600"/>
                  <a:ext cx="553680" cy="201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"/>
                <p:cNvSpPr/>
                <p:nvPr/>
              </p:nvSpPr>
              <p:spPr>
                <a:xfrm rot="20499000">
                  <a:off x="2194200" y="3069360"/>
                  <a:ext cx="498600" cy="20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18" name="TextBox 27"/>
            <p:cNvSpPr/>
            <p:nvPr/>
          </p:nvSpPr>
          <p:spPr>
            <a:xfrm>
              <a:off x="1334520" y="4401360"/>
              <a:ext cx="239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end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tio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catter plo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TextBox 30"/>
            <p:cNvSpPr/>
            <p:nvPr/>
          </p:nvSpPr>
          <p:spPr>
            <a:xfrm>
              <a:off x="1493640" y="1751040"/>
              <a:ext cx="19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9bd5"/>
                  </a:solidFill>
                  <a:latin typeface="Arial"/>
                  <a:ea typeface="Arial"/>
                </a:rPr>
                <a:t>Quantitative Approach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ep 1: Forecasting Dema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Rectangle 8" descr=""/>
          <p:cNvPicPr/>
          <p:nvPr/>
        </p:nvPicPr>
        <p:blipFill>
          <a:blip r:embed="rId7"/>
          <a:stretch/>
        </p:blipFill>
        <p:spPr>
          <a:xfrm>
            <a:off x="3162240" y="4863960"/>
            <a:ext cx="400068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heck your Answ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05"/>
          <p:cNvGrpSpPr/>
          <p:nvPr/>
        </p:nvGrpSpPr>
        <p:grpSpPr>
          <a:xfrm>
            <a:off x="-230400" y="1143720"/>
            <a:ext cx="4129920" cy="3806640"/>
            <a:chOff x="-230400" y="1143720"/>
            <a:chExt cx="4129920" cy="3806640"/>
          </a:xfrm>
        </p:grpSpPr>
        <p:grpSp>
          <p:nvGrpSpPr>
            <p:cNvPr id="824" name="Group 33"/>
            <p:cNvGrpSpPr/>
            <p:nvPr/>
          </p:nvGrpSpPr>
          <p:grpSpPr>
            <a:xfrm>
              <a:off x="-230400" y="1143720"/>
              <a:ext cx="4129920" cy="3806640"/>
              <a:chOff x="-230400" y="1143720"/>
              <a:chExt cx="4129920" cy="3806640"/>
            </a:xfrm>
          </p:grpSpPr>
          <p:sp>
            <p:nvSpPr>
              <p:cNvPr id="825" name="Rectangle 10"/>
              <p:cNvSpPr/>
              <p:nvPr/>
            </p:nvSpPr>
            <p:spPr>
              <a:xfrm rot="297000">
                <a:off x="-86760" y="1302840"/>
                <a:ext cx="3843360" cy="34880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Rectangle 11"/>
              <p:cNvSpPr/>
              <p:nvPr/>
            </p:nvSpPr>
            <p:spPr>
              <a:xfrm>
                <a:off x="-104760" y="1307880"/>
                <a:ext cx="3843360" cy="348804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f2f2f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7" name="Group 15"/>
            <p:cNvGrpSpPr/>
            <p:nvPr/>
          </p:nvGrpSpPr>
          <p:grpSpPr>
            <a:xfrm>
              <a:off x="301320" y="1778400"/>
              <a:ext cx="3279240" cy="2513160"/>
              <a:chOff x="301320" y="1778400"/>
              <a:chExt cx="3279240" cy="2513160"/>
            </a:xfrm>
          </p:grpSpPr>
          <p:grpSp>
            <p:nvGrpSpPr>
              <p:cNvPr id="828" name="Group 109"/>
              <p:cNvGrpSpPr/>
              <p:nvPr/>
            </p:nvGrpSpPr>
            <p:grpSpPr>
              <a:xfrm>
                <a:off x="301320" y="1778400"/>
                <a:ext cx="550080" cy="2436480"/>
                <a:chOff x="301320" y="1778400"/>
                <a:chExt cx="550080" cy="2436480"/>
              </a:xfrm>
            </p:grpSpPr>
            <p:grpSp>
              <p:nvGrpSpPr>
                <p:cNvPr id="829" name="Group 85"/>
                <p:cNvGrpSpPr/>
                <p:nvPr/>
              </p:nvGrpSpPr>
              <p:grpSpPr>
                <a:xfrm>
                  <a:off x="301320" y="1778400"/>
                  <a:ext cx="550080" cy="464400"/>
                  <a:chOff x="301320" y="1778400"/>
                  <a:chExt cx="550080" cy="464400"/>
                </a:xfrm>
              </p:grpSpPr>
              <p:sp>
                <p:nvSpPr>
                  <p:cNvPr id="830" name="Rounded Rectangle 39"/>
                  <p:cNvSpPr/>
                  <p:nvPr/>
                </p:nvSpPr>
                <p:spPr>
                  <a:xfrm>
                    <a:off x="301320" y="1778400"/>
                    <a:ext cx="550080" cy="46440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c5e0b4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31" name="Rounded Rectangle 40"/>
                  <p:cNvGrpSpPr/>
                  <p:nvPr/>
                </p:nvGrpSpPr>
                <p:grpSpPr>
                  <a:xfrm>
                    <a:off x="329760" y="1803600"/>
                    <a:ext cx="482040" cy="405720"/>
                    <a:chOff x="329760" y="1803600"/>
                    <a:chExt cx="482040" cy="405720"/>
                  </a:xfrm>
                </p:grpSpPr>
                <p:pic>
                  <p:nvPicPr>
                    <p:cNvPr id="832" name="Rounded Rectangle 40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329760" y="1803600"/>
                      <a:ext cx="48204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364320" y="1835640"/>
                      <a:ext cx="423360" cy="350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34" name="Group 90"/>
                <p:cNvGrpSpPr/>
                <p:nvPr/>
              </p:nvGrpSpPr>
              <p:grpSpPr>
                <a:xfrm>
                  <a:off x="301320" y="2435760"/>
                  <a:ext cx="550080" cy="464400"/>
                  <a:chOff x="301320" y="2435760"/>
                  <a:chExt cx="550080" cy="464400"/>
                </a:xfrm>
              </p:grpSpPr>
              <p:sp>
                <p:nvSpPr>
                  <p:cNvPr id="835" name="Rounded Rectangle 35"/>
                  <p:cNvSpPr/>
                  <p:nvPr/>
                </p:nvSpPr>
                <p:spPr>
                  <a:xfrm>
                    <a:off x="301320" y="2435760"/>
                    <a:ext cx="550080" cy="46440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36" name="Rounded Rectangle 36"/>
                  <p:cNvGrpSpPr/>
                  <p:nvPr/>
                </p:nvGrpSpPr>
                <p:grpSpPr>
                  <a:xfrm>
                    <a:off x="329760" y="2468520"/>
                    <a:ext cx="482040" cy="401760"/>
                    <a:chOff x="329760" y="2468520"/>
                    <a:chExt cx="482040" cy="401760"/>
                  </a:xfrm>
                </p:grpSpPr>
                <p:pic>
                  <p:nvPicPr>
                    <p:cNvPr id="837" name="Rounded Rectangle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760" y="2468520"/>
                      <a:ext cx="4820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364320" y="2497320"/>
                      <a:ext cx="423360" cy="346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39" name="Group 95"/>
                <p:cNvGrpSpPr/>
                <p:nvPr/>
              </p:nvGrpSpPr>
              <p:grpSpPr>
                <a:xfrm>
                  <a:off x="301320" y="3093120"/>
                  <a:ext cx="550080" cy="464400"/>
                  <a:chOff x="301320" y="3093120"/>
                  <a:chExt cx="550080" cy="464400"/>
                </a:xfrm>
              </p:grpSpPr>
              <p:sp>
                <p:nvSpPr>
                  <p:cNvPr id="840" name="Rounded Rectangle 31"/>
                  <p:cNvSpPr/>
                  <p:nvPr/>
                </p:nvSpPr>
                <p:spPr>
                  <a:xfrm>
                    <a:off x="301320" y="3093120"/>
                    <a:ext cx="550080" cy="46440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41" name="Rounded Rectangle 32"/>
                  <p:cNvGrpSpPr/>
                  <p:nvPr/>
                </p:nvGrpSpPr>
                <p:grpSpPr>
                  <a:xfrm>
                    <a:off x="329760" y="3129120"/>
                    <a:ext cx="482040" cy="401760"/>
                    <a:chOff x="329760" y="3129120"/>
                    <a:chExt cx="482040" cy="401760"/>
                  </a:xfrm>
                </p:grpSpPr>
                <p:pic>
                  <p:nvPicPr>
                    <p:cNvPr id="842" name="Rounded Rectangle 3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9760" y="3129120"/>
                      <a:ext cx="4820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64320" y="3154680"/>
                      <a:ext cx="423360" cy="346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44" name="Group 100"/>
                <p:cNvGrpSpPr/>
                <p:nvPr/>
              </p:nvGrpSpPr>
              <p:grpSpPr>
                <a:xfrm>
                  <a:off x="301320" y="3750480"/>
                  <a:ext cx="550080" cy="464400"/>
                  <a:chOff x="301320" y="3750480"/>
                  <a:chExt cx="550080" cy="464400"/>
                </a:xfrm>
              </p:grpSpPr>
              <p:sp>
                <p:nvSpPr>
                  <p:cNvPr id="845" name="Rounded Rectangle 27"/>
                  <p:cNvSpPr/>
                  <p:nvPr/>
                </p:nvSpPr>
                <p:spPr>
                  <a:xfrm>
                    <a:off x="301320" y="3750480"/>
                    <a:ext cx="550080" cy="46440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46" name="Rounded Rectangle 28"/>
                  <p:cNvGrpSpPr/>
                  <p:nvPr/>
                </p:nvGrpSpPr>
                <p:grpSpPr>
                  <a:xfrm>
                    <a:off x="329760" y="3789720"/>
                    <a:ext cx="482040" cy="401760"/>
                    <a:chOff x="329760" y="3789720"/>
                    <a:chExt cx="482040" cy="401760"/>
                  </a:xfrm>
                </p:grpSpPr>
                <p:pic>
                  <p:nvPicPr>
                    <p:cNvPr id="847" name="Rounded Rectangle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9760" y="3789720"/>
                      <a:ext cx="4820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364320" y="3812400"/>
                      <a:ext cx="423360" cy="346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849" name="TextBox 17"/>
              <p:cNvSpPr/>
              <p:nvPr/>
            </p:nvSpPr>
            <p:spPr>
              <a:xfrm flipH="1">
                <a:off x="914400" y="1789560"/>
                <a:ext cx="24339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at are our key business goals and objectives for the next two years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TextBox 18"/>
              <p:cNvSpPr/>
              <p:nvPr/>
            </p:nvSpPr>
            <p:spPr>
              <a:xfrm flipH="1">
                <a:off x="915120" y="2446560"/>
                <a:ext cx="266544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at are our three greatest organizational strengths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TextBox 19"/>
              <p:cNvSpPr/>
              <p:nvPr/>
            </p:nvSpPr>
            <p:spPr>
              <a:xfrm flipH="1">
                <a:off x="914400" y="3103200"/>
                <a:ext cx="24339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at are the three to five core capabilities we must have to win in our markets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TextBox 20"/>
              <p:cNvSpPr/>
              <p:nvPr/>
            </p:nvSpPr>
            <p:spPr>
              <a:xfrm flipH="1">
                <a:off x="914400" y="3760200"/>
                <a:ext cx="24339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at types of skills and positions will be required? No longer needed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3" name="Group 104"/>
          <p:cNvGrpSpPr/>
          <p:nvPr/>
        </p:nvGrpSpPr>
        <p:grpSpPr>
          <a:xfrm>
            <a:off x="3077280" y="3224520"/>
            <a:ext cx="4988880" cy="3879360"/>
            <a:chOff x="3077280" y="3224520"/>
            <a:chExt cx="4988880" cy="3879360"/>
          </a:xfrm>
        </p:grpSpPr>
        <p:grpSp>
          <p:nvGrpSpPr>
            <p:cNvPr id="854" name="Group 36"/>
            <p:cNvGrpSpPr/>
            <p:nvPr/>
          </p:nvGrpSpPr>
          <p:grpSpPr>
            <a:xfrm>
              <a:off x="3077280" y="3224520"/>
              <a:ext cx="4988880" cy="3879360"/>
              <a:chOff x="3077280" y="3224520"/>
              <a:chExt cx="4988880" cy="3879360"/>
            </a:xfrm>
          </p:grpSpPr>
          <p:sp>
            <p:nvSpPr>
              <p:cNvPr id="855" name="Rectangle 102"/>
              <p:cNvSpPr/>
              <p:nvPr/>
            </p:nvSpPr>
            <p:spPr>
              <a:xfrm rot="297000">
                <a:off x="3218760" y="3420720"/>
                <a:ext cx="4705560" cy="3486240"/>
              </a:xfrm>
              <a:prstGeom prst="rect">
                <a:avLst/>
              </a:prstGeom>
              <a:solidFill>
                <a:srgbClr val="44546a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103"/>
              <p:cNvSpPr/>
              <p:nvPr/>
            </p:nvSpPr>
            <p:spPr>
              <a:xfrm>
                <a:off x="3197160" y="3425760"/>
                <a:ext cx="4705560" cy="3486240"/>
              </a:xfrm>
              <a:prstGeom prst="rect">
                <a:avLst/>
              </a:prstGeom>
              <a:gradFill rotWithShape="0">
                <a:gsLst>
                  <a:gs pos="0">
                    <a:srgbClr val="222d3c"/>
                  </a:gs>
                  <a:gs pos="100000">
                    <a:srgbClr val="41546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7" name="Group 15"/>
            <p:cNvGrpSpPr/>
            <p:nvPr/>
          </p:nvGrpSpPr>
          <p:grpSpPr>
            <a:xfrm>
              <a:off x="3694680" y="3896280"/>
              <a:ext cx="3980160" cy="2512440"/>
              <a:chOff x="3694680" y="3896280"/>
              <a:chExt cx="3980160" cy="2512440"/>
            </a:xfrm>
          </p:grpSpPr>
          <p:grpSp>
            <p:nvGrpSpPr>
              <p:cNvPr id="858" name="Group 109"/>
              <p:cNvGrpSpPr/>
              <p:nvPr/>
            </p:nvGrpSpPr>
            <p:grpSpPr>
              <a:xfrm>
                <a:off x="3694680" y="3896280"/>
                <a:ext cx="673560" cy="2435400"/>
                <a:chOff x="3694680" y="3896280"/>
                <a:chExt cx="673560" cy="2435400"/>
              </a:xfrm>
            </p:grpSpPr>
            <p:grpSp>
              <p:nvGrpSpPr>
                <p:cNvPr id="859" name="Group 85"/>
                <p:cNvGrpSpPr/>
                <p:nvPr/>
              </p:nvGrpSpPr>
              <p:grpSpPr>
                <a:xfrm>
                  <a:off x="3694680" y="3896280"/>
                  <a:ext cx="673560" cy="464040"/>
                  <a:chOff x="3694680" y="3896280"/>
                  <a:chExt cx="673560" cy="464040"/>
                </a:xfrm>
              </p:grpSpPr>
              <p:sp>
                <p:nvSpPr>
                  <p:cNvPr id="860" name="Rounded Rectangle 93"/>
                  <p:cNvSpPr/>
                  <p:nvPr/>
                </p:nvSpPr>
                <p:spPr>
                  <a:xfrm>
                    <a:off x="3694680" y="3896280"/>
                    <a:ext cx="673560" cy="46404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c5e0b4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61" name="Rounded Rectangle 94"/>
                  <p:cNvGrpSpPr/>
                  <p:nvPr/>
                </p:nvGrpSpPr>
                <p:grpSpPr>
                  <a:xfrm>
                    <a:off x="3734640" y="3924720"/>
                    <a:ext cx="588960" cy="405720"/>
                    <a:chOff x="3734640" y="3924720"/>
                    <a:chExt cx="588960" cy="405720"/>
                  </a:xfrm>
                </p:grpSpPr>
                <p:pic>
                  <p:nvPicPr>
                    <p:cNvPr id="862" name="Rounded Rectangle 9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4640" y="3924720"/>
                      <a:ext cx="58896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3768120" y="3953520"/>
                      <a:ext cx="533160" cy="34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64" name="Group 90"/>
                <p:cNvGrpSpPr/>
                <p:nvPr/>
              </p:nvGrpSpPr>
              <p:grpSpPr>
                <a:xfrm>
                  <a:off x="3694680" y="4553280"/>
                  <a:ext cx="673560" cy="464040"/>
                  <a:chOff x="3694680" y="4553280"/>
                  <a:chExt cx="673560" cy="464040"/>
                </a:xfrm>
              </p:grpSpPr>
              <p:sp>
                <p:nvSpPr>
                  <p:cNvPr id="865" name="Rounded Rectangle 89"/>
                  <p:cNvSpPr/>
                  <p:nvPr/>
                </p:nvSpPr>
                <p:spPr>
                  <a:xfrm>
                    <a:off x="3694680" y="4553280"/>
                    <a:ext cx="673560" cy="46404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66" name="Rounded Rectangle 90"/>
                  <p:cNvGrpSpPr/>
                  <p:nvPr/>
                </p:nvGrpSpPr>
                <p:grpSpPr>
                  <a:xfrm>
                    <a:off x="3734640" y="4584960"/>
                    <a:ext cx="588960" cy="405720"/>
                    <a:chOff x="3734640" y="4584960"/>
                    <a:chExt cx="588960" cy="405720"/>
                  </a:xfrm>
                </p:grpSpPr>
                <p:pic>
                  <p:nvPicPr>
                    <p:cNvPr id="867" name="Rounded Rectangle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4640" y="4584960"/>
                      <a:ext cx="58896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3768120" y="4610160"/>
                      <a:ext cx="533160" cy="34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69" name="Group 95"/>
                <p:cNvGrpSpPr/>
                <p:nvPr/>
              </p:nvGrpSpPr>
              <p:grpSpPr>
                <a:xfrm>
                  <a:off x="3694680" y="5210280"/>
                  <a:ext cx="673560" cy="464040"/>
                  <a:chOff x="3694680" y="5210280"/>
                  <a:chExt cx="673560" cy="464040"/>
                </a:xfrm>
              </p:grpSpPr>
              <p:sp>
                <p:nvSpPr>
                  <p:cNvPr id="870" name="Rounded Rectangle 85"/>
                  <p:cNvSpPr/>
                  <p:nvPr/>
                </p:nvSpPr>
                <p:spPr>
                  <a:xfrm>
                    <a:off x="3694680" y="5210280"/>
                    <a:ext cx="673560" cy="46404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71" name="Rounded Rectangle 86"/>
                  <p:cNvGrpSpPr/>
                  <p:nvPr/>
                </p:nvGrpSpPr>
                <p:grpSpPr>
                  <a:xfrm>
                    <a:off x="3734640" y="5232240"/>
                    <a:ext cx="588960" cy="414000"/>
                    <a:chOff x="3734640" y="5232240"/>
                    <a:chExt cx="588960" cy="414000"/>
                  </a:xfrm>
                </p:grpSpPr>
                <p:pic>
                  <p:nvPicPr>
                    <p:cNvPr id="872" name="Rounded Rectangle 8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34640" y="5232240"/>
                      <a:ext cx="5889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3768120" y="5266440"/>
                      <a:ext cx="533160" cy="34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74" name="Group 100"/>
                <p:cNvGrpSpPr/>
                <p:nvPr/>
              </p:nvGrpSpPr>
              <p:grpSpPr>
                <a:xfrm>
                  <a:off x="3694680" y="5867640"/>
                  <a:ext cx="673560" cy="464040"/>
                  <a:chOff x="3694680" y="5867640"/>
                  <a:chExt cx="673560" cy="464040"/>
                </a:xfrm>
              </p:grpSpPr>
              <p:sp>
                <p:nvSpPr>
                  <p:cNvPr id="875" name="Rounded Rectangle 81"/>
                  <p:cNvSpPr/>
                  <p:nvPr/>
                </p:nvSpPr>
                <p:spPr>
                  <a:xfrm>
                    <a:off x="3694680" y="5867640"/>
                    <a:ext cx="673560" cy="464040"/>
                  </a:xfrm>
                  <a:prstGeom prst="roundRect">
                    <a:avLst>
                      <a:gd name="adj" fmla="val 19375"/>
                    </a:avLst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d9d9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76" name="Rounded Rectangle 82"/>
                  <p:cNvGrpSpPr/>
                  <p:nvPr/>
                </p:nvGrpSpPr>
                <p:grpSpPr>
                  <a:xfrm>
                    <a:off x="3734640" y="5892480"/>
                    <a:ext cx="588960" cy="401400"/>
                    <a:chOff x="3734640" y="5892480"/>
                    <a:chExt cx="588960" cy="401400"/>
                  </a:xfrm>
                </p:grpSpPr>
                <p:pic>
                  <p:nvPicPr>
                    <p:cNvPr id="877" name="Rounded Rectangle 8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4640" y="5892480"/>
                      <a:ext cx="5889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3768120" y="5923440"/>
                      <a:ext cx="533160" cy="34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879" name="TextBox 71"/>
              <p:cNvSpPr/>
              <p:nvPr/>
            </p:nvSpPr>
            <p:spPr>
              <a:xfrm flipH="1">
                <a:off x="4446360" y="3907440"/>
                <a:ext cx="30535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What are our competitors’ organizational strengths? How do we compare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TextBox 72"/>
              <p:cNvSpPr/>
              <p:nvPr/>
            </p:nvSpPr>
            <p:spPr>
              <a:xfrm flipH="1">
                <a:off x="4446360" y="4564080"/>
                <a:ext cx="31788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What are the top three priorities we must execute to reach our goals in the next six to 12 months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TextBox 73"/>
              <p:cNvSpPr/>
              <p:nvPr/>
            </p:nvSpPr>
            <p:spPr>
              <a:xfrm flipH="1">
                <a:off x="4445640" y="5220720"/>
                <a:ext cx="32288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What skills should we develop internally versus acquire externally (outsourcing, leased workers, hire)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TextBox 74"/>
              <p:cNvSpPr/>
              <p:nvPr/>
            </p:nvSpPr>
            <p:spPr>
              <a:xfrm flipH="1">
                <a:off x="4445640" y="5877360"/>
                <a:ext cx="298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What recognition/rewards are needed to encourage and sustain desired employee behavior?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" name="Group 33"/>
          <p:cNvGrpSpPr/>
          <p:nvPr/>
        </p:nvGrpSpPr>
        <p:grpSpPr>
          <a:xfrm>
            <a:off x="5036760" y="1102320"/>
            <a:ext cx="4034520" cy="2701440"/>
            <a:chOff x="5036760" y="1102320"/>
            <a:chExt cx="4034520" cy="2701440"/>
          </a:xfrm>
        </p:grpSpPr>
        <p:sp>
          <p:nvSpPr>
            <p:cNvPr id="884" name="Rectangle 124"/>
            <p:cNvSpPr/>
            <p:nvPr/>
          </p:nvSpPr>
          <p:spPr>
            <a:xfrm rot="297000">
              <a:off x="5132160" y="1263600"/>
              <a:ext cx="3843720" cy="237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Rectangle 125"/>
            <p:cNvSpPr/>
            <p:nvPr/>
          </p:nvSpPr>
          <p:spPr>
            <a:xfrm>
              <a:off x="5114880" y="1266480"/>
              <a:ext cx="3843720" cy="23785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6" name="Group 15"/>
          <p:cNvGrpSpPr/>
          <p:nvPr/>
        </p:nvGrpSpPr>
        <p:grpSpPr>
          <a:xfrm>
            <a:off x="5276880" y="1609560"/>
            <a:ext cx="3048120" cy="1778040"/>
            <a:chOff x="5276880" y="1609560"/>
            <a:chExt cx="3048120" cy="1778040"/>
          </a:xfrm>
        </p:grpSpPr>
        <p:grpSp>
          <p:nvGrpSpPr>
            <p:cNvPr id="887" name="Group 109"/>
            <p:cNvGrpSpPr/>
            <p:nvPr/>
          </p:nvGrpSpPr>
          <p:grpSpPr>
            <a:xfrm>
              <a:off x="5276880" y="1609560"/>
              <a:ext cx="550080" cy="1778040"/>
              <a:chOff x="5276880" y="1609560"/>
              <a:chExt cx="550080" cy="1778040"/>
            </a:xfrm>
          </p:grpSpPr>
          <p:grpSp>
            <p:nvGrpSpPr>
              <p:cNvPr id="888" name="Group 85"/>
              <p:cNvGrpSpPr/>
              <p:nvPr/>
            </p:nvGrpSpPr>
            <p:grpSpPr>
              <a:xfrm>
                <a:off x="5276880" y="1609560"/>
                <a:ext cx="550080" cy="464040"/>
                <a:chOff x="5276880" y="1609560"/>
                <a:chExt cx="550080" cy="464040"/>
              </a:xfrm>
            </p:grpSpPr>
            <p:sp>
              <p:nvSpPr>
                <p:cNvPr id="889" name="Rounded Rectangle 122"/>
                <p:cNvSpPr/>
                <p:nvPr/>
              </p:nvSpPr>
              <p:spPr>
                <a:xfrm>
                  <a:off x="5276880" y="1609560"/>
                  <a:ext cx="55008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c5e0b4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90" name="Rounded Rectangle 123"/>
                <p:cNvGrpSpPr/>
                <p:nvPr/>
              </p:nvGrpSpPr>
              <p:grpSpPr>
                <a:xfrm>
                  <a:off x="5308560" y="1638000"/>
                  <a:ext cx="482040" cy="406800"/>
                  <a:chOff x="5308560" y="1638000"/>
                  <a:chExt cx="482040" cy="406800"/>
                </a:xfrm>
              </p:grpSpPr>
              <p:pic>
                <p:nvPicPr>
                  <p:cNvPr id="891" name="Rounded Rectangle 1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08560" y="1638000"/>
                    <a:ext cx="48204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2" name=""/>
                  <p:cNvSpPr/>
                  <p:nvPr/>
                </p:nvSpPr>
                <p:spPr>
                  <a:xfrm>
                    <a:off x="5339880" y="1666080"/>
                    <a:ext cx="423360" cy="35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alibri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93" name="Group 90"/>
              <p:cNvGrpSpPr/>
              <p:nvPr/>
            </p:nvGrpSpPr>
            <p:grpSpPr>
              <a:xfrm>
                <a:off x="5276880" y="2266560"/>
                <a:ext cx="550080" cy="464040"/>
                <a:chOff x="5276880" y="2266560"/>
                <a:chExt cx="550080" cy="464040"/>
              </a:xfrm>
            </p:grpSpPr>
            <p:sp>
              <p:nvSpPr>
                <p:cNvPr id="894" name="Rounded Rectangle 118"/>
                <p:cNvSpPr/>
                <p:nvPr/>
              </p:nvSpPr>
              <p:spPr>
                <a:xfrm>
                  <a:off x="5276880" y="2266560"/>
                  <a:ext cx="55008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d9d9d9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95" name="Rounded Rectangle 119"/>
                <p:cNvGrpSpPr/>
                <p:nvPr/>
              </p:nvGrpSpPr>
              <p:grpSpPr>
                <a:xfrm>
                  <a:off x="5308560" y="2285640"/>
                  <a:ext cx="482040" cy="419760"/>
                  <a:chOff x="5308560" y="2285640"/>
                  <a:chExt cx="482040" cy="419760"/>
                </a:xfrm>
              </p:grpSpPr>
              <p:pic>
                <p:nvPicPr>
                  <p:cNvPr id="896" name="Rounded Rectangle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08560" y="2285640"/>
                    <a:ext cx="482040" cy="4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7" name=""/>
                  <p:cNvSpPr/>
                  <p:nvPr/>
                </p:nvSpPr>
                <p:spPr>
                  <a:xfrm>
                    <a:off x="5339880" y="2323080"/>
                    <a:ext cx="423360" cy="35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alibri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98" name="Group 95"/>
              <p:cNvGrpSpPr/>
              <p:nvPr/>
            </p:nvGrpSpPr>
            <p:grpSpPr>
              <a:xfrm>
                <a:off x="5276880" y="2923560"/>
                <a:ext cx="550080" cy="464040"/>
                <a:chOff x="5276880" y="2923560"/>
                <a:chExt cx="550080" cy="464040"/>
              </a:xfrm>
            </p:grpSpPr>
            <p:sp>
              <p:nvSpPr>
                <p:cNvPr id="899" name="Rounded Rectangle 114"/>
                <p:cNvSpPr/>
                <p:nvPr/>
              </p:nvSpPr>
              <p:spPr>
                <a:xfrm>
                  <a:off x="5276880" y="2923560"/>
                  <a:ext cx="550080" cy="464040"/>
                </a:xfrm>
                <a:prstGeom prst="roundRect">
                  <a:avLst>
                    <a:gd name="adj" fmla="val 19375"/>
                  </a:avLst>
                </a:prstGeom>
                <a:gradFill rotWithShape="0">
                  <a:gsLst>
                    <a:gs pos="0">
                      <a:srgbClr val="d9d9d9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00" name="Rounded Rectangle 115"/>
                <p:cNvGrpSpPr/>
                <p:nvPr/>
              </p:nvGrpSpPr>
              <p:grpSpPr>
                <a:xfrm>
                  <a:off x="5308560" y="2945520"/>
                  <a:ext cx="482040" cy="406800"/>
                  <a:chOff x="5308560" y="2945520"/>
                  <a:chExt cx="482040" cy="406800"/>
                </a:xfrm>
              </p:grpSpPr>
              <p:pic>
                <p:nvPicPr>
                  <p:cNvPr id="901" name="Rounded Rectangle 1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08560" y="2945520"/>
                    <a:ext cx="48204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02" name=""/>
                  <p:cNvSpPr/>
                  <p:nvPr/>
                </p:nvSpPr>
                <p:spPr>
                  <a:xfrm>
                    <a:off x="5339880" y="2979360"/>
                    <a:ext cx="423360" cy="35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alibri"/>
                      </a:rPr>
                      <a:t>1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903" name="TextBox 68"/>
            <p:cNvSpPr/>
            <p:nvPr/>
          </p:nvSpPr>
          <p:spPr>
            <a:xfrm flipH="1">
              <a:off x="5890680" y="1620720"/>
              <a:ext cx="243432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hat are the required knowledge, skills and abilities (KSAs) needed to execute the strategy?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TextBox 95"/>
            <p:cNvSpPr/>
            <p:nvPr/>
          </p:nvSpPr>
          <p:spPr>
            <a:xfrm flipH="1">
              <a:off x="5890680" y="2277360"/>
              <a:ext cx="243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hat are the most critical workforce issues we currently face?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TextBox 97"/>
            <p:cNvSpPr/>
            <p:nvPr/>
          </p:nvSpPr>
          <p:spPr>
            <a:xfrm flipH="1">
              <a:off x="5890680" y="2934000"/>
              <a:ext cx="243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hat actions need to be taken to align resources with priorities?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6" name="Rectangle 9"/>
          <p:cNvSpPr/>
          <p:nvPr/>
        </p:nvSpPr>
        <p:spPr>
          <a:xfrm>
            <a:off x="-20520" y="6573960"/>
            <a:ext cx="27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Sources: Agilent Technologies for The Conference Board, Society for Human Resource Managemen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28240" y="47772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Influences on Employe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8"/>
          <p:cNvGrpSpPr/>
          <p:nvPr/>
        </p:nvGrpSpPr>
        <p:grpSpPr>
          <a:xfrm>
            <a:off x="609480" y="1434960"/>
            <a:ext cx="7162920" cy="4572000"/>
            <a:chOff x="609480" y="1434960"/>
            <a:chExt cx="7162920" cy="4572000"/>
          </a:xfrm>
        </p:grpSpPr>
        <p:sp>
          <p:nvSpPr>
            <p:cNvPr id="909" name="Rectangle 2"/>
            <p:cNvSpPr/>
            <p:nvPr/>
          </p:nvSpPr>
          <p:spPr>
            <a:xfrm>
              <a:off x="609480" y="1434960"/>
              <a:ext cx="358128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Internal Labor Dema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  <a:ea typeface="MS PGothic"/>
                </a:rPr>
                <a:t>(Type and number of open job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Organization’s strategic pla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Org. growth/decline/restructure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Turnover (including retirements)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hanges in technology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Work redesig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Rectangle 3"/>
            <p:cNvSpPr/>
            <p:nvPr/>
          </p:nvSpPr>
          <p:spPr>
            <a:xfrm>
              <a:off x="4190760" y="1434960"/>
              <a:ext cx="358164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Internal Labor Supp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Calibri"/>
                  <a:ea typeface="MS PGothic"/>
                </a:rPr>
                <a:t>(Availability of talent in the company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uccession plann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kill inventory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evelopment program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Technical obsolescence or expertise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Training resource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Rectangle 4"/>
            <p:cNvSpPr/>
            <p:nvPr/>
          </p:nvSpPr>
          <p:spPr>
            <a:xfrm>
              <a:off x="609480" y="3797280"/>
              <a:ext cx="358128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xternal Labor Dema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  <a:ea typeface="MS PGothic"/>
                </a:rPr>
                <a:t>(Type and number of competitors’ opening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New competitors for labor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Growth/contraction in market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emographic trend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hanges in technology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>
              <a:off x="4190760" y="3797280"/>
              <a:ext cx="3581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xternal Labor Supp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Calibri"/>
                </a:rPr>
                <a:t>(Availability of required talent in RLM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levant labor market review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versity of labor source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chnical expertise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vailability of training institution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ealth of economy and industry sector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0T14:33:38Z</dcterms:created>
  <dc:creator>Buhler</dc:creator>
  <dc:description/>
  <cp:keywords/>
  <dc:language>en-US</dc:language>
  <cp:lastModifiedBy>Lori Roth</cp:lastModifiedBy>
  <cp:lastPrinted>2021-01-13T19:53:02Z</cp:lastPrinted>
  <dcterms:modified xsi:type="dcterms:W3CDTF">2021-07-21T16:17:09Z</dcterms:modified>
  <cp:revision>175</cp:revision>
  <dc:subject/>
  <dc:title>FORECASTING HR  DEMAND AND SUPPLY  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UC5APVKEY7YA-445657348-548</vt:lpwstr>
  </property>
  <property fmtid="{D5CDD505-2E9C-101B-9397-08002B2CF9AE}" pid="3" name="_dlc_DocIdItemGuid">
    <vt:lpwstr>05cd955b-2887-40ef-9c68-fc212b50e352</vt:lpwstr>
  </property>
  <property fmtid="{D5CDD505-2E9C-101B-9397-08002B2CF9AE}" pid="4" name="_dlc_DocIdUrl">
    <vt:lpwstr>https://edit.shrm.org/certification/educators/_layouts/15/DocIdRedir.aspx?ID=UC5APVKEY7YA-445657348-548, UC5APVKEY7YA-445657348-548</vt:lpwstr>
  </property>
</Properties>
</file>