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tif" ContentType="image/tiff"/>
  <Override PartName="/ppt/media/image20.tif" ContentType="image/tiff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10B8-B220-4ADC-A752-20EE027DE5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8E26-4D79-4CEB-8EE8-53B07799B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FE28-98B4-4681-99CB-6D4E24865B5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1B02-3053-48CC-8B1B-67FE824532C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016E-E326-4516-8FF9-F947F624A41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B6EA-F050-4C7A-BBC8-969197F332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83C7-8C28-4DD2-ABC7-BC989792DA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CDAF-5E77-4AB1-8CCF-6242818466A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2DCC-DFFE-475D-8092-1786B58A423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8926-5448-4DF8-8CD0-B08D5D61EA0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55F7-530A-471D-A52C-37A0F3854CD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48B1-E7B1-4606-882A-A6DFC501A8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BF08-ADE2-408C-977B-37BB2994B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33440"/>
            <a:ext cx="7886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33440"/>
            <a:ext cx="38487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33440"/>
            <a:ext cx="2539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0" y="271440"/>
            <a:ext cx="50054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271440"/>
            <a:ext cx="357984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b3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5" descr="Icon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Graphical user interface, text&#10;&#10;Description automatically generated"/>
          <p:cNvPicPr/>
          <p:nvPr/>
        </p:nvPicPr>
        <p:blipFill>
          <a:blip r:embed="rId4"/>
          <a:stretch/>
        </p:blipFill>
        <p:spPr>
          <a:xfrm>
            <a:off x="8370720" y="617544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1"/>
          </p:nvPr>
        </p:nvSpPr>
        <p:spPr>
          <a:xfrm>
            <a:off x="480600" y="6335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D00-CFBB-4B27-8998-650A5DBC1D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A picture containing person, crowd&#10;&#10;Description automatically generated"/>
          <p:cNvPicPr/>
          <p:nvPr/>
        </p:nvPicPr>
        <p:blipFill>
          <a:blip r:embed="rId3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n aerial view of a city&#10;&#10;Description automatically generated with low confidence"/>
          <p:cNvPicPr/>
          <p:nvPr/>
        </p:nvPicPr>
        <p:blipFill>
          <a:blip r:embed="rId3"/>
          <a:stretch/>
        </p:blipFill>
        <p:spPr>
          <a:xfrm flipH="1">
            <a:off x="-360" y="0"/>
            <a:ext cx="982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 group of people raising their hands&#10;&#10;Description automatically generate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739800"/>
            <a:ext cx="4457880" cy="3387600"/>
          </a:xfrm>
          <a:prstGeom prst="rect">
            <a:avLst/>
          </a:prstGeom>
          <a:solidFill>
            <a:srgbClr val="1b3c6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Placeholder 7" descr="Graphical user interface, text&#10;&#10;Description automatically generated"/>
          <p:cNvPicPr/>
          <p:nvPr/>
        </p:nvPicPr>
        <p:blipFill>
          <a:blip r:embed="rId4"/>
          <a:srcRect l="-3618" t="-5668" r="-2814" b="-6438"/>
          <a:stretch/>
        </p:blipFill>
        <p:spPr>
          <a:xfrm>
            <a:off x="411120" y="1101600"/>
            <a:ext cx="9162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35488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271440"/>
            <a:ext cx="8271000" cy="766800"/>
          </a:xfrm>
          <a:prstGeom prst="rect">
            <a:avLst/>
          </a:pr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A picture containing text, sign&#10;&#10;Description automatically generated"/>
          <p:cNvPicPr/>
          <p:nvPr/>
        </p:nvPicPr>
        <p:blipFill>
          <a:blip r:embed="rId2"/>
          <a:stretch/>
        </p:blipFill>
        <p:spPr>
          <a:xfrm>
            <a:off x="8377200" y="617688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5"/>
          <p:cNvSpPr/>
          <p:nvPr/>
        </p:nvSpPr>
        <p:spPr>
          <a:xfrm rot="16200000">
            <a:off x="8209800" y="6116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SLIDES 00</a:t>
            </a:r>
            <a:fld id="{22B45703-CADE-4E07-87F3-C7894C367060}" type="slidenum">
              <a:rPr b="0" lang="id-ID" sz="700" spc="-1" strike="noStrike">
                <a:solidFill>
                  <a:srgbClr val="1b3c69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5" descr="A picture containing text, sign&#10;&#10;Description automatically generated"/>
          <p:cNvPicPr/>
          <p:nvPr/>
        </p:nvPicPr>
        <p:blipFill>
          <a:blip r:embed="rId3"/>
          <a:stretch/>
        </p:blipFill>
        <p:spPr>
          <a:xfrm>
            <a:off x="8280360" y="6154560"/>
            <a:ext cx="56520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t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urse1.winona.edu/shatfield/air/classdebate.pdf" TargetMode="External"/><Relationship Id="rId2" Type="http://schemas.openxmlformats.org/officeDocument/2006/relationships/hyperlink" Target="http://course1.winona.edu/shatfield/air/classdebate.pdf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t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58840" y="2879640"/>
            <a:ext cx="433224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11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place Safety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8840" y="2315880"/>
            <a:ext cx="3954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ndergraduate Overview Cour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297000"/>
            <a:ext cx="7886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Perpetrator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gnize Potential for Workplac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Content Placeholder 3" descr="A picture containing person&#10;&#10;Description automatically generated"/>
          <p:cNvPicPr/>
          <p:nvPr/>
        </p:nvPicPr>
        <p:blipFill>
          <a:blip r:embed="rId1"/>
          <a:stretch/>
        </p:blipFill>
        <p:spPr>
          <a:xfrm>
            <a:off x="628560" y="240192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5257440" y="2286000"/>
            <a:ext cx="3886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y anx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re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s “no one listen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1065240"/>
            <a:ext cx="5257800" cy="579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adiness and Preven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42600" y="1430280"/>
            <a:ext cx="23050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office shooting</a:t>
            </a:r>
            <a:br>
              <a:rPr sz="21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138280" y="1406160"/>
            <a:ext cx="38862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 Tech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2590920" y="6116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shington Navy Yard shoo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2324160" y="2179800"/>
            <a:ext cx="4495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35"/>
          <p:cNvGrpSpPr/>
          <p:nvPr/>
        </p:nvGrpSpPr>
        <p:grpSpPr>
          <a:xfrm>
            <a:off x="598320" y="1771560"/>
            <a:ext cx="7947360" cy="4000680"/>
            <a:chOff x="598320" y="1771560"/>
            <a:chExt cx="7947360" cy="4000680"/>
          </a:xfrm>
        </p:grpSpPr>
        <p:sp>
          <p:nvSpPr>
            <p:cNvPr id="656" name="Freeform 6"/>
            <p:cNvSpPr/>
            <p:nvPr/>
          </p:nvSpPr>
          <p:spPr>
            <a:xfrm>
              <a:off x="2116080" y="177768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296" y="0"/>
                  </a:moveTo>
                  <a:lnTo>
                    <a:pt x="331" y="2"/>
                  </a:lnTo>
                  <a:lnTo>
                    <a:pt x="367" y="9"/>
                  </a:lnTo>
                  <a:lnTo>
                    <a:pt x="405" y="23"/>
                  </a:lnTo>
                  <a:lnTo>
                    <a:pt x="444" y="41"/>
                  </a:lnTo>
                  <a:lnTo>
                    <a:pt x="482" y="64"/>
                  </a:lnTo>
                  <a:lnTo>
                    <a:pt x="521" y="91"/>
                  </a:lnTo>
                  <a:lnTo>
                    <a:pt x="560" y="120"/>
                  </a:lnTo>
                  <a:lnTo>
                    <a:pt x="598" y="152"/>
                  </a:lnTo>
                  <a:lnTo>
                    <a:pt x="635" y="186"/>
                  </a:lnTo>
                  <a:lnTo>
                    <a:pt x="670" y="221"/>
                  </a:lnTo>
                  <a:lnTo>
                    <a:pt x="704" y="257"/>
                  </a:lnTo>
                  <a:lnTo>
                    <a:pt x="736" y="293"/>
                  </a:lnTo>
                  <a:lnTo>
                    <a:pt x="764" y="327"/>
                  </a:lnTo>
                  <a:lnTo>
                    <a:pt x="791" y="361"/>
                  </a:lnTo>
                  <a:lnTo>
                    <a:pt x="813" y="392"/>
                  </a:lnTo>
                  <a:lnTo>
                    <a:pt x="640" y="917"/>
                  </a:lnTo>
                  <a:lnTo>
                    <a:pt x="0" y="464"/>
                  </a:lnTo>
                  <a:lnTo>
                    <a:pt x="1" y="460"/>
                  </a:lnTo>
                  <a:lnTo>
                    <a:pt x="4" y="450"/>
                  </a:lnTo>
                  <a:lnTo>
                    <a:pt x="8" y="434"/>
                  </a:lnTo>
                  <a:lnTo>
                    <a:pt x="14" y="411"/>
                  </a:lnTo>
                  <a:lnTo>
                    <a:pt x="21" y="386"/>
                  </a:lnTo>
                  <a:lnTo>
                    <a:pt x="30" y="356"/>
                  </a:lnTo>
                  <a:lnTo>
                    <a:pt x="41" y="323"/>
                  </a:lnTo>
                  <a:lnTo>
                    <a:pt x="54" y="289"/>
                  </a:lnTo>
                  <a:lnTo>
                    <a:pt x="68" y="253"/>
                  </a:lnTo>
                  <a:lnTo>
                    <a:pt x="84" y="216"/>
                  </a:lnTo>
                  <a:lnTo>
                    <a:pt x="102" y="181"/>
                  </a:lnTo>
                  <a:lnTo>
                    <a:pt x="120" y="146"/>
                  </a:lnTo>
                  <a:lnTo>
                    <a:pt x="140" y="113"/>
                  </a:lnTo>
                  <a:lnTo>
                    <a:pt x="162" y="83"/>
                  </a:lnTo>
                  <a:lnTo>
                    <a:pt x="185" y="57"/>
                  </a:lnTo>
                  <a:lnTo>
                    <a:pt x="209" y="34"/>
                  </a:lnTo>
                  <a:lnTo>
                    <a:pt x="236" y="17"/>
                  </a:lnTo>
                  <a:lnTo>
                    <a:pt x="263" y="5"/>
                  </a:lnTo>
                  <a:lnTo>
                    <a:pt x="296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Freeform 8"/>
            <p:cNvGrpSpPr/>
            <p:nvPr/>
          </p:nvGrpSpPr>
          <p:grpSpPr>
            <a:xfrm>
              <a:off x="6070680" y="1777680"/>
              <a:ext cx="977760" cy="1104840"/>
              <a:chOff x="6070680" y="1777680"/>
              <a:chExt cx="977760" cy="1104840"/>
            </a:xfrm>
          </p:grpSpPr>
          <p:pic>
            <p:nvPicPr>
              <p:cNvPr id="658" name="Freeform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070680" y="1778040"/>
                <a:ext cx="977760" cy="110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"/>
              <p:cNvSpPr/>
              <p:nvPr/>
            </p:nvSpPr>
            <p:spPr>
              <a:xfrm>
                <a:off x="6071400" y="1777680"/>
                <a:ext cx="968400" cy="10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0" name="Freeform 10"/>
            <p:cNvSpPr/>
            <p:nvPr/>
          </p:nvSpPr>
          <p:spPr>
            <a:xfrm>
              <a:off x="2103120" y="435456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640" y="0"/>
                  </a:moveTo>
                  <a:lnTo>
                    <a:pt x="813" y="525"/>
                  </a:lnTo>
                  <a:lnTo>
                    <a:pt x="791" y="557"/>
                  </a:lnTo>
                  <a:lnTo>
                    <a:pt x="764" y="590"/>
                  </a:lnTo>
                  <a:lnTo>
                    <a:pt x="736" y="624"/>
                  </a:lnTo>
                  <a:lnTo>
                    <a:pt x="704" y="661"/>
                  </a:lnTo>
                  <a:lnTo>
                    <a:pt x="670" y="696"/>
                  </a:lnTo>
                  <a:lnTo>
                    <a:pt x="635" y="731"/>
                  </a:lnTo>
                  <a:lnTo>
                    <a:pt x="598" y="765"/>
                  </a:lnTo>
                  <a:lnTo>
                    <a:pt x="560" y="798"/>
                  </a:lnTo>
                  <a:lnTo>
                    <a:pt x="521" y="827"/>
                  </a:lnTo>
                  <a:lnTo>
                    <a:pt x="482" y="853"/>
                  </a:lnTo>
                  <a:lnTo>
                    <a:pt x="444" y="877"/>
                  </a:lnTo>
                  <a:lnTo>
                    <a:pt x="405" y="894"/>
                  </a:lnTo>
                  <a:lnTo>
                    <a:pt x="367" y="908"/>
                  </a:lnTo>
                  <a:lnTo>
                    <a:pt x="331" y="916"/>
                  </a:lnTo>
                  <a:lnTo>
                    <a:pt x="296" y="917"/>
                  </a:lnTo>
                  <a:lnTo>
                    <a:pt x="263" y="912"/>
                  </a:lnTo>
                  <a:lnTo>
                    <a:pt x="236" y="901"/>
                  </a:lnTo>
                  <a:lnTo>
                    <a:pt x="209" y="884"/>
                  </a:lnTo>
                  <a:lnTo>
                    <a:pt x="185" y="862"/>
                  </a:lnTo>
                  <a:lnTo>
                    <a:pt x="162" y="835"/>
                  </a:lnTo>
                  <a:lnTo>
                    <a:pt x="140" y="805"/>
                  </a:lnTo>
                  <a:lnTo>
                    <a:pt x="120" y="773"/>
                  </a:lnTo>
                  <a:lnTo>
                    <a:pt x="102" y="737"/>
                  </a:lnTo>
                  <a:lnTo>
                    <a:pt x="84" y="702"/>
                  </a:lnTo>
                  <a:lnTo>
                    <a:pt x="68" y="666"/>
                  </a:lnTo>
                  <a:lnTo>
                    <a:pt x="54" y="629"/>
                  </a:lnTo>
                  <a:lnTo>
                    <a:pt x="41" y="595"/>
                  </a:lnTo>
                  <a:lnTo>
                    <a:pt x="30" y="563"/>
                  </a:lnTo>
                  <a:lnTo>
                    <a:pt x="21" y="533"/>
                  </a:lnTo>
                  <a:lnTo>
                    <a:pt x="14" y="508"/>
                  </a:lnTo>
                  <a:lnTo>
                    <a:pt x="8" y="485"/>
                  </a:lnTo>
                  <a:lnTo>
                    <a:pt x="4" y="469"/>
                  </a:lnTo>
                  <a:lnTo>
                    <a:pt x="1" y="459"/>
                  </a:lnTo>
                  <a:lnTo>
                    <a:pt x="0" y="455"/>
                  </a:lnTo>
                  <a:lnTo>
                    <a:pt x="6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6059520" y="4354560"/>
              <a:ext cx="968400" cy="1092240"/>
            </a:xfrm>
            <a:custGeom>
              <a:avLst/>
              <a:gdLst/>
              <a:ahLst/>
              <a:rect l="l" t="t" r="r" b="b"/>
              <a:pathLst>
                <a:path w="813" h="917">
                  <a:moveTo>
                    <a:pt x="173" y="0"/>
                  </a:moveTo>
                  <a:lnTo>
                    <a:pt x="813" y="455"/>
                  </a:lnTo>
                  <a:lnTo>
                    <a:pt x="812" y="459"/>
                  </a:lnTo>
                  <a:lnTo>
                    <a:pt x="809" y="469"/>
                  </a:lnTo>
                  <a:lnTo>
                    <a:pt x="806" y="485"/>
                  </a:lnTo>
                  <a:lnTo>
                    <a:pt x="799" y="508"/>
                  </a:lnTo>
                  <a:lnTo>
                    <a:pt x="792" y="533"/>
                  </a:lnTo>
                  <a:lnTo>
                    <a:pt x="783" y="563"/>
                  </a:lnTo>
                  <a:lnTo>
                    <a:pt x="772" y="595"/>
                  </a:lnTo>
                  <a:lnTo>
                    <a:pt x="759" y="629"/>
                  </a:lnTo>
                  <a:lnTo>
                    <a:pt x="745" y="666"/>
                  </a:lnTo>
                  <a:lnTo>
                    <a:pt x="729" y="702"/>
                  </a:lnTo>
                  <a:lnTo>
                    <a:pt x="712" y="737"/>
                  </a:lnTo>
                  <a:lnTo>
                    <a:pt x="693" y="773"/>
                  </a:lnTo>
                  <a:lnTo>
                    <a:pt x="673" y="805"/>
                  </a:lnTo>
                  <a:lnTo>
                    <a:pt x="651" y="835"/>
                  </a:lnTo>
                  <a:lnTo>
                    <a:pt x="628" y="862"/>
                  </a:lnTo>
                  <a:lnTo>
                    <a:pt x="604" y="884"/>
                  </a:lnTo>
                  <a:lnTo>
                    <a:pt x="578" y="901"/>
                  </a:lnTo>
                  <a:lnTo>
                    <a:pt x="550" y="912"/>
                  </a:lnTo>
                  <a:lnTo>
                    <a:pt x="517" y="917"/>
                  </a:lnTo>
                  <a:lnTo>
                    <a:pt x="482" y="916"/>
                  </a:lnTo>
                  <a:lnTo>
                    <a:pt x="446" y="908"/>
                  </a:lnTo>
                  <a:lnTo>
                    <a:pt x="408" y="894"/>
                  </a:lnTo>
                  <a:lnTo>
                    <a:pt x="370" y="877"/>
                  </a:lnTo>
                  <a:lnTo>
                    <a:pt x="331" y="853"/>
                  </a:lnTo>
                  <a:lnTo>
                    <a:pt x="292" y="827"/>
                  </a:lnTo>
                  <a:lnTo>
                    <a:pt x="253" y="798"/>
                  </a:lnTo>
                  <a:lnTo>
                    <a:pt x="215" y="765"/>
                  </a:lnTo>
                  <a:lnTo>
                    <a:pt x="178" y="731"/>
                  </a:lnTo>
                  <a:lnTo>
                    <a:pt x="143" y="696"/>
                  </a:lnTo>
                  <a:lnTo>
                    <a:pt x="109" y="661"/>
                  </a:lnTo>
                  <a:lnTo>
                    <a:pt x="78" y="624"/>
                  </a:lnTo>
                  <a:lnTo>
                    <a:pt x="49" y="590"/>
                  </a:lnTo>
                  <a:lnTo>
                    <a:pt x="22" y="557"/>
                  </a:lnTo>
                  <a:lnTo>
                    <a:pt x="0" y="525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a6a6a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17"/>
            <p:cNvSpPr/>
            <p:nvPr/>
          </p:nvSpPr>
          <p:spPr>
            <a:xfrm>
              <a:off x="740880" y="5013360"/>
              <a:ext cx="3488040" cy="277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18"/>
            <p:cNvSpPr/>
            <p:nvPr/>
          </p:nvSpPr>
          <p:spPr>
            <a:xfrm>
              <a:off x="740880" y="1981080"/>
              <a:ext cx="3773520" cy="22212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19"/>
            <p:cNvSpPr/>
            <p:nvPr/>
          </p:nvSpPr>
          <p:spPr>
            <a:xfrm>
              <a:off x="4605480" y="1981080"/>
              <a:ext cx="3773520" cy="22212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0"/>
            <p:cNvSpPr/>
            <p:nvPr/>
          </p:nvSpPr>
          <p:spPr>
            <a:xfrm>
              <a:off x="4930920" y="5013360"/>
              <a:ext cx="3486240" cy="27756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15"/>
            <p:cNvSpPr/>
            <p:nvPr/>
          </p:nvSpPr>
          <p:spPr>
            <a:xfrm>
              <a:off x="598320" y="2112840"/>
              <a:ext cx="7947360" cy="30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4"/>
            <p:cNvGrpSpPr/>
            <p:nvPr/>
          </p:nvGrpSpPr>
          <p:grpSpPr>
            <a:xfrm>
              <a:off x="2316960" y="1771560"/>
              <a:ext cx="4497840" cy="3693600"/>
              <a:chOff x="2316960" y="1771560"/>
              <a:chExt cx="4497840" cy="3693600"/>
            </a:xfrm>
          </p:grpSpPr>
          <p:grpSp>
            <p:nvGrpSpPr>
              <p:cNvPr id="668" name="Freeform 7"/>
              <p:cNvGrpSpPr/>
              <p:nvPr/>
            </p:nvGrpSpPr>
            <p:grpSpPr>
              <a:xfrm>
                <a:off x="2316960" y="1771560"/>
                <a:ext cx="2229840" cy="1356480"/>
                <a:chOff x="2316960" y="1771560"/>
                <a:chExt cx="2229840" cy="1356480"/>
              </a:xfrm>
            </p:grpSpPr>
            <p:pic>
              <p:nvPicPr>
                <p:cNvPr id="669" name="Freeform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16960" y="1771560"/>
                  <a:ext cx="2229840" cy="13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"/>
                <p:cNvSpPr/>
                <p:nvPr/>
              </p:nvSpPr>
              <p:spPr>
                <a:xfrm>
                  <a:off x="2322720" y="1777680"/>
                  <a:ext cx="2220840" cy="13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1" name="Freeform 9"/>
              <p:cNvGrpSpPr/>
              <p:nvPr/>
            </p:nvGrpSpPr>
            <p:grpSpPr>
              <a:xfrm>
                <a:off x="4584960" y="1771560"/>
                <a:ext cx="2229840" cy="1356480"/>
                <a:chOff x="4584960" y="1771560"/>
                <a:chExt cx="2229840" cy="1356480"/>
              </a:xfrm>
            </p:grpSpPr>
            <p:pic>
              <p:nvPicPr>
                <p:cNvPr id="67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84960" y="1771560"/>
                  <a:ext cx="2229840" cy="13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3" name=""/>
                <p:cNvSpPr/>
                <p:nvPr/>
              </p:nvSpPr>
              <p:spPr>
                <a:xfrm>
                  <a:off x="4588560" y="1777680"/>
                  <a:ext cx="2220840" cy="13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4" name="Freeform 11"/>
              <p:cNvSpPr/>
              <p:nvPr/>
            </p:nvSpPr>
            <p:spPr>
              <a:xfrm>
                <a:off x="2322720" y="4118040"/>
                <a:ext cx="2220840" cy="134712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1110" y="0"/>
                    </a:moveTo>
                    <a:lnTo>
                      <a:pt x="1798" y="0"/>
                    </a:lnTo>
                    <a:lnTo>
                      <a:pt x="1816" y="3"/>
                    </a:lnTo>
                    <a:lnTo>
                      <a:pt x="1831" y="8"/>
                    </a:lnTo>
                    <a:lnTo>
                      <a:pt x="1842" y="17"/>
                    </a:lnTo>
                    <a:lnTo>
                      <a:pt x="1851" y="27"/>
                    </a:lnTo>
                    <a:lnTo>
                      <a:pt x="1857" y="38"/>
                    </a:lnTo>
                    <a:lnTo>
                      <a:pt x="1862" y="49"/>
                    </a:lnTo>
                    <a:lnTo>
                      <a:pt x="1865" y="59"/>
                    </a:lnTo>
                    <a:lnTo>
                      <a:pt x="1866" y="68"/>
                    </a:lnTo>
                    <a:lnTo>
                      <a:pt x="1867" y="73"/>
                    </a:lnTo>
                    <a:lnTo>
                      <a:pt x="1867" y="216"/>
                    </a:lnTo>
                    <a:lnTo>
                      <a:pt x="1869" y="260"/>
                    </a:lnTo>
                    <a:lnTo>
                      <a:pt x="1869" y="706"/>
                    </a:lnTo>
                    <a:lnTo>
                      <a:pt x="1867" y="731"/>
                    </a:lnTo>
                    <a:lnTo>
                      <a:pt x="1867" y="749"/>
                    </a:lnTo>
                    <a:lnTo>
                      <a:pt x="1865" y="770"/>
                    </a:lnTo>
                    <a:lnTo>
                      <a:pt x="1860" y="786"/>
                    </a:lnTo>
                    <a:lnTo>
                      <a:pt x="1852" y="798"/>
                    </a:lnTo>
                    <a:lnTo>
                      <a:pt x="1842" y="805"/>
                    </a:lnTo>
                    <a:lnTo>
                      <a:pt x="1832" y="810"/>
                    </a:lnTo>
                    <a:lnTo>
                      <a:pt x="1822" y="813"/>
                    </a:lnTo>
                    <a:lnTo>
                      <a:pt x="1803" y="813"/>
                    </a:lnTo>
                    <a:lnTo>
                      <a:pt x="1796" y="810"/>
                    </a:lnTo>
                    <a:lnTo>
                      <a:pt x="1791" y="809"/>
                    </a:lnTo>
                    <a:lnTo>
                      <a:pt x="1790" y="809"/>
                    </a:lnTo>
                    <a:lnTo>
                      <a:pt x="1696" y="715"/>
                    </a:lnTo>
                    <a:lnTo>
                      <a:pt x="1677" y="734"/>
                    </a:lnTo>
                    <a:lnTo>
                      <a:pt x="1663" y="746"/>
                    </a:lnTo>
                    <a:lnTo>
                      <a:pt x="1647" y="763"/>
                    </a:lnTo>
                    <a:lnTo>
                      <a:pt x="1627" y="780"/>
                    </a:lnTo>
                    <a:lnTo>
                      <a:pt x="1607" y="802"/>
                    </a:lnTo>
                    <a:lnTo>
                      <a:pt x="1583" y="823"/>
                    </a:lnTo>
                    <a:lnTo>
                      <a:pt x="1559" y="847"/>
                    </a:lnTo>
                    <a:lnTo>
                      <a:pt x="1534" y="871"/>
                    </a:lnTo>
                    <a:lnTo>
                      <a:pt x="1509" y="896"/>
                    </a:lnTo>
                    <a:lnTo>
                      <a:pt x="1484" y="920"/>
                    </a:lnTo>
                    <a:lnTo>
                      <a:pt x="1435" y="969"/>
                    </a:lnTo>
                    <a:lnTo>
                      <a:pt x="1411" y="991"/>
                    </a:lnTo>
                    <a:lnTo>
                      <a:pt x="1391" y="1011"/>
                    </a:lnTo>
                    <a:lnTo>
                      <a:pt x="1372" y="1031"/>
                    </a:lnTo>
                    <a:lnTo>
                      <a:pt x="1342" y="1062"/>
                    </a:lnTo>
                    <a:lnTo>
                      <a:pt x="1319" y="1084"/>
                    </a:lnTo>
                    <a:lnTo>
                      <a:pt x="1298" y="1102"/>
                    </a:lnTo>
                    <a:lnTo>
                      <a:pt x="1280" y="1114"/>
                    </a:lnTo>
                    <a:lnTo>
                      <a:pt x="1263" y="1123"/>
                    </a:lnTo>
                    <a:lnTo>
                      <a:pt x="1251" y="1129"/>
                    </a:lnTo>
                    <a:lnTo>
                      <a:pt x="1241" y="1132"/>
                    </a:lnTo>
                    <a:lnTo>
                      <a:pt x="1233" y="1133"/>
                    </a:lnTo>
                    <a:lnTo>
                      <a:pt x="156" y="1133"/>
                    </a:lnTo>
                    <a:lnTo>
                      <a:pt x="128" y="1131"/>
                    </a:lnTo>
                    <a:lnTo>
                      <a:pt x="103" y="1123"/>
                    </a:lnTo>
                    <a:lnTo>
                      <a:pt x="80" y="1113"/>
                    </a:lnTo>
                    <a:lnTo>
                      <a:pt x="60" y="1102"/>
                    </a:lnTo>
                    <a:lnTo>
                      <a:pt x="42" y="1089"/>
                    </a:lnTo>
                    <a:lnTo>
                      <a:pt x="28" y="1077"/>
                    </a:lnTo>
                    <a:lnTo>
                      <a:pt x="15" y="1065"/>
                    </a:lnTo>
                    <a:lnTo>
                      <a:pt x="8" y="1055"/>
                    </a:lnTo>
                    <a:lnTo>
                      <a:pt x="1" y="1049"/>
                    </a:lnTo>
                    <a:lnTo>
                      <a:pt x="0" y="1046"/>
                    </a:lnTo>
                    <a:lnTo>
                      <a:pt x="29" y="1070"/>
                    </a:lnTo>
                    <a:lnTo>
                      <a:pt x="58" y="1088"/>
                    </a:lnTo>
                    <a:lnTo>
                      <a:pt x="87" y="1098"/>
                    </a:lnTo>
                    <a:lnTo>
                      <a:pt x="115" y="1102"/>
                    </a:lnTo>
                    <a:lnTo>
                      <a:pt x="142" y="1102"/>
                    </a:lnTo>
                    <a:lnTo>
                      <a:pt x="168" y="1098"/>
                    </a:lnTo>
                    <a:lnTo>
                      <a:pt x="191" y="1090"/>
                    </a:lnTo>
                    <a:lnTo>
                      <a:pt x="213" y="1082"/>
                    </a:lnTo>
                    <a:lnTo>
                      <a:pt x="232" y="1070"/>
                    </a:lnTo>
                    <a:lnTo>
                      <a:pt x="248" y="1060"/>
                    </a:lnTo>
                    <a:lnTo>
                      <a:pt x="262" y="1050"/>
                    </a:lnTo>
                    <a:lnTo>
                      <a:pt x="272" y="1043"/>
                    </a:lnTo>
                    <a:lnTo>
                      <a:pt x="278" y="1038"/>
                    </a:lnTo>
                    <a:lnTo>
                      <a:pt x="281" y="1035"/>
                    </a:lnTo>
                    <a:lnTo>
                      <a:pt x="1151" y="170"/>
                    </a:lnTo>
                    <a:lnTo>
                      <a:pt x="1060" y="83"/>
                    </a:lnTo>
                    <a:lnTo>
                      <a:pt x="1054" y="63"/>
                    </a:lnTo>
                    <a:lnTo>
                      <a:pt x="1053" y="48"/>
                    </a:lnTo>
                    <a:lnTo>
                      <a:pt x="1055" y="34"/>
                    </a:lnTo>
                    <a:lnTo>
                      <a:pt x="1062" y="24"/>
                    </a:lnTo>
                    <a:lnTo>
                      <a:pt x="1070" y="15"/>
                    </a:lnTo>
                    <a:lnTo>
                      <a:pt x="1079" y="10"/>
                    </a:lnTo>
                    <a:lnTo>
                      <a:pt x="1089" y="5"/>
                    </a:lnTo>
                    <a:lnTo>
                      <a:pt x="1098" y="3"/>
                    </a:lnTo>
                    <a:lnTo>
                      <a:pt x="1105" y="2"/>
                    </a:lnTo>
                    <a:lnTo>
                      <a:pt x="11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96"/>
                  </a:gs>
                  <a:gs pos="100000">
                    <a:srgbClr val="00b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3"/>
              <p:cNvSpPr/>
              <p:nvPr/>
            </p:nvSpPr>
            <p:spPr>
              <a:xfrm>
                <a:off x="4588920" y="4118040"/>
                <a:ext cx="2220840" cy="1347120"/>
              </a:xfrm>
              <a:custGeom>
                <a:avLst/>
                <a:gdLst/>
                <a:ahLst/>
                <a:rect l="l" t="t" r="r" b="b"/>
                <a:pathLst>
                  <a:path w="1869" h="1133">
                    <a:moveTo>
                      <a:pt x="71" y="0"/>
                    </a:moveTo>
                    <a:lnTo>
                      <a:pt x="759" y="0"/>
                    </a:lnTo>
                    <a:lnTo>
                      <a:pt x="764" y="2"/>
                    </a:lnTo>
                    <a:lnTo>
                      <a:pt x="771" y="3"/>
                    </a:lnTo>
                    <a:lnTo>
                      <a:pt x="780" y="5"/>
                    </a:lnTo>
                    <a:lnTo>
                      <a:pt x="790" y="10"/>
                    </a:lnTo>
                    <a:lnTo>
                      <a:pt x="799" y="15"/>
                    </a:lnTo>
                    <a:lnTo>
                      <a:pt x="808" y="24"/>
                    </a:lnTo>
                    <a:lnTo>
                      <a:pt x="814" y="34"/>
                    </a:lnTo>
                    <a:lnTo>
                      <a:pt x="816" y="48"/>
                    </a:lnTo>
                    <a:lnTo>
                      <a:pt x="815" y="63"/>
                    </a:lnTo>
                    <a:lnTo>
                      <a:pt x="809" y="83"/>
                    </a:lnTo>
                    <a:lnTo>
                      <a:pt x="720" y="170"/>
                    </a:lnTo>
                    <a:lnTo>
                      <a:pt x="1588" y="1035"/>
                    </a:lnTo>
                    <a:lnTo>
                      <a:pt x="1591" y="1038"/>
                    </a:lnTo>
                    <a:lnTo>
                      <a:pt x="1597" y="1043"/>
                    </a:lnTo>
                    <a:lnTo>
                      <a:pt x="1607" y="1050"/>
                    </a:lnTo>
                    <a:lnTo>
                      <a:pt x="1621" y="1060"/>
                    </a:lnTo>
                    <a:lnTo>
                      <a:pt x="1637" y="1070"/>
                    </a:lnTo>
                    <a:lnTo>
                      <a:pt x="1656" y="1082"/>
                    </a:lnTo>
                    <a:lnTo>
                      <a:pt x="1678" y="1090"/>
                    </a:lnTo>
                    <a:lnTo>
                      <a:pt x="1702" y="1098"/>
                    </a:lnTo>
                    <a:lnTo>
                      <a:pt x="1727" y="1102"/>
                    </a:lnTo>
                    <a:lnTo>
                      <a:pt x="1755" y="1102"/>
                    </a:lnTo>
                    <a:lnTo>
                      <a:pt x="1782" y="1098"/>
                    </a:lnTo>
                    <a:lnTo>
                      <a:pt x="1811" y="1088"/>
                    </a:lnTo>
                    <a:lnTo>
                      <a:pt x="1840" y="1070"/>
                    </a:lnTo>
                    <a:lnTo>
                      <a:pt x="1869" y="1046"/>
                    </a:lnTo>
                    <a:lnTo>
                      <a:pt x="1868" y="1049"/>
                    </a:lnTo>
                    <a:lnTo>
                      <a:pt x="1861" y="1055"/>
                    </a:lnTo>
                    <a:lnTo>
                      <a:pt x="1854" y="1065"/>
                    </a:lnTo>
                    <a:lnTo>
                      <a:pt x="1841" y="1077"/>
                    </a:lnTo>
                    <a:lnTo>
                      <a:pt x="1828" y="1089"/>
                    </a:lnTo>
                    <a:lnTo>
                      <a:pt x="1809" y="1102"/>
                    </a:lnTo>
                    <a:lnTo>
                      <a:pt x="1789" y="1113"/>
                    </a:lnTo>
                    <a:lnTo>
                      <a:pt x="1766" y="1123"/>
                    </a:lnTo>
                    <a:lnTo>
                      <a:pt x="1741" y="1131"/>
                    </a:lnTo>
                    <a:lnTo>
                      <a:pt x="1714" y="1133"/>
                    </a:lnTo>
                    <a:lnTo>
                      <a:pt x="636" y="1133"/>
                    </a:lnTo>
                    <a:lnTo>
                      <a:pt x="628" y="1132"/>
                    </a:lnTo>
                    <a:lnTo>
                      <a:pt x="618" y="1129"/>
                    </a:lnTo>
                    <a:lnTo>
                      <a:pt x="606" y="1123"/>
                    </a:lnTo>
                    <a:lnTo>
                      <a:pt x="589" y="1114"/>
                    </a:lnTo>
                    <a:lnTo>
                      <a:pt x="571" y="1102"/>
                    </a:lnTo>
                    <a:lnTo>
                      <a:pt x="551" y="1084"/>
                    </a:lnTo>
                    <a:lnTo>
                      <a:pt x="527" y="1062"/>
                    </a:lnTo>
                    <a:lnTo>
                      <a:pt x="497" y="1031"/>
                    </a:lnTo>
                    <a:lnTo>
                      <a:pt x="478" y="1011"/>
                    </a:lnTo>
                    <a:lnTo>
                      <a:pt x="458" y="991"/>
                    </a:lnTo>
                    <a:lnTo>
                      <a:pt x="434" y="969"/>
                    </a:lnTo>
                    <a:lnTo>
                      <a:pt x="385" y="920"/>
                    </a:lnTo>
                    <a:lnTo>
                      <a:pt x="360" y="896"/>
                    </a:lnTo>
                    <a:lnTo>
                      <a:pt x="335" y="871"/>
                    </a:lnTo>
                    <a:lnTo>
                      <a:pt x="310" y="847"/>
                    </a:lnTo>
                    <a:lnTo>
                      <a:pt x="286" y="823"/>
                    </a:lnTo>
                    <a:lnTo>
                      <a:pt x="262" y="802"/>
                    </a:lnTo>
                    <a:lnTo>
                      <a:pt x="242" y="780"/>
                    </a:lnTo>
                    <a:lnTo>
                      <a:pt x="222" y="763"/>
                    </a:lnTo>
                    <a:lnTo>
                      <a:pt x="206" y="746"/>
                    </a:lnTo>
                    <a:lnTo>
                      <a:pt x="192" y="734"/>
                    </a:lnTo>
                    <a:lnTo>
                      <a:pt x="173" y="715"/>
                    </a:lnTo>
                    <a:lnTo>
                      <a:pt x="79" y="809"/>
                    </a:lnTo>
                    <a:lnTo>
                      <a:pt x="78" y="809"/>
                    </a:lnTo>
                    <a:lnTo>
                      <a:pt x="73" y="810"/>
                    </a:lnTo>
                    <a:lnTo>
                      <a:pt x="66" y="813"/>
                    </a:lnTo>
                    <a:lnTo>
                      <a:pt x="47" y="813"/>
                    </a:lnTo>
                    <a:lnTo>
                      <a:pt x="37" y="810"/>
                    </a:lnTo>
                    <a:lnTo>
                      <a:pt x="27" y="805"/>
                    </a:lnTo>
                    <a:lnTo>
                      <a:pt x="17" y="798"/>
                    </a:lnTo>
                    <a:lnTo>
                      <a:pt x="9" y="786"/>
                    </a:lnTo>
                    <a:lnTo>
                      <a:pt x="4" y="770"/>
                    </a:lnTo>
                    <a:lnTo>
                      <a:pt x="2" y="749"/>
                    </a:lnTo>
                    <a:lnTo>
                      <a:pt x="2" y="731"/>
                    </a:lnTo>
                    <a:lnTo>
                      <a:pt x="0" y="706"/>
                    </a:lnTo>
                    <a:lnTo>
                      <a:pt x="0" y="260"/>
                    </a:lnTo>
                    <a:lnTo>
                      <a:pt x="2" y="216"/>
                    </a:lnTo>
                    <a:lnTo>
                      <a:pt x="2" y="73"/>
                    </a:lnTo>
                    <a:lnTo>
                      <a:pt x="3" y="68"/>
                    </a:lnTo>
                    <a:lnTo>
                      <a:pt x="4" y="59"/>
                    </a:lnTo>
                    <a:lnTo>
                      <a:pt x="7" y="49"/>
                    </a:lnTo>
                    <a:lnTo>
                      <a:pt x="12" y="38"/>
                    </a:lnTo>
                    <a:lnTo>
                      <a:pt x="18" y="27"/>
                    </a:lnTo>
                    <a:lnTo>
                      <a:pt x="27" y="17"/>
                    </a:lnTo>
                    <a:lnTo>
                      <a:pt x="38" y="8"/>
                    </a:lnTo>
                    <a:lnTo>
                      <a:pt x="53" y="3"/>
                    </a:lnTo>
                    <a:lnTo>
                      <a:pt x="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6" name="Oval 21"/>
            <p:cNvSpPr/>
            <p:nvPr/>
          </p:nvSpPr>
          <p:spPr>
            <a:xfrm>
              <a:off x="826920" y="5486760"/>
              <a:ext cx="7490160" cy="285480"/>
            </a:xfrm>
            <a:prstGeom prst="ellipse">
              <a:avLst/>
            </a:prstGeom>
            <a:gradFill rotWithShape="0">
              <a:gsLst>
                <a:gs pos="0">
                  <a:srgbClr val="262626">
                    <a:alpha val="3137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7"/>
            <p:cNvSpPr/>
            <p:nvPr/>
          </p:nvSpPr>
          <p:spPr>
            <a:xfrm>
              <a:off x="1637280" y="3279960"/>
              <a:ext cx="251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Increase in wellness program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29"/>
            <p:cNvSpPr/>
            <p:nvPr/>
          </p:nvSpPr>
          <p:spPr>
            <a:xfrm>
              <a:off x="4783320" y="3334680"/>
              <a:ext cx="203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Bully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Safety and Healt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182520" y="316080"/>
            <a:ext cx="8961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dditional 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304920" y="1038240"/>
          <a:ext cx="7905600" cy="6273720"/>
        </p:xfrm>
        <a:graphic>
          <a:graphicData uri="http://schemas.openxmlformats.org/drawingml/2006/table">
            <a:tbl>
              <a:tblPr/>
              <a:tblGrid>
                <a:gridCol w="961920"/>
                <a:gridCol w="1290600"/>
                <a:gridCol w="1290600"/>
                <a:gridCol w="1290600"/>
                <a:gridCol w="1290600"/>
                <a:gridCol w="1290600"/>
                <a:gridCol w="490680"/>
              </a:tblGrid>
              <a:tr h="149040">
                <a:tc gridSpan="7">
                  <a:txBody>
                    <a:bodyPr lIns="0" rIns="5040" tIns="4680" bIns="0" anchor="t">
                      <a:noAutofit/>
                    </a:bodyPr>
                    <a:p>
                      <a:pPr marL="64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Classroom Debate Rubri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0" rIns="5040" tIns="4680" bIns="0" anchor="ctr">
                      <a:noAutofit/>
                    </a:bodyPr>
                    <a:p>
                      <a:pPr marL="64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Crit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ctr">
                      <a:noAutofit/>
                    </a:bodyPr>
                    <a:p>
                      <a:pPr marL="46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 poin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ctr">
                      <a:noAutofit/>
                    </a:bodyPr>
                    <a:p>
                      <a:pPr marL="64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 poin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ctr">
                      <a:noAutofit/>
                    </a:bodyPr>
                    <a:p>
                      <a:pPr marL="46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 poin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ctr">
                      <a:noAutofit/>
                    </a:bodyPr>
                    <a:p>
                      <a:pPr marL="64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 poin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ctr">
                      <a:noAutofit/>
                    </a:bodyPr>
                    <a:p>
                      <a:pPr marL="792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 poi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otal Poin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9704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Respect for Other Team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l statements, body language, and responses were respectful and were inappropriate languag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tatements and responses were respectful and used appropriate language, but once or twice body language was not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statements and responses were respectful and in appropriate language, but there was one sarcastic remark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tatements, responses and/or body language were borderline appropriate. Some sarcastic remark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tatements, responses and/or body language were consistently not respectfu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8452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Information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l information presented in this debate was clear, accurate and thorough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information presented in this debate was clear, accurate and thorough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information presented in the debate was clear and accurate, but was not usuall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orough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me information was accurate, but there were some minor inaccuraci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nformation had some major inaccuracies OR was usually not cle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080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Rebuttal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l counter-arguments were accurate, relevant and stro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99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counter-arguments were accurate, relevant, and stro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counter-arguments were accurate and relevant, but several were weak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me counter arguments were weak and irrelevant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 algn="just">
                        <a:lnSpc>
                          <a:spcPct val="99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unter-arguments were not accurate and/or relevant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704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Use of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Facts/Statistics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very major point was well supported with several relevant facts, statistics and/or example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very major point was adequately supported with relevant facts, statistics and/or exampl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very major point was supported with facts, statistics and/or examples, but the relevance of some was questionabl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ome points were supported well, others were not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l points were not supported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148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Organization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ll arguments were clearly tied to an idea (premise) and organized in a tight, logical fashio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arguments were clearly tied to an idea (premise) and organized in a tight, logical fashio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arguments were clearly tied to an idea (premise) and organized in a tight, logical fashio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arguments were clearly tied to an idea (premise) and organized in a tight, logical fashio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ost arguments were clearly tied to an idea (premise) and organized in a tight, logical fashio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7040">
                <a:tc>
                  <a:txBody>
                    <a:bodyPr lIns="0" rIns="5040" tIns="4680" bIns="0" anchor="ctr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Understanding of Topic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team clearly understood the topic in depth and presented their information forcefully and convincingl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team clearly understood the topic in depth and presented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ir information with eas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66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team seemed to understand the main points of the topic and presented those with eas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team seemed to understand the main points of the topic, but didn’t present with eas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 team did not show an adequate understanding of the topic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8480">
                <a:tc gridSpan="6">
                  <a:txBody>
                    <a:bodyPr lIns="0" rIns="5040" tIns="468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Total Points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5040" tIns="468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	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 gridSpan="7">
                  <a:txBody>
                    <a:bodyPr lIns="0" rIns="5040" tIns="4680" bIns="0" anchor="t">
                      <a:noAutofit/>
                    </a:bodyPr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Comments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4" name="Rectangle 1"/>
          <p:cNvSpPr/>
          <p:nvPr/>
        </p:nvSpPr>
        <p:spPr>
          <a:xfrm>
            <a:off x="0" y="720"/>
            <a:ext cx="776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urce: </a:t>
            </a:r>
            <a:r>
              <a:rPr b="0" lang="en-US" sz="1100" spc="-1" strike="noStrike" u="sng">
                <a:solidFill>
                  <a:srgbClr val="0563c1"/>
                </a:solidFill>
                <a:uFillTx/>
                <a:latin typeface="Times New Roman"/>
                <a:ea typeface="MS PGothic"/>
                <a:hlinkClick r:id="rId1"/>
              </a:rPr>
              <a:t>http://course1.winona.edu/shatfield/air/classdebate.pdf</a:t>
            </a:r>
            <a:r>
              <a:rPr b="0" lang="en-US" sz="1100" spc="-1" strike="noStrike" u="sng">
                <a:solidFill>
                  <a:srgbClr val="0563c1"/>
                </a:solidFill>
                <a:uFillTx/>
                <a:latin typeface="Times New Roman"/>
                <a:ea typeface="MS PGothic"/>
                <a:hlinkClick r:id="rId2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560" y="1294920"/>
            <a:ext cx="8815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equirements of the Occupational and Safety Act for employers an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organizations can create effective safe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extent of workplace drug and alcohol abuse in th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orkplace violence and identify red flags for potential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current trends in workplace safety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  <a:ea typeface="MS PGothic"/>
              </a:rPr>
              <a:t>The Occupational Safety and Health 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Content Placeholder 1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HA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380880" y="1563840"/>
            <a:ext cx="3048120" cy="4268520"/>
            <a:chOff x="380880" y="1563840"/>
            <a:chExt cx="3048120" cy="4268520"/>
          </a:xfrm>
        </p:grpSpPr>
        <p:sp>
          <p:nvSpPr>
            <p:cNvPr id="618" name="Rectangle 4"/>
            <p:cNvSpPr/>
            <p:nvPr/>
          </p:nvSpPr>
          <p:spPr>
            <a:xfrm>
              <a:off x="440640" y="1563840"/>
              <a:ext cx="2880360" cy="190080"/>
            </a:xfrm>
            <a:prstGeom prst="rect">
              <a:avLst/>
            </a:prstGeom>
            <a:solidFill>
              <a:srgbClr val="1dd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mplo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9" name="Rectangle 5" descr=""/>
            <p:cNvPicPr/>
            <p:nvPr/>
          </p:nvPicPr>
          <p:blipFill>
            <a:blip r:embed="rId1"/>
            <a:stretch/>
          </p:blipFill>
          <p:spPr>
            <a:xfrm>
              <a:off x="380880" y="1754640"/>
              <a:ext cx="3048120" cy="40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6"/>
          <p:cNvGrpSpPr/>
          <p:nvPr/>
        </p:nvGrpSpPr>
        <p:grpSpPr>
          <a:xfrm>
            <a:off x="5110200" y="1563840"/>
            <a:ext cx="3405240" cy="4268520"/>
            <a:chOff x="5110200" y="1563840"/>
            <a:chExt cx="3405240" cy="4268520"/>
          </a:xfrm>
        </p:grpSpPr>
        <p:sp>
          <p:nvSpPr>
            <p:cNvPr id="621" name="Rectangle 7"/>
            <p:cNvSpPr/>
            <p:nvPr/>
          </p:nvSpPr>
          <p:spPr>
            <a:xfrm>
              <a:off x="5175000" y="1563840"/>
              <a:ext cx="3249360" cy="190080"/>
            </a:xfrm>
            <a:prstGeom prst="rect">
              <a:avLst/>
            </a:prstGeom>
            <a:solidFill>
              <a:srgbClr val="f5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2" name="Rectangle 8" descr=""/>
            <p:cNvPicPr/>
            <p:nvPr/>
          </p:nvPicPr>
          <p:blipFill>
            <a:blip r:embed="rId2"/>
            <a:stretch/>
          </p:blipFill>
          <p:spPr>
            <a:xfrm>
              <a:off x="5110200" y="1754640"/>
              <a:ext cx="3405240" cy="407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Safety a Conc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295280" y="1136520"/>
            <a:ext cx="655344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87440"/>
            <a:ext cx="6858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ective Safety Programs – Best Pract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0948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managemen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inspections to asses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onsequences (rew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st-Century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3406680" y="1219320"/>
            <a:ext cx="2384640" cy="4419360"/>
            <a:chOff x="3406680" y="1219320"/>
            <a:chExt cx="2384640" cy="4419360"/>
          </a:xfrm>
        </p:grpSpPr>
        <p:sp>
          <p:nvSpPr>
            <p:cNvPr id="629" name="Rectangle 4"/>
            <p:cNvSpPr/>
            <p:nvPr/>
          </p:nvSpPr>
          <p:spPr>
            <a:xfrm>
              <a:off x="3447000" y="1219320"/>
              <a:ext cx="2332080" cy="273240"/>
            </a:xfrm>
            <a:prstGeom prst="rect">
              <a:avLst/>
            </a:prstGeom>
            <a:solidFill>
              <a:srgbClr val="1dd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vironmental conditions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0" name="Rectangle 5" descr=""/>
            <p:cNvPicPr/>
            <p:nvPr/>
          </p:nvPicPr>
          <p:blipFill>
            <a:blip r:embed="rId1"/>
            <a:stretch/>
          </p:blipFill>
          <p:spPr>
            <a:xfrm>
              <a:off x="3406680" y="1488240"/>
              <a:ext cx="2384640" cy="415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6"/>
          <p:cNvGrpSpPr/>
          <p:nvPr/>
        </p:nvGrpSpPr>
        <p:grpSpPr>
          <a:xfrm>
            <a:off x="6172200" y="1219320"/>
            <a:ext cx="2438280" cy="4419360"/>
            <a:chOff x="6172200" y="1219320"/>
            <a:chExt cx="2438280" cy="4419360"/>
          </a:xfrm>
        </p:grpSpPr>
        <p:sp>
          <p:nvSpPr>
            <p:cNvPr id="632" name="Rectangle 7"/>
            <p:cNvSpPr/>
            <p:nvPr/>
          </p:nvSpPr>
          <p:spPr>
            <a:xfrm>
              <a:off x="6172200" y="1219320"/>
              <a:ext cx="2413440" cy="273240"/>
            </a:xfrm>
            <a:prstGeom prst="rect">
              <a:avLst/>
            </a:prstGeom>
            <a:solidFill>
              <a:srgbClr val="f5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ress (work/ individ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Rectangle 8" descr=""/>
            <p:cNvPicPr/>
            <p:nvPr/>
          </p:nvPicPr>
          <p:blipFill>
            <a:blip r:embed="rId2"/>
            <a:stretch/>
          </p:blipFill>
          <p:spPr>
            <a:xfrm>
              <a:off x="6184440" y="1488240"/>
              <a:ext cx="2426040" cy="415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Group 9"/>
          <p:cNvGrpSpPr/>
          <p:nvPr/>
        </p:nvGrpSpPr>
        <p:grpSpPr>
          <a:xfrm>
            <a:off x="587520" y="1219320"/>
            <a:ext cx="2384280" cy="4419360"/>
            <a:chOff x="587520" y="1219320"/>
            <a:chExt cx="2384280" cy="4419360"/>
          </a:xfrm>
        </p:grpSpPr>
        <p:sp>
          <p:nvSpPr>
            <p:cNvPr id="635" name="Rectangle 10"/>
            <p:cNvSpPr/>
            <p:nvPr/>
          </p:nvSpPr>
          <p:spPr>
            <a:xfrm>
              <a:off x="626760" y="1219320"/>
              <a:ext cx="2284200" cy="273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rug and alcohol abu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6" name="Rectangle 11" descr=""/>
            <p:cNvPicPr/>
            <p:nvPr/>
          </p:nvPicPr>
          <p:blipFill>
            <a:blip r:embed="rId3"/>
            <a:stretch/>
          </p:blipFill>
          <p:spPr>
            <a:xfrm>
              <a:off x="587520" y="1488240"/>
              <a:ext cx="2384280" cy="415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7" name="Oval 12" descr=""/>
          <p:cNvPicPr/>
          <p:nvPr/>
        </p:nvPicPr>
        <p:blipFill>
          <a:blip r:embed="rId4"/>
          <a:stretch/>
        </p:blipFill>
        <p:spPr>
          <a:xfrm>
            <a:off x="1143000" y="5130720"/>
            <a:ext cx="1282680" cy="2400480"/>
          </a:xfrm>
          <a:prstGeom prst="rect">
            <a:avLst/>
          </a:prstGeom>
          <a:ln w="0">
            <a:noFill/>
          </a:ln>
        </p:spPr>
      </p:pic>
      <p:pic>
        <p:nvPicPr>
          <p:cNvPr id="638" name="Oval 13" descr=""/>
          <p:cNvPicPr/>
          <p:nvPr/>
        </p:nvPicPr>
        <p:blipFill>
          <a:blip r:embed="rId5"/>
          <a:stretch/>
        </p:blipFill>
        <p:spPr>
          <a:xfrm>
            <a:off x="3962520" y="5130720"/>
            <a:ext cx="1269720" cy="2400480"/>
          </a:xfrm>
          <a:prstGeom prst="rect">
            <a:avLst/>
          </a:prstGeom>
          <a:ln w="0">
            <a:noFill/>
          </a:ln>
        </p:spPr>
      </p:pic>
      <p:pic>
        <p:nvPicPr>
          <p:cNvPr id="639" name="Oval 14" descr=""/>
          <p:cNvPicPr/>
          <p:nvPr/>
        </p:nvPicPr>
        <p:blipFill>
          <a:blip r:embed="rId6"/>
          <a:stretch/>
        </p:blipFill>
        <p:spPr>
          <a:xfrm>
            <a:off x="6781680" y="5130720"/>
            <a:ext cx="12826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ant Behaviors Managers may en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6840" y="1752480"/>
            <a:ext cx="3886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quitabl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quitable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essures to con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nd untrusting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ity about job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air rules and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ing employee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Content Placeholder 2" descr=""/>
          <p:cNvPicPr/>
          <p:nvPr/>
        </p:nvPicPr>
        <p:blipFill>
          <a:blip r:embed="rId1"/>
          <a:stretch/>
        </p:blipFill>
        <p:spPr>
          <a:xfrm>
            <a:off x="4629240" y="240192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271440"/>
            <a:ext cx="788688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orkplace Viol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1415880"/>
            <a:ext cx="82105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Violent acts, including physical assaults and threa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of assault, directed toward persons at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28560" y="2182680"/>
          <a:ext cx="7162920" cy="4025880"/>
        </p:xfrm>
        <a:graphic>
          <a:graphicData uri="http://schemas.openxmlformats.org/drawingml/2006/table">
            <a:tbl>
              <a:tblPr/>
              <a:tblGrid>
                <a:gridCol w="1582920"/>
                <a:gridCol w="5580000"/>
              </a:tblGrid>
              <a:tr h="804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8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804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ed Ass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18:59:08Z</dcterms:created>
  <dc:creator>Sharon</dc:creator>
  <dc:description/>
  <dc:language>en-US</dc:language>
  <cp:lastModifiedBy>Lori Roth</cp:lastModifiedBy>
  <cp:lastPrinted>2021-01-09T14:36:49Z</cp:lastPrinted>
  <dcterms:modified xsi:type="dcterms:W3CDTF">2021-08-10T17:52:32Z</dcterms:modified>
  <cp:revision>167</cp:revision>
  <dc:subject/>
  <dc:title>RECRUIT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UC5APVKEY7YA-445657348-556</vt:lpwstr>
  </property>
  <property fmtid="{D5CDD505-2E9C-101B-9397-08002B2CF9AE}" pid="3" name="_dlc_DocIdItemGuid">
    <vt:lpwstr>8c33e58d-6e4d-4110-9c82-65346aca5abe</vt:lpwstr>
  </property>
  <property fmtid="{D5CDD505-2E9C-101B-9397-08002B2CF9AE}" pid="4" name="_dlc_DocIdUrl">
    <vt:lpwstr>https://edit.shrm.org/certification/educators/_layouts/15/DocIdRedir.aspx?ID=UC5APVKEY7YA-445657348-556, UC5APVKEY7YA-445657348-556</vt:lpwstr>
  </property>
</Properties>
</file>